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170F-D225-4FEA-A41E-B7CCE68D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C83-C3DF-4363-B71E-97394ABD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AD9-D77E-442C-AC23-938936FE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8E9-37F0-4F88-A351-E5A2785C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640-F924-492C-9779-C177F8DB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15C7-A4D4-42C2-8652-A37E95F2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C64-041F-45F4-8AF4-988EC886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FF41-9477-462F-B30D-5919F45D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BD1-D651-4C62-A0BF-DA1C186E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1544-F58D-4361-B0DE-7E28B92B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A40-CF34-4BFF-9D9A-E5B693B4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C94-F90E-4170-BF73-F21552BB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8C85-E928-41A1-B930-CF5E9DE6BB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1844640"/>
            <a:ext cx="741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249228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第三单元复习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4724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棠外附小：李春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62064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《黄河之水天上来》告诉我们黄河无私地滋润着两岸的土地，养育着世世代代的炎黄子孙，警醒人们要（                 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4005360"/>
            <a:ext cx="619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爱惜黄河，保护自然生态环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三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方正舒体"/>
              </a:rPr>
              <a:t>拓展延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916280"/>
            <a:ext cx="6048360" cy="29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赞美长江的诗句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赞美黄河的诗句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5013360"/>
            <a:ext cx="5041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保护母亲河的宣传语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1280" y="981000"/>
            <a:ext cx="54723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温故而知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16360" y="2708280"/>
            <a:ext cx="48974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整体感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分类复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19280" y="260280"/>
            <a:ext cx="151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99"/>
                </a:solidFill>
                <a:latin typeface="Arial"/>
                <a:ea typeface="方正舒体"/>
              </a:rPr>
              <a:t>谢谢指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冢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1692360" y="1268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zhǒ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窦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dòu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雉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zhì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1268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chō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羹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ɡē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53276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温故而知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一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6000" y="3141720"/>
            <a:ext cx="184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母亲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119700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长江之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060640"/>
            <a:ext cx="275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三峡之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997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古诗二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9337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黄河之水天上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4797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最后的淇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1557360"/>
            <a:ext cx="576360" cy="3959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二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课文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行楷"/>
              </a:rPr>
              <a:t>长江之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468720" y="1844280"/>
            <a:ext cx="9612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2997360"/>
            <a:ext cx="219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胡宏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34680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抢答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6012000" y="6093000"/>
            <a:ext cx="431640" cy="28728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88000" y="609300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91628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长江之歌》共两段，第一段重在（      ），第二段重在（      ）。诗人把“长江”比喻成（      ），表达了诗人对长江的（                       ）的思想感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2637000"/>
            <a:ext cx="1366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写实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3284640"/>
            <a:ext cx="144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抒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4005360"/>
            <a:ext cx="107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母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653000"/>
            <a:ext cx="475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热爱、赞美、依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60720" y="907920"/>
            <a:ext cx="2448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765000"/>
            <a:ext cx="7632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《三峡之秋》按（        ）顺序描写了三峡在一天中不同时间的景色特点：早晨的三峡是（         ）的，中午的三峡是（         ）的，下午 的三峡又是（        ）的，而入夜时的三峡却是（        ）的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692280"/>
            <a:ext cx="158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时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1773360"/>
            <a:ext cx="151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明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2276640"/>
            <a:ext cx="187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热烈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2852640"/>
            <a:ext cx="208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平静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3357720"/>
            <a:ext cx="151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宁静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4365720"/>
            <a:ext cx="7416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长江三峡秋天的景色很美，你能说说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描写秋天景色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的词语吗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71640" y="69228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《最后的淇淇》告诉我们：不能容纳白鳍豚生存的长江，最终也必将不能容纳人类的生存。保护长江，保护像白鳍豚一样的珍惜动物，就是（                       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5084640"/>
            <a:ext cx="65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保护我们人类自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3:47:09Z</dcterms:created>
  <dc:creator>微软用户</dc:creator>
  <dc:description/>
  <dc:language>en-US</dc:language>
  <cp:lastModifiedBy>tw</cp:lastModifiedBy>
  <dcterms:modified xsi:type="dcterms:W3CDTF">2010-05-13T06:17:55Z</dcterms:modified>
  <cp:revision>25</cp:revision>
  <dc:subject/>
  <dc:title>温故而知新</dc:title>
</cp:coreProperties>
</file>