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113F-0198-4EAA-8EB8-2B15BEA89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8CD8-3683-4D9D-BFE8-3EE75B1D7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ECBC-9CE7-4C36-92E5-AD4052937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5A00-09CF-476E-AF87-2CDB62D78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67AE-2FB3-4EFD-90C6-6BD6A06C8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2EAF-4D49-404B-BD4D-70A9CC405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8192-2CA0-468D-A819-B671F7A4F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0309-2643-496A-BB6A-67004D260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1789-446D-467A-857C-96821D4F2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2CE4-8733-4135-9C9B-4A28F235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D89E-B9A0-4E64-8B3A-445CD2002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B69D-26B9-4F51-865D-A85721EF9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70218-25DF-40FD-BB73-09DDC20C4A0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476360" y="1844640"/>
            <a:ext cx="7416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4360" y="2492280"/>
            <a:ext cx="820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第七单元复习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356000" y="472428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棠外附小：李春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95640" y="1268280"/>
            <a:ext cx="29620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方正舒体"/>
              </a:rPr>
              <a:t>第一关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484000" y="3068640"/>
            <a:ext cx="3754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楷体_GB2312"/>
              </a:rPr>
              <a:t>整体感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95640" y="1268280"/>
            <a:ext cx="29620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方正舒体"/>
              </a:rPr>
              <a:t>第二关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84000" y="3068640"/>
            <a:ext cx="3754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楷体_GB2312"/>
              </a:rPr>
              <a:t>课文回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95640" y="1268280"/>
            <a:ext cx="29620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方正舒体"/>
              </a:rPr>
              <a:t>第三关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84000" y="3068640"/>
            <a:ext cx="3754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楷体_GB2312"/>
              </a:rPr>
              <a:t>拓展延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方正舒体"/>
              </a:rPr>
              <a:t>拓展延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1 </a:t>
            </a:r>
            <a:r>
              <a:rPr b="0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在本单元中我们认识了小夜莺、雨来两位小英雄，你还知道战争中的哪些小英雄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《小英雄雨来》《狼牙山五壮士》讲的都是同一个时期——抗日战争时期的故事，你还知道哪些这一时期的故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71280" y="981000"/>
            <a:ext cx="547236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  <a:ea typeface="方正舒体"/>
              </a:rPr>
              <a:t>温故而知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916360" y="2708280"/>
            <a:ext cx="489744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整体感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分类复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拓展延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619280" y="260280"/>
            <a:ext cx="1512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33399"/>
                </a:solidFill>
                <a:latin typeface="Arial"/>
                <a:ea typeface="方正舒体"/>
              </a:rPr>
              <a:t>谢谢指导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701720" y="162864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0066"/>
                </a:solidFill>
                <a:latin typeface="Arial"/>
                <a:ea typeface="楷体_GB2312"/>
              </a:rPr>
              <a:t>冢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92360" y="1268280"/>
            <a:ext cx="2376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</a:rPr>
              <a:t>zhǒnɡ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701720" y="162864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0066"/>
                </a:solidFill>
                <a:latin typeface="Arial"/>
                <a:ea typeface="楷体_GB2312"/>
              </a:rPr>
              <a:t>窦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908000" y="1268280"/>
            <a:ext cx="2376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</a:rPr>
              <a:t>dòu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701720" y="162864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0066"/>
                </a:solidFill>
                <a:latin typeface="Arial"/>
                <a:ea typeface="楷体_GB2312"/>
              </a:rPr>
              <a:t>雉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050920" y="1268280"/>
            <a:ext cx="2376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</a:rPr>
              <a:t>zhì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701720" y="162864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0066"/>
                </a:solidFill>
                <a:latin typeface="Arial"/>
                <a:ea typeface="楷体_GB2312"/>
              </a:rPr>
              <a:t>舂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92360" y="1268280"/>
            <a:ext cx="2376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</a:rPr>
              <a:t>chōnɡ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71280" y="1773360"/>
            <a:ext cx="532764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  <a:ea typeface="方正舒体"/>
              </a:rPr>
              <a:t>温故而知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701720" y="162864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0066"/>
                </a:solidFill>
                <a:latin typeface="Arial"/>
                <a:ea typeface="楷体_GB2312"/>
              </a:rPr>
              <a:t>羹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63640" y="1268280"/>
            <a:ext cx="2376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</a:rPr>
              <a:t>ɡēnɡ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403280" y="2997360"/>
            <a:ext cx="127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战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48000" y="1192320"/>
            <a:ext cx="28814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2" action="ppaction://hlinksldjump"/>
              </a:rPr>
              <a:t>十五从军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03440" y="1989000"/>
            <a:ext cx="13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出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19640" y="278136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夜莺之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5760" y="347328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小英雄雨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19640" y="422100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狼牙山五壮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92360" y="494172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螳螂捕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1557360"/>
            <a:ext cx="576360" cy="3959280"/>
          </a:xfrm>
          <a:custGeom>
            <a:avLst/>
            <a:gdLst>
              <a:gd name="textAreaLeft" fmla="*/ 368280 w 576360"/>
              <a:gd name="textAreaRight" fmla="*/ 576720 w 576360"/>
              <a:gd name="textAreaTop" fmla="*/ 102960 h 3959280"/>
              <a:gd name="textAreaBottom" fmla="*/ 3856320 h 395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华文行楷"/>
              </a:rPr>
              <a:t>十五从军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844280"/>
            <a:ext cx="91440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十五从军征，八十始得归。道逢乡里人，“家中有阿谁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遥看是君家，松柏  累累。”兔从狗  入， 从梁上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庭生旅谷，井上生旅葵。  谷持作饭，采葵持作 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羹饭一时熟，不知贻阿谁。出门东向看，泪落沾我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956720" y="1341360"/>
            <a:ext cx="431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ē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16360" y="4149720"/>
            <a:ext cx="647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0000"/>
                </a:solidFill>
                <a:latin typeface="Arial"/>
              </a:rPr>
              <a:t>yí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16240" y="27432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49800" y="2755800"/>
            <a:ext cx="59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05520" y="276552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49800" y="369108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816680" y="369108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6346800" cy="12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方正舒体"/>
              </a:rPr>
              <a:t>抢答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1 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课文中那句能说明从军时间很长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2 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老人回家看到怎样的情景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3 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哪句诗道出了老人无尽的悲哀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4 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这首诗描写了一位少年从征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65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年后返回故里的情景，揭露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12000" y="6093000"/>
            <a:ext cx="431640" cy="287280"/>
          </a:xfrm>
          <a:prstGeom prst="leftArrow">
            <a:avLst>
              <a:gd name="adj1" fmla="val 50000"/>
              <a:gd name="adj2" fmla="val 375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88000" y="6093000"/>
            <a:ext cx="433440" cy="287280"/>
          </a:xfrm>
          <a:prstGeom prst="rightArrow">
            <a:avLst>
              <a:gd name="adj1" fmla="val 50000"/>
              <a:gd name="adj2" fmla="val 377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1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060720" y="907920"/>
            <a:ext cx="244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华文行楷"/>
              </a:rPr>
              <a:t>出塞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84720" y="191628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王昌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708280"/>
            <a:ext cx="4032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333399"/>
                </a:solidFill>
                <a:latin typeface="Arial"/>
                <a:ea typeface="楷体_GB2312"/>
              </a:rPr>
              <a:t>秦时明月汉时关，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8520" y="3500280"/>
            <a:ext cx="4032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333399"/>
                </a:solidFill>
                <a:latin typeface="Arial"/>
                <a:ea typeface="楷体_GB2312"/>
              </a:rPr>
              <a:t>万里长征人未还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84360" y="4221000"/>
            <a:ext cx="4032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333399"/>
                </a:solidFill>
                <a:latin typeface="Arial"/>
                <a:ea typeface="楷体_GB2312"/>
              </a:rPr>
              <a:t>但使龙城飞将在，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79680" y="4941720"/>
            <a:ext cx="4032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333399"/>
                </a:solidFill>
                <a:latin typeface="Arial"/>
                <a:ea typeface="楷体_GB2312"/>
              </a:rPr>
              <a:t>不教胡马度阴山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11640" y="1557000"/>
            <a:ext cx="4392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3399"/>
                </a:solidFill>
                <a:latin typeface="Arial"/>
                <a:ea typeface="方正舒体"/>
              </a:rPr>
              <a:t>边塞诗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19640" y="3068640"/>
            <a:ext cx="496872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王昌龄  高适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岑参  王之涣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1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华文行楷"/>
              </a:rPr>
              <a:t>边塞诗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99640" y="1628640"/>
            <a:ext cx="325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　塞下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　　　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卢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林暗草惊风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将军夜引弓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平明寻白羽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没在石棱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0" y="1628640"/>
            <a:ext cx="388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　　凉州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　　　　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王之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黄河远上白云间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一片孤城万仞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羌笛何须怨杨柳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春风不度玉门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华文行楷"/>
              </a:rPr>
              <a:t>边塞诗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　　凉州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　　　　　王之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葡萄美酒夜光杯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欲饮琵琶马上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醉卧沙场君莫笑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古来征战几人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16000" y="1557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　　从军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　　　　　　王昌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青海长云暗雪山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孤城遥望玉门关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黄沙百战穿金甲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不破楼兰终不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012000" y="6093000"/>
            <a:ext cx="431640" cy="287280"/>
          </a:xfrm>
          <a:prstGeom prst="leftArrow">
            <a:avLst>
              <a:gd name="adj1" fmla="val 50000"/>
              <a:gd name="adj2" fmla="val 375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588000" y="6093000"/>
            <a:ext cx="433440" cy="287280"/>
          </a:xfrm>
          <a:prstGeom prst="rightArrow">
            <a:avLst>
              <a:gd name="adj1" fmla="val 50000"/>
              <a:gd name="adj2" fmla="val 377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8T13:47:09Z</dcterms:created>
  <dc:creator>微软用户</dc:creator>
  <dc:description/>
  <dc:language>en-US</dc:language>
  <cp:lastModifiedBy>tw</cp:lastModifiedBy>
  <dcterms:modified xsi:type="dcterms:W3CDTF">2009-12-29T04:02:20Z</dcterms:modified>
  <cp:revision>16</cp:revision>
  <dc:subject/>
  <dc:title>温故而知新</dc:title>
</cp:coreProperties>
</file>