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364-BF5F-46FC-A664-2999E64D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3B3-7D00-4421-BEDB-6E405C87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C68-A06B-4B83-B5B3-12397BB3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06D-8CDB-4EBC-B470-21A5FDF5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FB7-01F7-460C-BC61-6E649FE0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4FC-E7B6-4E1F-BB64-E765977D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F45-250C-41D7-B4E3-E90F501E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08A5-C18E-4812-9F7B-E335C13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F141-9FD5-4E3B-BBC3-9DA35582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C5E9-9DFE-4AB2-93A4-58D0AE0A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449B-7CC8-4AD7-B1BE-89B7184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4DD-FAE6-4704-8F45-832ABEAD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5F04-63EC-4910-BAAC-A2AFEB9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D415-2D30-458B-91C7-50D7241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3846-CD9F-446D-BF1F-498ADB6B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3B8D-396B-42FA-B8A8-2109BBC9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4700-5909-4AA3-AC14-BBB8937C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6C9-AF0B-491E-9FCB-948F841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486-CC6E-4B8E-B39B-09B732A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A1E-D635-473E-8314-D496671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525-F6F6-4022-9875-46CBA55F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FC78-A029-4615-91D5-BEAA79C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4AC-1643-4C99-8F5E-E495999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BEB-E04D-4D97-9771-60CD3C08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CA4F-4374-4723-AC04-5EC1F6A223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7AC8-A17D-48F4-8C90-B9C94A6CB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古诗文复习题精选（一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线将诗题、诗句、作者连起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春晓》         杜甫           两个黄鹂鸣翠柳，一行白鹭上青天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回乡偶书》  杜牧          孤舟蓑笠翁，独钓寒江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小池》        柳宗元        满园春色关不住，一枝红杏出墙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草》            孟浩然        青箬笠，绿蓑衣，斜风细雨不须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山行》         贺知章        竹外桃花三两枝，春江水暖鸭先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绝句》         杨万里        夜来风雨声，花落知多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江雪》         白居易        少小离家老大回，乡音无改鬓毛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游园不值》  苏轼           小荷才露尖尖角，早有蜻蜓立上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渔歌子》      叶绍翁       野火烧不尽，春风吹又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惠崇春江晚景》张志和   停车坐爱枫林晚，霜叶红于二月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历代诗人赞美祖国壮丽山河的诗作很多，如李白在《望天门山》中写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天门中断楚江开，碧水东流至此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。登楼远眺，视野更为开阔，你会想到王之涣在《 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登鹳雀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欲穷千里目，更上一层楼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坐在顺水疾驶的船中，两岸景色一晃而过，不由令人想起李白在《早发白帝城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两岸猿声啼不住，轻舟已过万重山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默写描绘春、夏、秋、冬四季的诗各一首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 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春晓 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眠不觉晓，处处闻啼鸟。夜来风雨声，花落知多少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晓出净慈寺送林子方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毕竟西湖六月中，风光不与四时同。接天莲叶无穷碧，映日荷花别样红 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 望洞庭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湖光秋月两相和， 潭面无风镜未磨。 </a:t>
            </a: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遥望洞庭山水翠， 白银盘里一青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天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江雪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千山鸟飞绝，万径人踪灭。孤舟蓑笠翁，独钓寒江雪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要求默写古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360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黄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伟气势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浪淘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 刘禹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九曲黄河万里沙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浪淘风簸自天涯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如今直上银河去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同到牵牛织女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庐山瀑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望庐山瀑布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唐 李白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日照香炉生紫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遥看瀑布挂前川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飞流直下三千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疑是银河落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春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春夜喜雨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唐 杜甫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好雨知时节，当春乃发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随风潜入夜，润物细无声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径云俱黑，江船火独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晓看红湿处，花重锦官城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32360" y="1773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柳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咏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贺知章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碧玉妆成一树高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万条垂下绿丝绦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不知细叶谁裁出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小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赋得古原草送别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 唐 白居易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离离原上草，一岁一枯荣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火烧不尽，春风吹又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远芳侵古道，晴翠接荒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又送王孙去，萋萋满别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《墨梅》、《竹石》、《石灰吟》三首古诗的共同特点是：看起来写的是物，实际上是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喻人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中“梅”具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洁身自好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，“竹”具有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坚韧不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。你还知道类似的诗吗？请写一首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离离原上草，一岁一枯荣。 野火烧不尽，春风吹又生。 远芳侵古道，晴翠接荒城。 又送王孙去，萋萋满别情。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浪费粮食时，妈妈常用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谁知盘中餐，粒粒皆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句诗来教导我们，你能写出另一首《悯农》吗？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悯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种一粒粟，秋成万颗子。四海无闲田，农夫犹饿死。                     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李清照是我国宋代著名女词人，她写了一首赞颂项羽，抒发爱国情怀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夏日绝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。诗句是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生当作人杰， 死亦为鬼雄。 至今思项羽， 不肯过江东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回忆起母爱，要报答母亲的深思时，我们会很自然地吟诵起唐代诗人孟郊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游子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诗句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慈母手中线，游子身上衣。 临行密密缝，意恐迟迟归。 谁言寸草心，报得三春晖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最后用了一个反问句，用比喻的手法写出了儿子对母亲的深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在外地过年时，常常引用唐代诗人王维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 九月九日忆山东兄弟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独在异乡为异客，每逢佳节倍思亲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表达对家乡亲人的思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离家在外的游子对着一轮明月思乡思亲，这样的诗有：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静夜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举头望明月，低头思故乡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出塞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秦时明月汉时关，万里长征人未还。《泊船瓜州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春风又绿江南岸，明月何时照我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旅途中忧愁满腹难以入眠的诗有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枫桥夜泊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月落乌啼霜满天，江枫渔火对愁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三国时期魏国诗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曹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在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七步诗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》写到：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本自同根生，相煎何太急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表达了诗人对骨肉相残、同根相煎的悲愤之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陆游是南宋爱国诗人，诗人的绝笔是《示儿》 ，这首诗表达了 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你还能写出其他的爱国诗吗？诗名是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秋夜将晓，出篱门迎凉有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，诗句是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三万里河东入海，五千仞岳上摩天。 遗民泪尽胡尘里，南望王师又一年 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唐代诗人李白和杜甫，被中国文坛合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李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其中，李白被称为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诗仙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被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圣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生平第一快诗是《 闻官军收河南河北 》，抒发了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我们还学过杜甫写景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和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夜喜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赠别诗在我国古诗占重要地位，许多著名诗人都有优秀作品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李白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赠汪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桃花潭水深千尺，不及汪伦送我情。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维的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送元二使安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劝君更尽一杯酒，西出阳关无故人。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适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别董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莫愁前路无知己，天下谁人不识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昌龄的《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芙蓉楼送辛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洛阳亲友如相问，一片冰心在玉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还学过描写边塞军旅生活的古诗有王昌龄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 出塞 》秦时明月汉时关，万里长征人未还。但使龙城飞将在，不教胡马度阴山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之涣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凉州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黄河远上白云间，一片孤城万仞山。 羌笛何须怨杨柳，春风不度玉门关。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行”是古代诗歌的一种形式，除了《古朗月行》，我们还学过选自“汉乐府”中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长歌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其中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少壮不努力，老大徒伤悲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句含有很深的哲理，劝导人们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珍惜时间，有所作为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曾学过北朝民歌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川，阴山下。 天似穹庐，笼盖四野。 天苍苍，野茫茫， 风吹草低见牛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绘了一幅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田园牧歌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草原图画。       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词”是一种可以配乐歌唱的文体，有不同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词牌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你知道的词牌名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卜算子》、《渔歌子》、《如梦令》、《菩萨蛮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请默写毛泽东的一首词：词名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卜算子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咏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时候，我们对自己所处的环境，正在做的事反而不及旁人清楚，这就是“当局者迷，旁观者清。”宋代诗人苏轼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题西林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诗句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横看成岭侧成峰， 远近高低各不同。 不识庐山真面目， 只缘身在此山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了这个问题 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09120" y="1052640"/>
            <a:ext cx="8153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回忆《泊船瓜洲》，并用最简练的语言回答下列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者是在什么时间，什么地点写的这首诗？请说出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春天，京口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认为这首诗中的哪个字最精彩？请说明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加点的字注音并解释意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度其足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自己量自己脚的尺寸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忘持其度 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忘记拿自己量好的尺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04:00Z</dcterms:created>
  <dc:creator>MC SYSTEM</dc:creator>
  <dc:description/>
  <dc:language>en-US</dc:language>
  <cp:lastModifiedBy>MC SYSTEM</cp:lastModifiedBy>
  <dcterms:modified xsi:type="dcterms:W3CDTF">2005-06-29T03:29:26Z</dcterms:modified>
  <cp:revision>6</cp:revision>
  <dc:subject/>
  <dc:title>古诗文复习题精选（一）  </dc:title>
</cp:coreProperties>
</file>