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DEF-77B4-40A1-B040-794ABE16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FF9C-6ACE-4887-8BDA-9BA20979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1CC-61C5-4877-9A5C-78A3032F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1A0-DB1C-4136-B9E0-77E03D6B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E46-BE35-46C4-987C-28C38D53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845-57E3-48B2-8C3C-ED4AE7E9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647-5834-4AE8-A0BD-7BAA5A76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EF1-FF70-49D8-AB9A-2BCCFDD3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1480-7E2D-4E4F-A840-E62EDDDA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BDB-62D1-4533-973D-6F776B58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A37-58FC-4CA4-8974-87261732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51EC-5DCC-40FB-B72F-D3F976FF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E605-9E62-409C-887C-8086EE2FF5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y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标题 1" descr=""/>
          <p:cNvPicPr/>
          <p:nvPr/>
        </p:nvPicPr>
        <p:blipFill>
          <a:blip r:embed="rId3"/>
          <a:stretch/>
        </p:blipFill>
        <p:spPr>
          <a:xfrm>
            <a:off x="0" y="981000"/>
            <a:ext cx="8893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8" descr="qingting.jpg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5651640" y="1268280"/>
            <a:ext cx="3492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  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宋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泉眼无声惜细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树荫照水爱晴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荷才露尖尖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早有蜻蜓立上头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zhiyuan.jpg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3141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youyuan.jpg"/>
          <p:cNvPicPr/>
          <p:nvPr/>
        </p:nvPicPr>
        <p:blipFill>
          <a:blip r:embed="rId2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jiangshui.jpg"/>
          <p:cNvPicPr/>
          <p:nvPr/>
        </p:nvPicPr>
        <p:blipFill>
          <a:blip r:embed="rId3"/>
          <a:stretch/>
        </p:blipFill>
        <p:spPr>
          <a:xfrm>
            <a:off x="0" y="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7" descr="xue.jpg"/>
          <p:cNvPicPr/>
          <p:nvPr/>
        </p:nvPicPr>
        <p:blipFill>
          <a:blip r:embed="rId4"/>
          <a:stretch/>
        </p:blipFill>
        <p:spPr>
          <a:xfrm>
            <a:off x="4643280" y="3222720"/>
            <a:ext cx="45007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12920" y="2708280"/>
            <a:ext cx="528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i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古 诗 大 荟 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0" y="765000"/>
            <a:ext cx="838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隶书"/>
                <a:ea typeface="隶书"/>
              </a:rPr>
              <a:t>第一组：分别写出描写“春”、“夏”、“秋”、“冬”和“反映儿童情趣”的一句诗。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0" y="220500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二组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请你用一句诗来赞美下面的名山、名水、名城、名胜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 flipH="1">
            <a:off x="0" y="3860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三组：分别写出送别和爱国的诗句各两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0" y="4941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四组：用“日、月、雨、鸟、草”分别写出一句诗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683280" y="2708280"/>
            <a:ext cx="45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微软简隶书"/>
              </a:rPr>
              <a:t>    </a:t>
            </a: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微软简隶书"/>
              </a:rPr>
              <a:t>妙  语  连  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梅，独自傲立于风雪中的顽强精神，自古以来就倍受人们的称赞。请你说出一句古人赞颂梅的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有时候，有的人对自己所处的环境、正在做的事，反而不及旁人清楚，这就是“当局者迷，旁观者清。”宋代诗人苏轼用了一句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人们赞美小草，赞美它具有顽强的生命力，他们常常引用白居易的哪一句诗呢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小明是个顽皮的孩子，六年级的学生还不知道学习的重要性，成天心思不在学习上，请你用学过的诗句劝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六年的同学即将分别，你想送哪句诗来表达对远别好友的深情厚谊。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昨天下午，张老师布置了一道数学思考题。晚上我绞尽脑汁，百思不得其解。就在我“（        ）”时，爸爸走过来，助我一臂之力，经他一点拨，我豁然开朗，真是“（        ）”。于是我很快解开了这道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7: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＿＿＿＿＿＿＿＿＿＿＿＿＿＿＿＿＿＿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８：＿＿＿＿＿＿＿＿＿＿＿＿＿＿＿＿＿＿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９：＿＿＿＿＿＿＿＿＿＿＿＿＿＿＿＿＿＿＿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58551_130200712193f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0" name="标题 1"/>
          <p:cNvSpPr/>
          <p:nvPr/>
        </p:nvSpPr>
        <p:spPr>
          <a:xfrm>
            <a:off x="-828720" y="549360"/>
            <a:ext cx="712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二）课下实践：任选一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0" y="1123920"/>
            <a:ext cx="8991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0" y="2565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回家尝试把你原来的作文，恰当引用诗句，你一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发现，别有一番滋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选一首古诗，创编成一个新意的故事，你一定会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古诗也挺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唱一唱，你会发现这也是一种识记古诗的好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24000" y="33336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吟诗作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0" y="3068640"/>
            <a:ext cx="939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登鹳雀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王之涣：白日依山尽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：日照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早发白帝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：朝辞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岸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村居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高鼎：草长莺飞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0" y="126828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吟一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时田园杂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别董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送元二使安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0" y="836640"/>
            <a:ext cx="100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0" y="333360"/>
            <a:ext cx="84517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对一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好雨知时节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光潋滟晴方好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⑶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墙角数枝梅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⑷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王师北定中原日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0" y="2997360"/>
            <a:ext cx="8893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⑸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国破山河在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横看成岭侧成峰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问酒家何处寻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春色满园关不住：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⑼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⑽————————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5" descr=""/>
          <p:cNvPicPr/>
          <p:nvPr/>
        </p:nvPicPr>
        <p:blipFill>
          <a:blip r:embed="rId1"/>
          <a:stretch/>
        </p:blipFill>
        <p:spPr>
          <a:xfrm>
            <a:off x="-177840" y="-136440"/>
            <a:ext cx="9321840" cy="6994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0600" y="2492280"/>
            <a:ext cx="883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诗可以兴，可以观，可以群，可以怨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隶书"/>
                <a:ea typeface="隶书"/>
              </a:rPr>
              <a:t>                        ——</a:t>
            </a: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24000" y="2781360"/>
            <a:ext cx="67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微软简隶书"/>
              </a:rPr>
              <a:t>诗中有画，画中有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春江花月夜.mp3" descr=""/>
          <p:cNvPicPr/>
          <p:nvPr/>
        </p:nvPicPr>
        <p:blipFill>
          <a:blip r:embed="rId2"/>
          <a:stretch/>
        </p:blipFill>
        <p:spPr>
          <a:xfrm>
            <a:off x="7956720" y="573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" descr="mei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012000" y="981000"/>
            <a:ext cx="3357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墨梅图题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元 王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吾家洗砚池头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个花开淡墨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要人夸好颜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只留清气满乾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829800" y="2421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2" descr="jingyesi.jpg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724360" y="836640"/>
            <a:ext cx="341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静夜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床前明月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疑是地上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举头望明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低头思故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829800" y="2421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614920" y="692280"/>
            <a:ext cx="352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 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日照香炉生紫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遥看瀑布挂前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飞流直下三千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疑是银河落九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5" descr="pubu.jpg"/>
          <p:cNvPicPr/>
          <p:nvPr/>
        </p:nvPicPr>
        <p:blipFill>
          <a:blip r:embed="rId1"/>
          <a:stretch/>
        </p:blipFill>
        <p:spPr>
          <a:xfrm>
            <a:off x="0" y="0"/>
            <a:ext cx="55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940360" y="404640"/>
            <a:ext cx="2916360" cy="13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咏  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 贺知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碧玉妆成一树高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万条垂下绿丝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知细叶谁裁出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月春风似剪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7:06:34Z</dcterms:created>
  <dc:creator>微软用户</dc:creator>
  <dc:description/>
  <dc:language>en-US</dc:language>
  <cp:lastModifiedBy>tw</cp:lastModifiedBy>
  <dcterms:modified xsi:type="dcterms:W3CDTF">2011-04-28T01:18:06Z</dcterms:modified>
  <cp:revision>95</cp:revision>
  <dc:subject/>
  <dc:title>幻灯片 1</dc:title>
</cp:coreProperties>
</file>