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25F-DC4D-4526-BA24-134DF7EF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7DB-CEC5-423D-A6F5-A3D6B56D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3F1-008F-404B-8C76-3D87FF35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0A8-E620-407B-B9B4-5E84275E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65A-8683-4CA3-B270-6C06C482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E6D-2004-403C-9552-B5A70737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05D-5329-4CD5-B7C3-3C14DAEE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E3E-7E40-43E7-B67C-5B233C22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E71-876B-49EE-B676-952E46A6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807-360E-4E4D-AF33-CD095671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A6D-8FC4-4C98-B65E-9B06E9A4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677-378D-4013-BEEF-1C594B6E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74CF-62BC-40B5-862A-1747820582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-1214280"/>
            <a:ext cx="9144000" cy="8072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50"/>
                </a:solidFill>
                <a:latin typeface="Calibri"/>
              </a:rPr>
              <a:t>小四习作练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矩形 17" descr=""/>
          <p:cNvPicPr/>
          <p:nvPr/>
        </p:nvPicPr>
        <p:blipFill>
          <a:blip r:embed="rId2"/>
          <a:stretch/>
        </p:blipFill>
        <p:spPr>
          <a:xfrm>
            <a:off x="0" y="2584440"/>
            <a:ext cx="87789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22256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什么叫人物的外貌描写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alibri"/>
                <a:ea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alibri"/>
                <a:ea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Arial"/>
              </a:rPr>
              <a:t>外貌描写</a:t>
            </a: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是指对人物的</a:t>
            </a:r>
            <a:r>
              <a:rPr b="1" lang="zh-CN" sz="5400" spc="-1" strike="noStrike">
                <a:solidFill>
                  <a:srgbClr val="604a7b"/>
                </a:solidFill>
                <a:latin typeface="Calibri"/>
                <a:ea typeface="Arial"/>
              </a:rPr>
              <a:t>身材、衣着、容貌打扮等</a:t>
            </a: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进行的描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0" y="2504880"/>
            <a:ext cx="9144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读下面两个文段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）门一开，班主任领进一位女生。她长的很好看，衣着朴素。“我叫李华，请多关照。”简单的开场白后，她被分到我的旁边，以后我们成了同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）门一开，班主任领进一位女生。她中等个儿，梳着两根羊辫，黑里透红的脸上，有一对明亮的眼睛。穿着一身洗的褪了色的学生装，裤子的膝盖处还缀着两个像眼睛一样的补丁。“我叫李华，请多关照。”简单的开场白后，她被分到我的旁边，以后我们成了同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0" y="222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补充例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乍一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她个子挺高的，身材很好，不胖也不瘦，是块跳舞的料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细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她留着齐耳短发，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上总是一左一右地夹着两只发夹，把头发紧紧地拢在耳朵后面，显出一张光滑白净的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庞。她的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眼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不大，细细长长的，但是很有神采，一笑就变成了两条缝。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鼻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微微上翘，给人一种俏皮的感觉，显得十分可爱。她平时最喜欢穿的是一条蓝底白花的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Times New Roman"/>
              </a:rPr>
              <a:t>连衣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裙摆又宽又大。她一跑动起来，裙子就像一只花蝴蝶一样飞起来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16772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做游戏：猜猜他们是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谁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只见他黑脸短毛，长嘴大耳，圆身肥肚，穿一件青不青、蓝不蓝的梭布衣服，系一条花布手巾，提一柄九齿钉耙。（ 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他有三头六臂，脖子上套着乾坤圈，脚踏风火轮，威风八面。（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、他身穿金光闪闪的战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头戴金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手持从东海龙宫掠来的金箍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显出一副威武霸气的样子。一对火眼金睛炯炯有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透露出铲除一切妖魔的决心。浑身透露出一种天不怕、地不怕的精神。（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19490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做游戏： 猜猜她们的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性格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金豆才七岁，头发披散着，垂到脖子边，见人就羞得把头低下去，或者跑开了又悄悄地望着人，或者等你不知不觉时猛然叫一声来吓唬你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她大概叫琅琅，一头柔软的卷发，凸额头、塌鼻梁，穿一件红底白点小罩衣，总是不声不响，像个静默的小哲学家似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女儿长得像她娘，眼睛长得尤其像。白眼珠鸭蛋清，黑眼珠棋子黑，定神时如清水，闪动时像星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5:41:11Z</dcterms:created>
  <dc:creator>Administrator</dc:creator>
  <dc:description/>
  <dc:language>en-US</dc:language>
  <cp:lastModifiedBy>微软用户</cp:lastModifiedBy>
  <dcterms:modified xsi:type="dcterms:W3CDTF">2013-11-09T12:51:36Z</dcterms:modified>
  <cp:revision>21</cp:revision>
  <dc:subject/>
  <dc:title>小四习作练习 人物外貌描写</dc:title>
</cp:coreProperties>
</file>