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368-E0A1-495F-BCFF-6B625BE9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6EB-6613-4224-A224-56F7633E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098-F52E-4A97-A36E-0FA883E0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71C-4CCA-4A16-B1C0-EB5CF7DA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AE8-D3C9-4C52-9BDD-F2E1B0ED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30C-F0C4-4EBE-8B1C-C27AF5CF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162-4273-4631-B180-65530FE5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FBE-40F3-4F22-AFD2-5D52876C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ED8-C343-4CD6-9EEB-3FA3CF78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B6A-7C99-43B7-A2A3-8F32C081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3CF-A1FD-4C52-9B91-90A559E8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F7A-2F61-4516-8F3C-6A04177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C7DB-71B2-492B-9C7D-3D3F0010F7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1844640"/>
            <a:ext cx="741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492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第三单元复习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724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棠外附小：李春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620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《黄河之水天上来》告诉我们黄河无私地滋润着两岸的土地，养育着世世代代的炎黄子孙，警醒人们要（                 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4005360"/>
            <a:ext cx="619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爱惜黄河，保护自然生态环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三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方正舒体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916280"/>
            <a:ext cx="6048360" cy="29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赞美长江的诗句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赞美黄河的诗句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5013360"/>
            <a:ext cx="504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保护母亲河的宣传语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280" y="981000"/>
            <a:ext cx="5472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16360" y="2708280"/>
            <a:ext cx="4897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分类复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19280" y="260280"/>
            <a:ext cx="151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方正舒体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冢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ǒ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窦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dò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chō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ɡē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53276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一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314172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母亲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1197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长江之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060640"/>
            <a:ext cx="27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三峡之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997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古诗二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933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黄河之水天上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4797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最后的淇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1557360"/>
            <a:ext cx="576360" cy="3959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二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课文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行楷"/>
              </a:rPr>
              <a:t>长江之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468720" y="1844280"/>
            <a:ext cx="9612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2997360"/>
            <a:ext cx="21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胡宏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3468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抢答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91628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长江之歌》共两段，第一段重在（      ），第二段重在（      ）。诗人把“长江”比喻成（      ），表达了诗人对长江的（                       ）的思想感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2637000"/>
            <a:ext cx="1366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写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3284640"/>
            <a:ext cx="144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抒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4005360"/>
            <a:ext cx="107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母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653000"/>
            <a:ext cx="475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热爱、赞美、依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60720" y="907920"/>
            <a:ext cx="244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765000"/>
            <a:ext cx="7632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《三峡之秋》按（        ）顺序描写了三峡在一天中不同时间的景色特点：早晨的三峡是（         ）的，中午的三峡是（         ）的，下午 的三峡又是（        ）的，而入夜时的三峡却是（        ）的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692280"/>
            <a:ext cx="158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时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1773360"/>
            <a:ext cx="151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明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2276640"/>
            <a:ext cx="18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热烈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852640"/>
            <a:ext cx="208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平静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3357720"/>
            <a:ext cx="151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宁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4365720"/>
            <a:ext cx="7416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长江三峡秋天的景色很美，你能说说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描写秋天景色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的词语吗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69228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最后的淇淇》告诉我们：不能容纳白鳍豚生存的长江，最终也必将不能容纳人类的生存。保护长江，保护像白鳍豚一样的珍惜动物，就是（                     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5084640"/>
            <a:ext cx="65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保护我们人类自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47:09Z</dcterms:created>
  <dc:creator>微软用户</dc:creator>
  <dc:description/>
  <dc:language>en-US</dc:language>
  <cp:lastModifiedBy>tw</cp:lastModifiedBy>
  <dcterms:modified xsi:type="dcterms:W3CDTF">2010-05-13T06:17:55Z</dcterms:modified>
  <cp:revision>25</cp:revision>
  <dc:subject/>
  <dc:title>温故而知新</dc:title>
</cp:coreProperties>
</file>