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6961-4506-4EF9-8C29-742E3BE09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F149-1750-4929-AB00-E052DC92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54B8-447D-4485-A44F-999C640BB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6BE2-37A4-4102-9EA9-FC39D9C80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7079-698D-4D7C-82BA-16890190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2787-075C-472C-8A06-27EBB177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8469-A237-467C-B173-59FB739C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AE70-9187-48EA-8F35-06D3720F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6DE8-E471-4FC8-B6BC-85FBF180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F565-B731-4221-A6BC-A7B7FD54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962F-859A-409A-A2D1-3FD7CCFE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F570-1999-4956-B37D-BF4FE44B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06A1-8144-4316-8F7C-3E2ABEE74F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76360" y="1844640"/>
            <a:ext cx="7416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249228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第七单元复习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56000" y="4724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棠外附小：李春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95640" y="1268280"/>
            <a:ext cx="29620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舒体"/>
              </a:rPr>
              <a:t>第一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84000" y="3068640"/>
            <a:ext cx="3754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95640" y="1268280"/>
            <a:ext cx="29620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舒体"/>
              </a:rPr>
              <a:t>第二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84000" y="3068640"/>
            <a:ext cx="3754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课文回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95640" y="1268280"/>
            <a:ext cx="29620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舒体"/>
              </a:rPr>
              <a:t>第三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84000" y="3068640"/>
            <a:ext cx="3754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方正舒体"/>
              </a:rPr>
              <a:t>拓展延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 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在本单元中我们认识了小夜莺、雨来两位小英雄，你还知道战争中的哪些小英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《小英雄雨来》《狼牙山五壮士》讲的都是同一个时期——抗日战争时期的故事，你还知道哪些这一时期的故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71280" y="981000"/>
            <a:ext cx="54723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方正舒体"/>
              </a:rPr>
              <a:t>温故而知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916360" y="2708280"/>
            <a:ext cx="489744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整体感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分类复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拓展延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19280" y="260280"/>
            <a:ext cx="1512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99"/>
                </a:solidFill>
                <a:latin typeface="Arial"/>
                <a:ea typeface="方正舒体"/>
              </a:rPr>
              <a:t>谢谢指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冢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1268280"/>
            <a:ext cx="2376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zhǒn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窦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1268280"/>
            <a:ext cx="237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dòu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雉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0920" y="1268280"/>
            <a:ext cx="237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zhì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92360" y="1268280"/>
            <a:ext cx="2376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chōn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53276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方正舒体"/>
              </a:rPr>
              <a:t>温故而知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羹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63640" y="1268280"/>
            <a:ext cx="237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ɡēn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03280" y="2997360"/>
            <a:ext cx="127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战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1192320"/>
            <a:ext cx="28814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十五从军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03440" y="198900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出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2781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夜莺之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5760" y="347328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英雄雨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19640" y="422100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狼牙山五壮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2360" y="494172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螳螂捕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1557360"/>
            <a:ext cx="576360" cy="3959280"/>
          </a:xfrm>
          <a:custGeom>
            <a:avLst/>
            <a:gdLst>
              <a:gd name="textAreaLeft" fmla="*/ 368280 w 576360"/>
              <a:gd name="textAreaRight" fmla="*/ 576720 w 576360"/>
              <a:gd name="textAreaTop" fmla="*/ 102960 h 3959280"/>
              <a:gd name="textAreaBottom" fmla="*/ 3856320 h 395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十五从军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十五从军征，八十始得归。道逢乡里人，“家中有阿谁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遥看是君家，松柏  累累。”兔从狗  入， 从梁上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庭生旅谷，井上生旅葵。  谷持作饭，采葵持作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羹饭一时熟，不知贻阿谁。出门东向看，泪落沾我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956720" y="1341360"/>
            <a:ext cx="431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ē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4149720"/>
            <a:ext cx="647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Arial"/>
              </a:rPr>
              <a:t>y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16240" y="27432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49800" y="275580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05520" y="276552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49800" y="36910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816680" y="36910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634680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舒体"/>
              </a:rPr>
              <a:t>抢答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课文中那句能说明从军时间很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老人回家看到怎样的情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3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哪句诗道出了老人无尽的悲哀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4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这首诗描写了一位少年从征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65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年后返回故里的情景，揭露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12000" y="6093000"/>
            <a:ext cx="431640" cy="287280"/>
          </a:xfrm>
          <a:prstGeom prst="lef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88000" y="6093000"/>
            <a:ext cx="433440" cy="287280"/>
          </a:xfrm>
          <a:prstGeom prst="rightArrow">
            <a:avLst>
              <a:gd name="adj1" fmla="val 50000"/>
              <a:gd name="adj2" fmla="val 377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60720" y="90792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出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84720" y="191628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王昌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708280"/>
            <a:ext cx="403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楷体_GB2312"/>
              </a:rPr>
              <a:t>秦时明月汉时关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8520" y="3500280"/>
            <a:ext cx="403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楷体_GB2312"/>
              </a:rPr>
              <a:t>万里长征人未还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84360" y="4221000"/>
            <a:ext cx="403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楷体_GB2312"/>
              </a:rPr>
              <a:t>但使龙城飞将在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79680" y="4941720"/>
            <a:ext cx="403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楷体_GB2312"/>
              </a:rPr>
              <a:t>不教胡马度阴山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11640" y="1557000"/>
            <a:ext cx="4392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  <a:ea typeface="方正舒体"/>
              </a:rPr>
              <a:t>边塞诗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19640" y="3068640"/>
            <a:ext cx="4968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王昌龄  高适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岑参  王之涣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边塞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325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　塞下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　　　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卢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林暗草惊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将军夜引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平明寻白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没在石棱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0" y="162864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　　凉州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　　　　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王之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黄河远上白云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一片孤城万仞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羌笛何须怨杨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春风不度玉门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边塞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　　凉州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　　　　　王之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葡萄美酒夜光杯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欲饮琵琶马上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醉卧沙场君莫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古来征战几人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600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　　从军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　　　　　　王昌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青海长云暗雪山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孤城遥望玉门关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黄沙百战穿金甲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不破楼兰终不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12000" y="6093000"/>
            <a:ext cx="431640" cy="287280"/>
          </a:xfrm>
          <a:prstGeom prst="lef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88000" y="6093000"/>
            <a:ext cx="433440" cy="287280"/>
          </a:xfrm>
          <a:prstGeom prst="rightArrow">
            <a:avLst>
              <a:gd name="adj1" fmla="val 50000"/>
              <a:gd name="adj2" fmla="val 377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3:47:09Z</dcterms:created>
  <dc:creator>微软用户</dc:creator>
  <dc:description/>
  <dc:language>en-US</dc:language>
  <cp:lastModifiedBy>tw</cp:lastModifiedBy>
  <dcterms:modified xsi:type="dcterms:W3CDTF">2009-12-29T04:02:20Z</dcterms:modified>
  <cp:revision>16</cp:revision>
  <dc:subject/>
  <dc:title>温故而知新</dc:title>
</cp:coreProperties>
</file>