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9B3-2601-420D-951B-BFAA7B11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8D9-8407-488F-9027-E810E248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E3D-CDB3-4776-B13D-F160787D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58A-179E-4800-BD23-CC92E9CD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B2A-57A9-4482-BE4E-CF298522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42BF-EC67-437D-8716-1112A293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8D8E-1B7E-4E23-8EA0-504A2C34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651C-5A20-4BC0-9EFF-CF0A374A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9C3A-7D46-4561-B3C7-6FD773A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3D2E-C8F3-4E3B-BF81-6EC3D865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59A4-CC00-4509-91B7-4C1B4C5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37D-7FB7-453B-877A-4BDBEF8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836-6326-4FAC-B2BA-438410CA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2EF7-9EE2-45D5-8C24-4B8792C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9ECB-A15A-4AB4-87D6-B6237208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7E8-B53A-4E14-8DB3-0F5D672A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856A-07CA-48D2-A761-5A0F2A2B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48D-542C-42A8-B4F0-57247121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A09-772E-4659-9B68-C3876761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3A3-95A3-4D8E-B86C-5CC1BEB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B2E-A43E-4052-8BC2-A59B203D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417-5DF4-4F93-9571-585437C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A77-F76D-4DA5-90CC-062D5A6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30A-35EB-4ABD-BA6D-AC9BD85A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69B9-14A0-4254-9FC6-60071CA65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20B-374A-4264-88BE-72F65C76C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973440" y="981000"/>
            <a:ext cx="777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品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故事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85840" y="2997360"/>
            <a:ext cx="705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习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标点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省略号的用法，并选择正确的答案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的断断续续。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列举的省略。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或思考的中断。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语意未尽，让人思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是……太太……我不知道……你一定是认错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都有：稻鸡、角鸡、鹁鸪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如此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……是他来啦？……不，还没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把他们抱过来啊？……他会揍我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也活该，我自作自受。” （   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956720" y="2349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867280" y="270828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32000" y="3141720"/>
            <a:ext cx="2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635280" y="458136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山重水复疑无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柳暗花明又一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来开开眼界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7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4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有趣的标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1386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朝大诗人杜牧写过一首题为《清明》的绝句，原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纷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路上行人欲断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脍炙人口的唐诗，有人只改动了一下标点符号，竟把它变成了一首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的小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，纷纷路上行人。欲断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？有牧童，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将标点符号再作改动，这首诗还可以变成一出精制的小短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时间：清明时节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布景：雨纷纷。 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地点：路上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行人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欲断魂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遥指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杏花村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由于标点符号的不同，一首诗竟发生了这么多变化，多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有趣呀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祝枝山的玩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明朝的祝枝山，有一次曾同人开过这样一个玩笑。新春佳节的时候，祝枝山路过一户富人家的门前，见到朱漆的大门上贴着一张红纸。他想了想，就叫人拿来笔墨，在上面写了十二个大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今年真好晦气全无财帛进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家主人出来一看，顿时脸色铁青。他想这不分明是触我的霉头吗？于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要就动手打祝枝山。而祝枝山却对他笑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慌不忙地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明明写的是好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自己看不懂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就用笔点了几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主人见了，不禁转怒为喜，连声称好。这是何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晦气，全无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，晦气全无，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究竟谁是冠军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上海足球队对垒广州足球队。比赛后，一位记者便连夜赶写了一篇新闻报道，并且用了一个醒目的标题“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得了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结果，有读者说是上海队胜了，有读者说是广东队胜了，你能为两方读者找出各自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上海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，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广东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，广东队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给句子加标点，使句子意思与括号中的要求相符。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陈述二人都参加演出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、李燕参加演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000" spc="-1" strike="noStrike">
                <a:solidFill>
                  <a:srgbClr val="0d2fd7"/>
                </a:solidFill>
                <a:latin typeface="Arial"/>
              </a:rPr>
              <a:t>（王红告诉别人，李燕参加演出了）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王红喊李燕参加演出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，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李燕喊王红参加演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 ”，李燕：“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一鼓作气，再而衰，三而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再来挑战一下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200"/>
                            </p:stCondLst>
                            <p:childTnLst>
                              <p:par>
                                <p:cTn id="7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巧问妙答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作家雨果完成了《悲惨世界》的手稿后，将其寄给了出版社，好久不闻讯息，于是，他给出版社写了一封信，内容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出版社很快回了信，内容也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不久，《悲惨世界》出版，轰动了整个欧洲文坛，而这“标点书信”的轶事也就流传至今，脍炙人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雨果和出版社之间的“标点书信”妙就妙在别出心裁，巧用问号和感叹号的修辞功能来传递信息，“尽在不言中”，极其含蓄，耐人寻味。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试试你有做心理学家的潜质吗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心理学家巴尔肯曾在一青年人的聚会上，叫与会者每人写一篇简短的自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个年轻人满脸沮丧地交给他一份自传，上面只有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———）（！）（。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年轻人凄然地解释，一阵横冲直撞，落个伤心自叹，到头来只有完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尔肯听了，不以为然，立即在这个自传上加了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、）（……）（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常有效地鼓励了这个自暴自弃的青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这三个标点有何深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青年时期是人生的一个小站，道路漫长，希望无边，岂不闻浪子回头金不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挑战自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962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近山西省作家胡文亮历时一年创作了一篇名为《。》的无字小说，目前他准备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悬赏小说破译者。该小说共分五段，全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标点符号：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？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：！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“ ‘……’ ”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（、）•《，》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；—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亲爱的同学，你能够得到这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万元的悬赏金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标点符号的种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点符号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，这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家语委和新闻出版署重新颁布的《标点符号用法》的最新数字。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问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叹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逗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分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冒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引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“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括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破折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省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连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间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· </a:t>
            </a:r>
            <a:r>
              <a:rPr b="1" lang="zh-CN" sz="40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着重号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专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操千曲而后晓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观千剑而后识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课后再接再厉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00"/>
                            </p:stCondLst>
                            <p:childTnLst>
                              <p:par>
                                <p:cTn id="7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0"/>
                            </p:stCondLst>
                            <p:childTnLst>
                              <p:par>
                                <p:cTn id="7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经典空叠圆简"/>
              </a:rPr>
              <a:t>标点符号歌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60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很重要，组成文章不可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用哪种小符号，都要认真来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未完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句完了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怒哀乐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感叹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提出问题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词语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顿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列分句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下文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冒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话引用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引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文名称要标明，前后加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书名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意思要省掉，可以加个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省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折解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破折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注释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用准确，文章清楚都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纸上得来终觉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绝知此事要躬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练一练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你能准确给句子加标点吗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896400"/>
            <a:ext cx="874872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推开门一看   嗬   好大的雪啊    山川    树木    房屋   全部罩上了一层厚厚的雪    万里江山变成了粉妆玉砌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女教师走到小道格拉斯       一个皮肤棕黑色    又瘦又小   头发卷曲的孩子桌前   弯腰低头问他     能告诉我你画的是谁的手吗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没有了大人的训斥    牧师的教诲     法官的威严    老师的惩罚    有的是沙滩    草地    树林    鸟儿   松鼠    蝴蝶          他们无忧无虑    无拘无束   这里简直是一片乐土   净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妈妈和我去书店买书    她买了    读者    和     电脑报     我选了一本   格林童话选    和一本   阿里巴巴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70036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16436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29272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484360" y="436572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932360" y="29242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03280" y="299736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740720" y="2565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716360" y="1557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32000" y="6093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40360" y="57340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67564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435640" y="981000"/>
            <a:ext cx="7308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4000" y="5013360"/>
            <a:ext cx="144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348000" y="981000"/>
            <a:ext cx="716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24360" y="3213000"/>
            <a:ext cx="21600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588000" y="1125360"/>
            <a:ext cx="14472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716360" y="436572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78000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44000" y="3933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036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67640" y="112536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116000" y="479736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11280" y="522936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885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77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7672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8000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596360" y="558972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65964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692360" y="638172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6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763640" y="2060640"/>
            <a:ext cx="14436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50920" y="6524640"/>
            <a:ext cx="14472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95640" y="4724280"/>
            <a:ext cx="7207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……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27640" y="2492280"/>
            <a:ext cx="649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308720" y="2924280"/>
            <a:ext cx="7164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：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24720" y="278136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“</a:t>
            </a:r>
            <a:endParaRPr b="0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284720" y="314172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”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1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有误的一项是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洞的正中，用朱漆写着三个大字——“逍遥宫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游，字务观，号放翁，山阴（今浙江绍兴）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可以肯定地告诉你，我国姓王的人接近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38036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73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正确的一项是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可能因为年龄小，不知道珍惜时间，现在我才体会到“一寸光阴一寸金，寸金难买寸光阴。”这句话的真正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当疼痛发作，他就采用自己的“压迫止痛法”——用茶壶盖、烟嘴、玻璃球、牙刷把……顶住疼痛的部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不是和你说着玩儿。”洪民一本正经地说，“如果你能出山，咱们一起想办法，这事准能完成”。 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380360" y="47628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引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直接引用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说的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特定含义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否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万众一心，冒着敌人的炮火，前进！……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雄壮的歌声在蓝天回荡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种“聪明人”是让人瞧不起的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真是太“好”了，连这种事都能做出来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沈老师说过：“我不相信一个文盲能成为社会的栋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”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076720" y="306864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050920" y="5084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85080" y="4149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77080" y="3645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破折号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解释说明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转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的递进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音的中止、停顿或延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嘟——”一声汽笛长鸣，客轮离开了南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真冷——你怎么来了？”李主任猛一抬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我——一个少先队员的回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我深深地知道——人的身躯怎能从狗洞里爬出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802800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5373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71640" y="393372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48360" y="443700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18Z</dcterms:created>
  <dc:creator>风之客</dc:creator>
  <dc:description/>
  <dc:language>en-US</dc:language>
  <cp:lastModifiedBy>风之客</cp:lastModifiedBy>
  <dcterms:modified xsi:type="dcterms:W3CDTF">2008-04-02T07:59:45Z</dcterms:modified>
  <cp:revision>33</cp:revision>
  <dc:subject/>
  <dc:title>标点符号</dc:title>
</cp:coreProperties>
</file>