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jpeg" ContentType="image/jpeg"/>
  <Override PartName="/ppt/media/image5.png" ContentType="image/png"/>
  <Override PartName="/ppt/media/image10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D70-7DC4-4E70-A992-ED6B43195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097-4531-4235-B673-76F77DD41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4416-FF53-41B2-82B6-CF66890CB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686C-25DD-4BAC-91A6-884ED7A3C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BA6-E924-4477-BD54-14E1DA42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4FE5-380A-4F42-B470-F2F1138D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BD87-536A-46CC-8566-B0FC95E6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D69-4ED9-4609-AFA4-C6EC80ED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12A5-5E14-4E71-A3D3-F2CB598D0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DED9-4191-4183-9D03-C9EBCD2A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1F6F-976F-4686-A03E-2B71E5003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0810-E21C-46E4-B0B8-6A2235A24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935D-534E-4AD4-AE5D-11B8529859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844640"/>
            <a:ext cx="4248000" cy="3125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780000" y="692280"/>
            <a:ext cx="5040000" cy="1800000"/>
          </a:xfrm>
          <a:prstGeom prst="wedgeEllipseCallout">
            <a:avLst>
              <a:gd name="adj1" fmla="val -40425"/>
              <a:gd name="adj2" fmla="val 8421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朋友们好，我是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蚂蚁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500_vjx3CV7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3"/>
          <p:cNvSpPr/>
          <p:nvPr/>
        </p:nvSpPr>
        <p:spPr>
          <a:xfrm>
            <a:off x="1187280" y="2852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2771640" y="2060640"/>
            <a:ext cx="25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900000" y="3284640"/>
            <a:ext cx="705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5050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鼓励</a:t>
            </a:r>
            <a:r>
              <a:rPr b="1" lang="zh-CN" sz="3600" spc="-1" strike="noStrike" u="sng">
                <a:solidFill>
                  <a:srgbClr val="ff3399"/>
                </a:solidFill>
                <a:uFillTx/>
                <a:latin typeface="Arial"/>
                <a:ea typeface="楷体_GB2312"/>
              </a:rPr>
              <a:t>巨人</a:t>
            </a:r>
            <a:r>
              <a:rPr b="0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  <a:ea typeface="楷体_GB2312"/>
              </a:rPr>
              <a:t> “试一试吧！你身强力壮，也许能爬上去。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042920" y="4724280"/>
            <a:ext cx="7561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鼓励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</a:t>
            </a: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：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“试一试吧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!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  <a:ea typeface="楷体_GB2312"/>
              </a:rPr>
              <a:t>                                                   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42920" y="1773360"/>
            <a:ext cx="72741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66760" y="156204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白胡子爷爷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鼓励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巨人：“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试一试吧！你身强力壮，也许能爬上去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888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284720" y="476280"/>
            <a:ext cx="4176720" cy="2521080"/>
          </a:xfrm>
          <a:prstGeom prst="wedgeEllipseCallout">
            <a:avLst>
              <a:gd name="adj1" fmla="val -72157"/>
              <a:gd name="adj2" fmla="val -295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行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爬不上去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-612720" y="-458640"/>
            <a:ext cx="9756720" cy="76327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285280" y="981000"/>
            <a:ext cx="478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默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8—1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然段，用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”标出蚂蚁说的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5292720" y="3789360"/>
            <a:ext cx="3313080" cy="2665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 flipH="1" flipV="1">
            <a:off x="250560" y="3212280"/>
            <a:ext cx="2519280" cy="863640"/>
          </a:xfrm>
          <a:prstGeom prst="wedgeEllipseCallout">
            <a:avLst>
              <a:gd name="adj1" fmla="val -43888"/>
              <a:gd name="adj2" fmla="val -122430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1640" y="2565360"/>
            <a:ext cx="3024360" cy="609480"/>
          </a:xfrm>
          <a:prstGeom prst="wedgeEllipseCallout">
            <a:avLst>
              <a:gd name="adj1" fmla="val 24592"/>
              <a:gd name="adj2" fmla="val 2320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1700280"/>
            <a:ext cx="3673440" cy="609480"/>
          </a:xfrm>
          <a:prstGeom prst="wedgeEllipseCallout">
            <a:avLst>
              <a:gd name="adj1" fmla="val 5402"/>
              <a:gd name="adj2" fmla="val 179689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373040" y="34290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不用手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181400" y="263052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嘴不出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08400" y="17668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读得更快了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9280" y="3645000"/>
            <a:ext cx="2016360" cy="1484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94200" y="9079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能爬到天上去！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94200" y="2133720"/>
            <a:ext cx="60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我能行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56000" y="3789360"/>
            <a:ext cx="658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只要我一步一步不停地爬，就一定能爬到天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3203640" y="1484280"/>
            <a:ext cx="2940120" cy="33847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408480" y="1484280"/>
            <a:ext cx="244764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0000"/>
                </a:solidFill>
                <a:latin typeface="Arial"/>
                <a:ea typeface="楷体_GB2312"/>
              </a:rPr>
              <a:t>信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9640" y="4724280"/>
            <a:ext cx="6842160" cy="24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信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诚信   信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 rot="738600">
            <a:off x="2004480" y="2255400"/>
            <a:ext cx="10796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停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不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步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我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要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只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128" name=""/>
          <p:cNvSpPr txBox="1"/>
          <p:nvPr/>
        </p:nvSpPr>
        <p:spPr>
          <a:xfrm rot="720000">
            <a:off x="6027840" y="285480"/>
            <a:ext cx="977760" cy="4305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30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上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天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到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爬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能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定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一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黑体"/>
              </a:rPr>
              <a:t>就</a:t>
            </a:r>
            <a:endParaRPr b="1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5280" y="76500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好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148428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巨人：不行，我爬不上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248904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我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爬到天上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3357720"/>
            <a:ext cx="80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我能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4221000"/>
            <a:ext cx="669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蚂蚁：只要我一步一步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不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地爬，         就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能爬到天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093080" y="544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6" dur="283264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765000"/>
            <a:ext cx="874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要想做成一件事，靠的不是身材、体力等物质方面的条件，而是要有坚持不懈、努力进取的恒心和毅力。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50920" y="206064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宝剑锋从磨砺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,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梅花香自苦寒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1628640"/>
            <a:ext cx="14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fē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195640" y="162864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m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987640" y="162864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l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04000" y="155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h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1844640"/>
            <a:ext cx="8893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 蚁      云 霄      常 常      俯 下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抬 头      酸 痛      鼓 励      仰 望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试一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2760" y="1341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mǎ y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11600" y="134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i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98960" y="141300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Chá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72360" y="1413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003640" y="25732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3860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h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2565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t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227640" y="256536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yǎ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50920" y="25909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su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065240" y="129060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身材魁伟       身强力壮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700360" y="83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tu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836640"/>
            <a:ext cx="129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Chō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57840" y="765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xì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050920" y="285768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ku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98920" y="285768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wě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060560" y="434880"/>
            <a:ext cx="19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词语大冲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268280"/>
            <a:ext cx="8604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蚂蚁   云霄    常常    俯下    仰望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鼓励   抬头    试一试    通天树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连告退     充满自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身材魁伟      身强力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324000" y="6126120"/>
            <a:ext cx="133200" cy="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3040" bIns="2304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140360" y="5373720"/>
            <a:ext cx="2016000" cy="1484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132000" y="620640"/>
            <a:ext cx="53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身强力壮  身材魁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7640" y="5084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很小很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619200" y="189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自读提示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700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快速读文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1——3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用“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~~~”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画出描写通天树高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539640" y="90792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一棵树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很高很高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高得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插入了云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2565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从树干往上爬，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一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往上爬，就能爬到天上去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429264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抬头仰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脖子都仰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酸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了，也望不到树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94036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443640" y="6165720"/>
            <a:ext cx="28728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48360" y="6165720"/>
            <a:ext cx="287640" cy="28764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53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606920" y="1700280"/>
            <a:ext cx="453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好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高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哟，要想爬上去是</a:t>
            </a: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根本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不可能的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-181080" y="0"/>
            <a:ext cx="956304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50920" y="3284640"/>
            <a:ext cx="889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白胡子爷爷</a:t>
            </a:r>
            <a:r>
              <a:rPr b="1" lang="zh-CN" sz="4400" spc="-1" strike="noStrike">
                <a:solidFill>
                  <a:srgbClr val="ff0000"/>
                </a:solidFill>
                <a:latin typeface="宋体"/>
              </a:rPr>
              <a:t>鼓励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巨人：“</a:t>
            </a:r>
            <a:r>
              <a:rPr b="1" lang="zh-CN" sz="4400" spc="-1" strike="noStrike">
                <a:solidFill>
                  <a:srgbClr val="ff0066"/>
                </a:solidFill>
                <a:latin typeface="宋体"/>
              </a:rPr>
              <a:t>试一试吧！你身强力壮，也许能爬上去</a:t>
            </a:r>
            <a:r>
              <a:rPr b="1" lang="zh-CN" sz="4400" spc="-1" strike="noStrike">
                <a:solidFill>
                  <a:srgbClr val="0033cc"/>
                </a:solidFill>
                <a:latin typeface="宋体"/>
              </a:rPr>
              <a:t>。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6T12:26:53Z</dcterms:created>
  <dc:creator>微软用户</dc:creator>
  <dc:description/>
  <dc:language>en-US</dc:language>
  <cp:lastModifiedBy>微软用户</cp:lastModifiedBy>
  <dcterms:modified xsi:type="dcterms:W3CDTF">2014-11-09T03:43:47Z</dcterms:modified>
  <cp:revision>173</cp:revision>
  <dc:subject/>
  <dc:title>幻灯片 1</dc:title>
</cp:coreProperties>
</file>