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C62-C941-4371-9796-C3358910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77E-D4A6-4B59-A0D0-C19C2B54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4D6-7B88-4CD5-81A2-E0D1EBA4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FDB-3BD4-42E8-AB36-2AA3B3A4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F0D-7E52-46CF-BE78-16302084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050-1B8B-4C97-8899-FEB257A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994-3A10-434D-BC22-5DE2B80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F12-754E-4160-99FA-C1144348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E6D-B42F-498C-BA81-115B42CC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F3D-283A-45CA-B937-BCA404C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A68-6EB9-42D9-B3F0-CF64F12A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492-2EF5-44D7-9473-BB2E9A0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76C8-CAF3-4DD5-A712-DD8746BC7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48000" cy="312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692280"/>
            <a:ext cx="5040000" cy="1800000"/>
          </a:xfrm>
          <a:prstGeom prst="wedgeEllipseCallout">
            <a:avLst>
              <a:gd name="adj1" fmla="val -40425"/>
              <a:gd name="adj2" fmla="val 8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们好，我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00_vjx3CV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87280" y="285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7164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0000" y="328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鼓励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巨人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“试一试吧！你身强力壮，也许能爬上去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42920" y="4724280"/>
            <a:ext cx="7561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“试一试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773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15620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胡子爷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巨人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试一试吧！你身强力壮，也许能爬上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5280" y="981000"/>
            <a:ext cx="47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用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标出蚂蚁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50560" y="3212280"/>
            <a:ext cx="2519280" cy="863640"/>
          </a:xfrm>
          <a:prstGeom prst="wedgeEllipseCallout">
            <a:avLst>
              <a:gd name="adj1" fmla="val -43888"/>
              <a:gd name="adj2" fmla="val -1224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565360"/>
            <a:ext cx="3024360" cy="609480"/>
          </a:xfrm>
          <a:prstGeom prst="wedgeEllipseCallout">
            <a:avLst>
              <a:gd name="adj1" fmla="val 24592"/>
              <a:gd name="adj2" fmla="val 2320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1700280"/>
            <a:ext cx="3673440" cy="609480"/>
          </a:xfrm>
          <a:prstGeom prst="wedgeEllipseCallout">
            <a:avLst>
              <a:gd name="adj1" fmla="val 5402"/>
              <a:gd name="adj2" fmla="val 1796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30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用手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1400" y="263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嘴不出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8400" y="17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读得更快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016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942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爬到天上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4200" y="21337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78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94012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08480" y="148428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6842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诚信   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738600">
            <a:off x="2004480" y="2255400"/>
            <a:ext cx="1079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停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不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只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 rot="720000">
            <a:off x="6027840" y="285480"/>
            <a:ext cx="977760" cy="43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上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天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能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不行，我爬不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4890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到天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只要我一步一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爬，         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爬到天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326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765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想做成一件事，靠的不是身材、体力等物质方面的条件，而是要有坚持不懈、努力进取的恒心和毅力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06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剑锋从磨砺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梅花香自苦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ē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446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 蚁      云 霄      常 常      俯 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抬 头      酸 痛      鼓 励      仰 望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134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ǎ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160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1413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há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2573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5240" y="12906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材魁伟       身强力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83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836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784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2857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98920" y="285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w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8280"/>
            <a:ext cx="860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   云霄    常常    俯下    仰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励   抬头    试一试    通天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材魁伟      身强力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612612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32000" y="62064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  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508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快速读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——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~~~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画出描写通天树高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棵树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很高很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入了云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56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干往上爬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抬头仰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脖子都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也望不到树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6165720"/>
            <a:ext cx="28764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06920" y="1700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284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白胡子爷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鼓励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巨人：“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试一试吧！你身强力壮，也许能爬上去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6:53Z</dcterms:created>
  <dc:creator>微软用户</dc:creator>
  <dc:description/>
  <dc:language>en-US</dc:language>
  <cp:lastModifiedBy>微软用户</cp:lastModifiedBy>
  <dcterms:modified xsi:type="dcterms:W3CDTF">2014-11-09T03:43:47Z</dcterms:modified>
  <cp:revision>173</cp:revision>
  <dc:subject/>
  <dc:title>幻灯片 1</dc:title>
</cp:coreProperties>
</file>