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C82-09EA-4CD6-A360-3173C90B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8DD-3C6D-4994-8CBD-08C5EAED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8FA-2F00-4676-B208-772CDA9E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141-8263-476B-8BE5-31A8BFD2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1F4-B548-4BD0-AC62-312440B0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5D4-380C-4E45-B053-C8B0CEB0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60D-B0ED-4CF5-B188-7DE1FB3B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B17-55F4-4EED-BA6D-E36D03CA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07D-2E37-406E-A5E2-21E6C79C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84C-93DD-474F-9E59-475D3F11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FA7-34BC-4DF5-8C35-8A8F9B37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F32-4969-46F8-85A4-7179D3AA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8D06-3141-47EB-92FB-57A2A174E8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248000" cy="312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80000" y="692280"/>
            <a:ext cx="5040000" cy="1800000"/>
          </a:xfrm>
          <a:prstGeom prst="wedgeEllipseCallout">
            <a:avLst>
              <a:gd name="adj1" fmla="val -40425"/>
              <a:gd name="adj2" fmla="val 84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朋友们好，我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蚂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8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284720" y="476280"/>
            <a:ext cx="4176720" cy="2521080"/>
          </a:xfrm>
          <a:prstGeom prst="wedgeEllipseCallout">
            <a:avLst>
              <a:gd name="adj1" fmla="val -72157"/>
              <a:gd name="adj2" fmla="val -29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爬不上去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500_vjx3CV7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187280" y="2852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771640" y="2060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900000" y="328464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5050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鼓励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Arial"/>
                <a:ea typeface="楷体_GB2312"/>
              </a:rPr>
              <a:t>巨人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 “试一试吧！你身强力壮，也许能爬上去。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042920" y="4724280"/>
            <a:ext cx="7561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鼓励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“试一试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!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                   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1773360"/>
            <a:ext cx="727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66760" y="156204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白胡子爷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鼓励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巨人：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试一试吧！你身强力壮，也许能爬上去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80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84720" y="476280"/>
            <a:ext cx="4176720" cy="2521080"/>
          </a:xfrm>
          <a:prstGeom prst="wedgeEllipseCallout">
            <a:avLst>
              <a:gd name="adj1" fmla="val -72157"/>
              <a:gd name="adj2" fmla="val -29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爬不上去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612720" y="-458640"/>
            <a:ext cx="9756720" cy="7632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5280" y="981000"/>
            <a:ext cx="47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默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—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，用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标出蚂蚁说的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3313080" cy="2665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250560" y="3212280"/>
            <a:ext cx="2519280" cy="863640"/>
          </a:xfrm>
          <a:prstGeom prst="wedgeEllipseCallout">
            <a:avLst>
              <a:gd name="adj1" fmla="val -43888"/>
              <a:gd name="adj2" fmla="val -12243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1640" y="2565360"/>
            <a:ext cx="3024360" cy="609480"/>
          </a:xfrm>
          <a:prstGeom prst="wedgeEllipseCallout">
            <a:avLst>
              <a:gd name="adj1" fmla="val 24592"/>
              <a:gd name="adj2" fmla="val 2320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1700280"/>
            <a:ext cx="3673440" cy="609480"/>
          </a:xfrm>
          <a:prstGeom prst="wedgeEllipseCallout">
            <a:avLst>
              <a:gd name="adj1" fmla="val 5402"/>
              <a:gd name="adj2" fmla="val 17968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3040" y="3429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用手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81400" y="2630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嘴不出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08400" y="1766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读得更快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201636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94200" y="90792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能爬到天上去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94200" y="213372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能行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3789360"/>
            <a:ext cx="65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要我一步一步不停地爬，就一定能爬到天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03640" y="1484280"/>
            <a:ext cx="2940120" cy="3384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08480" y="1484280"/>
            <a:ext cx="244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00"/>
                </a:solidFill>
                <a:latin typeface="Arial"/>
                <a:ea typeface="楷体_GB2312"/>
              </a:rPr>
              <a:t>信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4724280"/>
            <a:ext cx="684216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信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诚信   信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 rot="738600">
            <a:off x="2004480" y="2255400"/>
            <a:ext cx="10796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爬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停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不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步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步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我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要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只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128" name=""/>
          <p:cNvSpPr txBox="1"/>
          <p:nvPr/>
        </p:nvSpPr>
        <p:spPr>
          <a:xfrm rot="720000">
            <a:off x="6027840" y="285480"/>
            <a:ext cx="977760" cy="43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上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天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爬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能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定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就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76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巨人：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哟，要想爬上去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根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可能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484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巨人：不行，我爬不上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24890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爬到天上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357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能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22100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只要我一步一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地爬，         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能爬到天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09308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283264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765000"/>
            <a:ext cx="87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要想做成一件事，靠的不是身材、体力等物质方面的条件，而是要有坚持不懈、努力进取的恒心和毅力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2060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宝剑锋从磨砺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梅花香自苦寒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1628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ē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628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l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04000" y="1557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0560" y="434880"/>
            <a:ext cx="19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语大冲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844640"/>
            <a:ext cx="88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蚂 蚁      云 霄      常 常      俯 下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抬 头      酸 痛      鼓 励      仰 望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760" y="1341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mǎ y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1600" y="134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x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98960" y="14130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Chá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1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f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2573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38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565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t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2565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yǎ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5240" y="129060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连连告退     充满自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身材魁伟       身强力壮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83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t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83664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hō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57840" y="76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xì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28576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ku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98920" y="2857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wě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0560" y="434880"/>
            <a:ext cx="19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语大冲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268280"/>
            <a:ext cx="860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蚂蚁   云霄    常常    俯下    仰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鼓励   抬头    试一试    通天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连连告退     充满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身材魁伟      身强力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4000" y="6126120"/>
            <a:ext cx="1332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40360" y="5373720"/>
            <a:ext cx="2016000" cy="148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132000" y="620640"/>
            <a:ext cx="53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身强力壮  身材魁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5084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很小很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9200" y="189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自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70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快速读文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——3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用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~~~”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画出描写通天树高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907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棵树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很高很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高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插入了云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2565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树干往上爬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往上爬，就能爬到天上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292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抬头仰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脖子都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，也望不到树尖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6165720"/>
            <a:ext cx="28728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43640" y="6165720"/>
            <a:ext cx="28728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48360" y="6165720"/>
            <a:ext cx="28764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06920" y="1700280"/>
            <a:ext cx="453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好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哟，要想爬上去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根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可能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30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328464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白胡子爷爷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鼓励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巨人：“</a:t>
            </a: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试一试吧！你身强力壮，也许能爬上去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2:26:53Z</dcterms:created>
  <dc:creator>微软用户</dc:creator>
  <dc:description/>
  <dc:language>en-US</dc:language>
  <cp:lastModifiedBy>微软用户</cp:lastModifiedBy>
  <dcterms:modified xsi:type="dcterms:W3CDTF">2014-11-09T03:43:47Z</dcterms:modified>
  <cp:revision>173</cp:revision>
  <dc:subject/>
  <dc:title>幻灯片 1</dc:title>
</cp:coreProperties>
</file>