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032-1C33-49F3-B10D-97A097ED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773-607D-4A72-9C8B-F48DA638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4D8-D44A-4C19-999F-75DDF0FB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AF3-6190-40F8-9AD5-7C032807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033-B27D-42DF-959B-F5C3A592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CE1-3454-4DC9-807E-8FC0C117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530-5CF0-4C79-97E7-9233BE9F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1DD-6635-478C-8B9A-AF8350AA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713-39C3-46C5-9E12-A1643606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5B3-CD33-4A69-96CB-DF7C9E0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6CE-E2B7-4C6B-BE87-4A78D608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B24-8691-48D9-89AE-42F4FF5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EDA-C32D-4277-806E-3A4027DDA2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248000" cy="312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692280"/>
            <a:ext cx="5040000" cy="1800000"/>
          </a:xfrm>
          <a:prstGeom prst="wedgeEllipseCallout">
            <a:avLst>
              <a:gd name="adj1" fmla="val -40425"/>
              <a:gd name="adj2" fmla="val 8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朋友们好，我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蚂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00_vjx3CV7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87280" y="2852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7164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00000" y="3284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505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鼓励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巨人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 “试一试吧！你身强力壮，也许能爬上去。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42920" y="4724280"/>
            <a:ext cx="7561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鼓励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“试一试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!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77336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66760" y="156204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白胡子爷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鼓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巨人：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试一试吧！你身强力壮，也许能爬上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612720" y="-458640"/>
            <a:ext cx="9756720" cy="7632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5280" y="981000"/>
            <a:ext cx="47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默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—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用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标出蚂蚁说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31308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250560" y="3212280"/>
            <a:ext cx="2519280" cy="863640"/>
          </a:xfrm>
          <a:prstGeom prst="wedgeEllipseCallout">
            <a:avLst>
              <a:gd name="adj1" fmla="val -43888"/>
              <a:gd name="adj2" fmla="val -1224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2565360"/>
            <a:ext cx="3024360" cy="609480"/>
          </a:xfrm>
          <a:prstGeom prst="wedgeEllipseCallout">
            <a:avLst>
              <a:gd name="adj1" fmla="val 24592"/>
              <a:gd name="adj2" fmla="val 2320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1700280"/>
            <a:ext cx="3673440" cy="609480"/>
          </a:xfrm>
          <a:prstGeom prst="wedgeEllipseCallout">
            <a:avLst>
              <a:gd name="adj1" fmla="val 5402"/>
              <a:gd name="adj2" fmla="val 17968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304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用手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81400" y="2630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嘴不出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08400" y="1766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读得更快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2016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94200" y="9079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能爬到天上去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94200" y="21337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378936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我一步一步不停地爬，就一定能爬到天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94012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08480" y="148428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4724280"/>
            <a:ext cx="684216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信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诚信   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738600">
            <a:off x="2004480" y="2255400"/>
            <a:ext cx="1079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停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不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我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只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128" name=""/>
          <p:cNvSpPr txBox="1"/>
          <p:nvPr/>
        </p:nvSpPr>
        <p:spPr>
          <a:xfrm rot="720000">
            <a:off x="6027840" y="285480"/>
            <a:ext cx="977760" cy="43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上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天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能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就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76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84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不行，我爬不上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4890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爬到天上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357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能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221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只要我一步一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爬，         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能爬到天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9308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8326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76500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要想做成一件事，靠的不是身材、体力等物质方面的条件，而是要有坚持不懈、努力进取的恒心和毅力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06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宝剑锋从磨砺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梅花香自苦寒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162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ē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155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844640"/>
            <a:ext cx="88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 蚁      云 霄      常 常      俯 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抬 头      酸 痛      鼓 励      仰 望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760" y="134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ǎ y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1600" y="134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98960" y="1413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há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2573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8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56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5240" y="129060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身材魁伟       身强力壮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83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8366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ō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5784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28576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k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98920" y="2857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w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8280"/>
            <a:ext cx="860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蚁   云霄    常常    俯下    仰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鼓励   抬头    试一试    通天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身材魁伟      身强力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6126120"/>
            <a:ext cx="1332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40360" y="537372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32000" y="620640"/>
            <a:ext cx="53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强力壮  身材魁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5084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小很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9200" y="1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70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快速读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——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用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~~~”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画出描写通天树高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907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棵树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很高很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高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插入了云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56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树干往上爬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往上爬，就能爬到天上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292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抬头仰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脖子都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，也望不到树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6165720"/>
            <a:ext cx="28764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06920" y="170028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30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328464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白胡子爷爷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鼓励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巨人：“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试一试吧！你身强力壮，也许能爬上去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6:53Z</dcterms:created>
  <dc:creator>微软用户</dc:creator>
  <dc:description/>
  <dc:language>en-US</dc:language>
  <cp:lastModifiedBy>微软用户</cp:lastModifiedBy>
  <dcterms:modified xsi:type="dcterms:W3CDTF">2014-11-09T03:43:47Z</dcterms:modified>
  <cp:revision>173</cp:revision>
  <dc:subject/>
  <dc:title>幻灯片 1</dc:title>
</cp:coreProperties>
</file>