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786-C314-4212-B471-8D046AB4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DF7-A184-4AD7-A1B3-F6F0CCED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126-1750-4722-A655-7B02D69B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211-CFE5-43FC-9B94-9B8FD757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AD5-A7D5-4660-BBA8-273DCEDD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22C-26D2-4A6D-947D-4D9D7768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286-60FA-427C-B36E-F08F0CF1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ABD-E631-4C32-8040-5FB11194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30D-6DAD-454D-B38A-E8EFA1C2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D76-5E3D-4A04-8CBB-091EBD8D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958-5298-493F-8178-A81DE43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E34-4961-43CB-9553-32708979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88D8-4855-4E2C-83B3-8CF5B0C768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48000" cy="312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692280"/>
            <a:ext cx="5040000" cy="1800000"/>
          </a:xfrm>
          <a:prstGeom prst="wedgeEllipseCallout">
            <a:avLst>
              <a:gd name="adj1" fmla="val -40425"/>
              <a:gd name="adj2" fmla="val 8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朋友们好，我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00_vjx3CV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87280" y="285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7164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00000" y="328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鼓励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巨人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 “试一试吧！你身强力壮，也许能爬上去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42920" y="4724280"/>
            <a:ext cx="7561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“试一试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773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66760" y="15620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胡子爷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鼓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巨人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试一试吧！你身强力壮，也许能爬上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5280" y="981000"/>
            <a:ext cx="47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默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用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标出蚂蚁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31308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50560" y="3212280"/>
            <a:ext cx="2519280" cy="863640"/>
          </a:xfrm>
          <a:prstGeom prst="wedgeEllipseCallout">
            <a:avLst>
              <a:gd name="adj1" fmla="val -43888"/>
              <a:gd name="adj2" fmla="val -1224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565360"/>
            <a:ext cx="3024360" cy="609480"/>
          </a:xfrm>
          <a:prstGeom prst="wedgeEllipseCallout">
            <a:avLst>
              <a:gd name="adj1" fmla="val 24592"/>
              <a:gd name="adj2" fmla="val 2320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1700280"/>
            <a:ext cx="3673440" cy="609480"/>
          </a:xfrm>
          <a:prstGeom prst="wedgeEllipseCallout">
            <a:avLst>
              <a:gd name="adj1" fmla="val 5402"/>
              <a:gd name="adj2" fmla="val 1796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304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用手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81400" y="263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嘴不出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08400" y="17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读得更快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016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942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爬到天上去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4200" y="21337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78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我一步一步不停地爬，就一定能爬到天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94012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08480" y="148428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6842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诚信   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738600">
            <a:off x="2004480" y="2255400"/>
            <a:ext cx="1079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停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不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只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 rot="720000">
            <a:off x="6027840" y="285480"/>
            <a:ext cx="977760" cy="43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上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天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能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就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76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不行，我爬不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4890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到天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35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能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21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只要我一步一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爬，         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爬到天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9308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326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765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想做成一件事，靠的不是身材、体力等物质方面的条件，而是要有坚持不懈、努力进取的恒心和毅力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06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剑锋从磨砺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梅花香自苦寒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ē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4464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 蚁      云 霄      常 常      俯 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抬 头      酸 痛      鼓 励      仰 望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760" y="134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ǎ y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160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1413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há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2573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5240" y="12906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材魁伟       身强力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83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836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784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2857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98920" y="285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w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8280"/>
            <a:ext cx="860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蚁   云霄    常常    俯下    仰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励   抬头    试一试    通天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材魁伟      身强力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612612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32000" y="62064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强力壮  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508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小很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9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70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快速读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——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~~~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画出描写通天树高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棵树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很高很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高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插入了云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56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树干往上爬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就能爬到天上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29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抬头仰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脖子都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也望不到树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6165720"/>
            <a:ext cx="28764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06920" y="1700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30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3284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白胡子爷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鼓励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巨人：“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试一试吧！你身强力壮，也许能爬上去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6:53Z</dcterms:created>
  <dc:creator>微软用户</dc:creator>
  <dc:description/>
  <dc:language>en-US</dc:language>
  <cp:lastModifiedBy>微软用户</cp:lastModifiedBy>
  <dcterms:modified xsi:type="dcterms:W3CDTF">2014-11-09T03:43:47Z</dcterms:modified>
  <cp:revision>173</cp:revision>
  <dc:subject/>
  <dc:title>幻灯片 1</dc:title>
</cp:coreProperties>
</file>