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8BD-6B6D-4937-A90B-0247373D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38B-5DF6-42CE-97E2-629781BA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EEA-F7CE-4F02-81A5-E21B1964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212-9AD7-4510-A554-AFE17973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1B8E-05DB-4609-A9A1-8CCFBB87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D15-172A-46B0-9080-0DC0DA80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78B-B20B-45E2-8CDA-7B817149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4D5-3096-4749-8F1D-E02B2D1B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EAC-4DBD-40BD-8F39-587CD4BE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46C-7FC4-4C74-86E0-B80A9DB5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B99-D94E-474C-A26E-73F96E43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232-D883-42BD-86BE-8DD64323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B07E-D4B0-47EB-9F61-7922655A523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85DE-51A8-428A-AF44-8CB412A385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3" descr=""/>
          <p:cNvPicPr/>
          <p:nvPr/>
        </p:nvPicPr>
        <p:blipFill>
          <a:blip r:embed="rId1"/>
          <a:stretch/>
        </p:blipFill>
        <p:spPr>
          <a:xfrm>
            <a:off x="2155680" y="2359080"/>
            <a:ext cx="5294520" cy="15415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34"/>
          <p:cNvSpPr/>
          <p:nvPr/>
        </p:nvSpPr>
        <p:spPr>
          <a:xfrm rot="3483000">
            <a:off x="216360" y="3370680"/>
            <a:ext cx="3600360" cy="21132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33"/>
          <p:cNvSpPr/>
          <p:nvPr/>
        </p:nvSpPr>
        <p:spPr>
          <a:xfrm rot="8115000">
            <a:off x="2204280" y="361332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29"/>
          <p:cNvSpPr/>
          <p:nvPr/>
        </p:nvSpPr>
        <p:spPr>
          <a:xfrm rot="9900000">
            <a:off x="2625480" y="4334040"/>
            <a:ext cx="3600360" cy="21240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1" descr=""/>
          <p:cNvPicPr/>
          <p:nvPr/>
        </p:nvPicPr>
        <p:blipFill>
          <a:blip r:embed="rId2"/>
          <a:stretch/>
        </p:blipFill>
        <p:spPr>
          <a:xfrm>
            <a:off x="538200" y="1281240"/>
            <a:ext cx="7056360" cy="426960"/>
          </a:xfrm>
          <a:prstGeom prst="rect">
            <a:avLst/>
          </a:prstGeom>
          <a:ln w="0">
            <a:noFill/>
          </a:ln>
        </p:spPr>
      </p:pic>
      <p:sp>
        <p:nvSpPr>
          <p:cNvPr id="746" name="矩形 2"/>
          <p:cNvSpPr/>
          <p:nvPr/>
        </p:nvSpPr>
        <p:spPr>
          <a:xfrm>
            <a:off x="2673360" y="392436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25"/>
          <p:cNvSpPr/>
          <p:nvPr/>
        </p:nvSpPr>
        <p:spPr>
          <a:xfrm>
            <a:off x="2685960" y="4756320"/>
            <a:ext cx="3600720" cy="212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图片 4" descr=""/>
          <p:cNvPicPr/>
          <p:nvPr/>
        </p:nvPicPr>
        <p:blipFill>
          <a:blip r:embed="rId3"/>
          <a:stretch/>
        </p:blipFill>
        <p:spPr>
          <a:xfrm>
            <a:off x="538200" y="2019240"/>
            <a:ext cx="2809800" cy="12366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0" descr=""/>
          <p:cNvPicPr/>
          <p:nvPr/>
        </p:nvPicPr>
        <p:blipFill>
          <a:blip r:embed="rId4"/>
          <a:stretch/>
        </p:blipFill>
        <p:spPr>
          <a:xfrm>
            <a:off x="2795760" y="4786200"/>
            <a:ext cx="177480" cy="13824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5" descr=""/>
          <p:cNvPicPr/>
          <p:nvPr/>
        </p:nvPicPr>
        <p:blipFill>
          <a:blip r:embed="rId5"/>
          <a:stretch/>
        </p:blipFill>
        <p:spPr>
          <a:xfrm>
            <a:off x="490680" y="1998720"/>
            <a:ext cx="2904840" cy="137772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6" descr=""/>
          <p:cNvPicPr/>
          <p:nvPr/>
        </p:nvPicPr>
        <p:blipFill>
          <a:blip r:embed="rId6"/>
          <a:stretch/>
        </p:blipFill>
        <p:spPr>
          <a:xfrm>
            <a:off x="5564160" y="2097000"/>
            <a:ext cx="2968560" cy="8002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矩形 47"/>
          <p:cNvSpPr/>
          <p:nvPr/>
        </p:nvSpPr>
        <p:spPr>
          <a:xfrm rot="10800000">
            <a:off x="3997080" y="509112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46"/>
          <p:cNvSpPr/>
          <p:nvPr/>
        </p:nvSpPr>
        <p:spPr>
          <a:xfrm rot="12393600">
            <a:off x="3844800" y="5834880"/>
            <a:ext cx="3600720" cy="21132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45"/>
          <p:cNvSpPr/>
          <p:nvPr/>
        </p:nvSpPr>
        <p:spPr>
          <a:xfrm rot="16006800">
            <a:off x="2494440" y="6734520"/>
            <a:ext cx="3600360" cy="21132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44"/>
          <p:cNvSpPr/>
          <p:nvPr/>
        </p:nvSpPr>
        <p:spPr>
          <a:xfrm rot="18798600">
            <a:off x="1330920" y="627408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43"/>
          <p:cNvSpPr/>
          <p:nvPr/>
        </p:nvSpPr>
        <p:spPr>
          <a:xfrm rot="19984800">
            <a:off x="936720" y="5796000"/>
            <a:ext cx="359892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40"/>
          <p:cNvSpPr/>
          <p:nvPr/>
        </p:nvSpPr>
        <p:spPr>
          <a:xfrm>
            <a:off x="784080" y="5097600"/>
            <a:ext cx="359892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37"/>
          <p:cNvSpPr/>
          <p:nvPr/>
        </p:nvSpPr>
        <p:spPr>
          <a:xfrm rot="3970800">
            <a:off x="1748520" y="360900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32"/>
          <p:cNvSpPr/>
          <p:nvPr/>
        </p:nvSpPr>
        <p:spPr>
          <a:xfrm rot="5400000">
            <a:off x="2396520" y="3470040"/>
            <a:ext cx="3600720" cy="2127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33"/>
          <p:cNvSpPr/>
          <p:nvPr/>
        </p:nvSpPr>
        <p:spPr>
          <a:xfrm rot="8838600">
            <a:off x="3760920" y="4200120"/>
            <a:ext cx="3598560" cy="2127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25"/>
          <p:cNvSpPr/>
          <p:nvPr/>
        </p:nvSpPr>
        <p:spPr>
          <a:xfrm>
            <a:off x="3995640" y="5087880"/>
            <a:ext cx="3600720" cy="2113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30" descr=""/>
          <p:cNvPicPr/>
          <p:nvPr/>
        </p:nvPicPr>
        <p:blipFill>
          <a:blip r:embed="rId1"/>
          <a:stretch/>
        </p:blipFill>
        <p:spPr>
          <a:xfrm>
            <a:off x="4105440" y="5121360"/>
            <a:ext cx="177480" cy="13788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" descr=""/>
          <p:cNvPicPr/>
          <p:nvPr/>
        </p:nvPicPr>
        <p:blipFill>
          <a:blip r:embed="rId2"/>
          <a:stretch/>
        </p:blipFill>
        <p:spPr>
          <a:xfrm>
            <a:off x="360360" y="1278000"/>
            <a:ext cx="8604360" cy="395280"/>
          </a:xfrm>
          <a:prstGeom prst="rect">
            <a:avLst/>
          </a:prstGeom>
          <a:ln w="0">
            <a:noFill/>
          </a:ln>
        </p:spPr>
      </p:pic>
      <p:sp>
        <p:nvSpPr>
          <p:cNvPr id="782" name="弧形 7"/>
          <p:cNvSpPr/>
          <p:nvPr/>
        </p:nvSpPr>
        <p:spPr>
          <a:xfrm>
            <a:off x="4932360" y="4726080"/>
            <a:ext cx="395280" cy="718920"/>
          </a:xfrm>
          <a:custGeom>
            <a:avLst/>
            <a:gdLst/>
            <a:ahLst/>
            <a:rect l="l" t="t" r="r" b="b"/>
            <a:pathLst>
              <a:path stroke="0" w="396000" h="720000">
                <a:moveTo>
                  <a:pt x="142117" y="14636"/>
                </a:moveTo>
                <a:cubicBezTo>
                  <a:pt x="226276" y="-30381"/>
                  <a:pt x="316694" y="30656"/>
                  <a:pt x="364304" y="164624"/>
                </a:cubicBezTo>
                <a:cubicBezTo>
                  <a:pt x="384994" y="222843"/>
                  <a:pt x="396000" y="290685"/>
                  <a:pt x="396000" y="360000"/>
                </a:cubicBezTo>
                <a:lnTo>
                  <a:pt x="198000" y="360000"/>
                </a:lnTo>
                <a:lnTo>
                  <a:pt x="142117" y="14636"/>
                </a:lnTo>
                <a:close/>
              </a:path>
              <a:path fill="none" w="396000" h="720000">
                <a:moveTo>
                  <a:pt x="142117" y="14636"/>
                </a:moveTo>
                <a:cubicBezTo>
                  <a:pt x="226276" y="-30381"/>
                  <a:pt x="316694" y="30656"/>
                  <a:pt x="364304" y="164624"/>
                </a:cubicBezTo>
                <a:cubicBezTo>
                  <a:pt x="384994" y="222843"/>
                  <a:pt x="396000" y="290685"/>
                  <a:pt x="396000" y="360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8"/>
          <p:cNvSpPr/>
          <p:nvPr/>
        </p:nvSpPr>
        <p:spPr>
          <a:xfrm>
            <a:off x="5241960" y="5646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弧形 35"/>
          <p:cNvSpPr/>
          <p:nvPr/>
        </p:nvSpPr>
        <p:spPr>
          <a:xfrm>
            <a:off x="4013280" y="4721400"/>
            <a:ext cx="718920" cy="720720"/>
          </a:xfrm>
          <a:custGeom>
            <a:avLst/>
            <a:gdLst/>
            <a:ahLst/>
            <a:rect l="l" t="t" r="r" b="b"/>
            <a:pathLst>
              <a:path stroke="0" w="720000" h="720000">
                <a:moveTo>
                  <a:pt x="302497" y="4622"/>
                </a:moveTo>
                <a:cubicBezTo>
                  <a:pt x="406667" y="-12234"/>
                  <a:pt x="512988" y="17465"/>
                  <a:pt x="593344" y="85864"/>
                </a:cubicBezTo>
                <a:cubicBezTo>
                  <a:pt x="673700" y="154263"/>
                  <a:pt x="720000" y="254475"/>
                  <a:pt x="720000" y="360000"/>
                </a:cubicBezTo>
                <a:lnTo>
                  <a:pt x="360000" y="360000"/>
                </a:lnTo>
                <a:lnTo>
                  <a:pt x="302497" y="4622"/>
                </a:lnTo>
                <a:close/>
              </a:path>
              <a:path fill="none" w="720000" h="720000">
                <a:moveTo>
                  <a:pt x="302497" y="4622"/>
                </a:moveTo>
                <a:cubicBezTo>
                  <a:pt x="406667" y="-12234"/>
                  <a:pt x="512988" y="17465"/>
                  <a:pt x="593344" y="85864"/>
                </a:cubicBezTo>
                <a:cubicBezTo>
                  <a:pt x="673700" y="154263"/>
                  <a:pt x="720000" y="254475"/>
                  <a:pt x="720000" y="360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36"/>
          <p:cNvSpPr/>
          <p:nvPr/>
        </p:nvSpPr>
        <p:spPr>
          <a:xfrm>
            <a:off x="5241960" y="5637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38"/>
          <p:cNvSpPr/>
          <p:nvPr/>
        </p:nvSpPr>
        <p:spPr>
          <a:xfrm>
            <a:off x="5245200" y="5657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弧形 39"/>
          <p:cNvSpPr/>
          <p:nvPr/>
        </p:nvSpPr>
        <p:spPr>
          <a:xfrm>
            <a:off x="3589200" y="4630680"/>
            <a:ext cx="1079640" cy="936720"/>
          </a:xfrm>
          <a:custGeom>
            <a:avLst/>
            <a:gdLst/>
            <a:ahLst/>
            <a:rect l="l" t="t" r="r" b="b"/>
            <a:pathLst>
              <a:path stroke="0" w="1080000" h="936000">
                <a:moveTo>
                  <a:pt x="465007" y="4535"/>
                </a:moveTo>
                <a:cubicBezTo>
                  <a:pt x="604894" y="-12466"/>
                  <a:pt x="746898" y="18714"/>
                  <a:pt x="860570" y="91389"/>
                </a:cubicBezTo>
                <a:cubicBezTo>
                  <a:pt x="998559" y="179612"/>
                  <a:pt x="1080000" y="319389"/>
                  <a:pt x="1080000" y="468000"/>
                </a:cubicBezTo>
                <a:lnTo>
                  <a:pt x="540000" y="468000"/>
                </a:lnTo>
                <a:lnTo>
                  <a:pt x="465007" y="4535"/>
                </a:lnTo>
                <a:close/>
              </a:path>
              <a:path fill="none" w="1080000" h="936000">
                <a:moveTo>
                  <a:pt x="465007" y="4535"/>
                </a:moveTo>
                <a:cubicBezTo>
                  <a:pt x="604894" y="-12466"/>
                  <a:pt x="746898" y="18714"/>
                  <a:pt x="860570" y="91389"/>
                </a:cubicBezTo>
                <a:cubicBezTo>
                  <a:pt x="998559" y="179612"/>
                  <a:pt x="1080000" y="319389"/>
                  <a:pt x="1080000" y="468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弧形 41"/>
          <p:cNvSpPr/>
          <p:nvPr/>
        </p:nvSpPr>
        <p:spPr>
          <a:xfrm>
            <a:off x="3565440" y="4635360"/>
            <a:ext cx="1079640" cy="935280"/>
          </a:xfrm>
          <a:custGeom>
            <a:avLst/>
            <a:gdLst/>
            <a:ahLst/>
            <a:rect l="l" t="t" r="r" b="b"/>
            <a:pathLst>
              <a:path stroke="0" w="1080000" h="936000">
                <a:moveTo>
                  <a:pt x="327" y="451716"/>
                </a:moveTo>
                <a:cubicBezTo>
                  <a:pt x="10545" y="197363"/>
                  <a:pt x="253422" y="-3287"/>
                  <a:pt x="547058" y="40"/>
                </a:cubicBezTo>
                <a:cubicBezTo>
                  <a:pt x="842514" y="3387"/>
                  <a:pt x="1080000" y="211917"/>
                  <a:pt x="1080000" y="468000"/>
                </a:cubicBezTo>
                <a:lnTo>
                  <a:pt x="540000" y="468000"/>
                </a:lnTo>
                <a:lnTo>
                  <a:pt x="327" y="451716"/>
                </a:lnTo>
                <a:close/>
              </a:path>
              <a:path fill="none" w="1080000" h="936000">
                <a:moveTo>
                  <a:pt x="327" y="451716"/>
                </a:moveTo>
                <a:cubicBezTo>
                  <a:pt x="10545" y="197363"/>
                  <a:pt x="253422" y="-3287"/>
                  <a:pt x="547058" y="40"/>
                </a:cubicBezTo>
                <a:cubicBezTo>
                  <a:pt x="842514" y="3387"/>
                  <a:pt x="1080000" y="211917"/>
                  <a:pt x="1080000" y="468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42"/>
          <p:cNvSpPr/>
          <p:nvPr/>
        </p:nvSpPr>
        <p:spPr>
          <a:xfrm>
            <a:off x="5237280" y="563724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弧形 48"/>
          <p:cNvSpPr/>
          <p:nvPr/>
        </p:nvSpPr>
        <p:spPr>
          <a:xfrm>
            <a:off x="3621240" y="4664160"/>
            <a:ext cx="1079280" cy="936720"/>
          </a:xfrm>
          <a:custGeom>
            <a:avLst/>
            <a:gdLst/>
            <a:ahLst/>
            <a:rect l="l" t="t" r="r" b="b"/>
            <a:pathLst>
              <a:path stroke="0" w="1080000" h="936000">
                <a:moveTo>
                  <a:pt x="1058049" y="600078"/>
                </a:moveTo>
                <a:cubicBezTo>
                  <a:pt x="981737" y="824899"/>
                  <a:pt x="725323" y="966143"/>
                  <a:pt x="458054" y="930580"/>
                </a:cubicBezTo>
                <a:cubicBezTo>
                  <a:pt x="170730" y="892349"/>
                  <a:pt x="-30115" y="663856"/>
                  <a:pt x="3656" y="413630"/>
                </a:cubicBezTo>
                <a:cubicBezTo>
                  <a:pt x="36039" y="173684"/>
                  <a:pt x="273832" y="-5469"/>
                  <a:pt x="552505" y="125"/>
                </a:cubicBezTo>
                <a:cubicBezTo>
                  <a:pt x="834334" y="5783"/>
                  <a:pt x="1063721" y="198375"/>
                  <a:pt x="1079186" y="442325"/>
                </a:cubicBezTo>
                <a:lnTo>
                  <a:pt x="540000" y="468000"/>
                </a:lnTo>
                <a:lnTo>
                  <a:pt x="1058049" y="600078"/>
                </a:lnTo>
                <a:close/>
              </a:path>
              <a:path fill="none" w="1080000" h="936000">
                <a:moveTo>
                  <a:pt x="1058049" y="600078"/>
                </a:moveTo>
                <a:cubicBezTo>
                  <a:pt x="981737" y="824899"/>
                  <a:pt x="725323" y="966143"/>
                  <a:pt x="458054" y="930580"/>
                </a:cubicBezTo>
                <a:cubicBezTo>
                  <a:pt x="170730" y="892349"/>
                  <a:pt x="-30115" y="663856"/>
                  <a:pt x="3656" y="413630"/>
                </a:cubicBezTo>
                <a:cubicBezTo>
                  <a:pt x="36039" y="173684"/>
                  <a:pt x="273832" y="-5469"/>
                  <a:pt x="552505" y="125"/>
                </a:cubicBezTo>
                <a:cubicBezTo>
                  <a:pt x="834334" y="5783"/>
                  <a:pt x="1063721" y="198375"/>
                  <a:pt x="1079186" y="4423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49"/>
          <p:cNvSpPr/>
          <p:nvPr/>
        </p:nvSpPr>
        <p:spPr>
          <a:xfrm>
            <a:off x="5234040" y="5634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7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2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1" descr=""/>
          <p:cNvPicPr/>
          <p:nvPr/>
        </p:nvPicPr>
        <p:blipFill>
          <a:blip r:embed="rId2"/>
          <a:stretch/>
        </p:blipFill>
        <p:spPr>
          <a:xfrm>
            <a:off x="393840" y="1301760"/>
            <a:ext cx="6259320" cy="40644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2" descr=""/>
          <p:cNvPicPr/>
          <p:nvPr/>
        </p:nvPicPr>
        <p:blipFill>
          <a:blip r:embed="rId3"/>
          <a:stretch/>
        </p:blipFill>
        <p:spPr>
          <a:xfrm>
            <a:off x="1006560" y="2168640"/>
            <a:ext cx="6788160" cy="329724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509760" y="1471680"/>
            <a:ext cx="781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钟表上分别拨出锐角、直角、钝角、平角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角，和同伴一起做一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图片 1" descr=""/>
          <p:cNvPicPr/>
          <p:nvPr/>
        </p:nvPicPr>
        <p:blipFill>
          <a:blip r:embed="rId2"/>
          <a:stretch/>
        </p:blipFill>
        <p:spPr>
          <a:xfrm>
            <a:off x="2768760" y="3100320"/>
            <a:ext cx="324324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5" name="TextBox 9"/>
          <p:cNvSpPr/>
          <p:nvPr/>
        </p:nvSpPr>
        <p:spPr>
          <a:xfrm>
            <a:off x="509760" y="1471680"/>
            <a:ext cx="781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每个钟面，并写出时针和分针所形成的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图片 2" descr=""/>
          <p:cNvPicPr/>
          <p:nvPr/>
        </p:nvPicPr>
        <p:blipFill>
          <a:blip r:embed="rId2"/>
          <a:stretch/>
        </p:blipFill>
        <p:spPr>
          <a:xfrm>
            <a:off x="345960" y="2736720"/>
            <a:ext cx="8475840" cy="30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9"/>
          <p:cNvSpPr/>
          <p:nvPr/>
        </p:nvSpPr>
        <p:spPr>
          <a:xfrm>
            <a:off x="509760" y="1471680"/>
            <a:ext cx="781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点子图上分别画出一个锐角、直角、钝角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2"/>
          <a:stretch/>
        </p:blipFill>
        <p:spPr>
          <a:xfrm>
            <a:off x="853920" y="2852640"/>
            <a:ext cx="7473960" cy="232272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2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6286320" cy="199080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3" descr=""/>
          <p:cNvPicPr/>
          <p:nvPr/>
        </p:nvPicPr>
        <p:blipFill>
          <a:blip r:embed="rId3"/>
          <a:stretch/>
        </p:blipFill>
        <p:spPr>
          <a:xfrm>
            <a:off x="4875120" y="2708280"/>
            <a:ext cx="3086280" cy="193356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1" descr=""/>
          <p:cNvPicPr/>
          <p:nvPr/>
        </p:nvPicPr>
        <p:blipFill>
          <a:blip r:embed="rId2"/>
          <a:stretch/>
        </p:blipFill>
        <p:spPr>
          <a:xfrm>
            <a:off x="338040" y="1916280"/>
            <a:ext cx="8423280" cy="231588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9:18Z</dcterms:modified>
  <cp:revision>2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61a000000000001024140</vt:lpwstr>
  </property>
</Properties>
</file>