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F64-6D87-476A-A386-FF7FB3F7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688-E002-46C0-90E1-BD274F22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CD6-EE28-429D-8249-97E57CB3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24C-8108-42EC-9EC7-D85EA2A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E7D-B212-43FE-AAF0-B937BE4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0021-5ED4-47E1-BC09-C3DCAFDD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B2D-A44B-47D2-B499-6549CF2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F95-7CAF-467F-8B5B-33C89328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973-CD09-4B68-BFDD-79749DDE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F5B9-382A-4393-BAF0-B803C142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B89-D6D1-4AB4-B41C-4AFB5828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B41-D86D-4AA2-A0EA-156506B9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4B01-45F4-453B-B0E9-F4772051D6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2"/>
          <a:stretch/>
        </p:blipFill>
        <p:spPr>
          <a:xfrm>
            <a:off x="2119320" y="2211480"/>
            <a:ext cx="5337000" cy="15825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7" descr="10.png"/>
          <p:cNvPicPr/>
          <p:nvPr/>
        </p:nvPicPr>
        <p:blipFill>
          <a:blip r:embed="rId2"/>
          <a:stretch/>
        </p:blipFill>
        <p:spPr>
          <a:xfrm>
            <a:off x="395280" y="2003400"/>
            <a:ext cx="83613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714240" y="1413000"/>
            <a:ext cx="781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学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,2,3,4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五个数字，任意组成一个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和一个三位数，用计算器求出它们的积，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者获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图片 5" descr="11.png"/>
          <p:cNvPicPr/>
          <p:nvPr/>
        </p:nvPicPr>
        <p:blipFill>
          <a:blip r:embed="rId2"/>
          <a:stretch/>
        </p:blipFill>
        <p:spPr>
          <a:xfrm>
            <a:off x="714240" y="3284640"/>
            <a:ext cx="7818480" cy="17571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"/>
          <p:cNvPicPr/>
          <p:nvPr/>
        </p:nvPicPr>
        <p:blipFill>
          <a:blip r:embed="rId3"/>
          <a:stretch/>
        </p:blipFill>
        <p:spPr>
          <a:xfrm>
            <a:off x="1050840" y="5229360"/>
            <a:ext cx="62388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5" descr=""/>
          <p:cNvPicPr/>
          <p:nvPr/>
        </p:nvPicPr>
        <p:blipFill>
          <a:blip r:embed="rId1"/>
          <a:stretch/>
        </p:blipFill>
        <p:spPr>
          <a:xfrm>
            <a:off x="1417680" y="1222200"/>
            <a:ext cx="5584680" cy="3392640"/>
          </a:xfrm>
          <a:prstGeom prst="rect">
            <a:avLst/>
          </a:prstGeom>
          <a:ln w="0">
            <a:noFill/>
          </a:ln>
        </p:spPr>
      </p:pic>
      <p:sp>
        <p:nvSpPr>
          <p:cNvPr id="743" name="TextBox 25"/>
          <p:cNvSpPr/>
          <p:nvPr/>
        </p:nvSpPr>
        <p:spPr>
          <a:xfrm>
            <a:off x="1871640" y="4941720"/>
            <a:ext cx="57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千多年前，中国人用算筹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千多年前，中国人开始广泛使用算盘，使计算的速度快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1"/>
          <a:stretch/>
        </p:blipFill>
        <p:spPr>
          <a:xfrm>
            <a:off x="2340000" y="1222200"/>
            <a:ext cx="412596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5"/>
          <p:cNvSpPr/>
          <p:nvPr/>
        </p:nvSpPr>
        <p:spPr>
          <a:xfrm>
            <a:off x="1190520" y="494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第一台能按一定程序自动控制的计算机诞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386000" y="1052640"/>
            <a:ext cx="67467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2" descr=""/>
          <p:cNvPicPr/>
          <p:nvPr/>
        </p:nvPicPr>
        <p:blipFill>
          <a:blip r:embed="rId1"/>
          <a:stretch/>
        </p:blipFill>
        <p:spPr>
          <a:xfrm>
            <a:off x="33480" y="2705040"/>
            <a:ext cx="9144000" cy="242424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21" descr="6.png"/>
          <p:cNvPicPr/>
          <p:nvPr/>
        </p:nvPicPr>
        <p:blipFill>
          <a:blip r:embed="rId2"/>
          <a:stretch/>
        </p:blipFill>
        <p:spPr>
          <a:xfrm>
            <a:off x="627120" y="1222200"/>
            <a:ext cx="4373640" cy="212436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22" descr="8.png"/>
          <p:cNvPicPr/>
          <p:nvPr/>
        </p:nvPicPr>
        <p:blipFill>
          <a:blip r:embed="rId3"/>
          <a:stretch/>
        </p:blipFill>
        <p:spPr>
          <a:xfrm>
            <a:off x="5000760" y="1484280"/>
            <a:ext cx="40654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318960" y="1228680"/>
            <a:ext cx="8712360" cy="83196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9.png"/>
          <p:cNvPicPr/>
          <p:nvPr/>
        </p:nvPicPr>
        <p:blipFill>
          <a:blip r:embed="rId2"/>
          <a:stretch/>
        </p:blipFill>
        <p:spPr>
          <a:xfrm>
            <a:off x="2681280" y="1936800"/>
            <a:ext cx="3384720" cy="4200480"/>
          </a:xfrm>
          <a:prstGeom prst="rect">
            <a:avLst/>
          </a:prstGeom>
          <a:ln w="0">
            <a:noFill/>
          </a:ln>
        </p:spPr>
      </p:pic>
      <p:sp>
        <p:nvSpPr>
          <p:cNvPr id="827" name="线形标注 2(无边框) 25"/>
          <p:cNvSpPr/>
          <p:nvPr/>
        </p:nvSpPr>
        <p:spPr>
          <a:xfrm flipH="1">
            <a:off x="1440000" y="50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开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线形标注 2(无边框) 26"/>
          <p:cNvSpPr/>
          <p:nvPr/>
        </p:nvSpPr>
        <p:spPr>
          <a:xfrm flipH="1">
            <a:off x="1440000" y="3284640"/>
            <a:ext cx="900000" cy="7207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关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线形标注 2(无边框) 27"/>
          <p:cNvSpPr/>
          <p:nvPr/>
        </p:nvSpPr>
        <p:spPr>
          <a:xfrm flipH="1">
            <a:off x="1440000" y="4365720"/>
            <a:ext cx="900000" cy="718920"/>
          </a:xfr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清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547560" y="1222200"/>
            <a:ext cx="7324920" cy="4003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2"/>
          <a:stretch/>
        </p:blipFill>
        <p:spPr>
          <a:xfrm>
            <a:off x="576360" y="1844640"/>
            <a:ext cx="2771640" cy="4096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3"/>
          <a:stretch/>
        </p:blipFill>
        <p:spPr>
          <a:xfrm>
            <a:off x="1035000" y="2708280"/>
            <a:ext cx="6676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413000"/>
            <a:ext cx="78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计算器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"/>
          <p:cNvPicPr/>
          <p:nvPr/>
        </p:nvPicPr>
        <p:blipFill>
          <a:blip r:embed="rId2"/>
          <a:stretch/>
        </p:blipFill>
        <p:spPr>
          <a:xfrm>
            <a:off x="762120" y="2333520"/>
            <a:ext cx="76197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9"/>
          <p:cNvSpPr/>
          <p:nvPr/>
        </p:nvSpPr>
        <p:spPr>
          <a:xfrm>
            <a:off x="714240" y="141300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括号内可以填几？先估计，再用计算器检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到合适的答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2" descr=""/>
          <p:cNvPicPr/>
          <p:nvPr/>
        </p:nvPicPr>
        <p:blipFill>
          <a:blip r:embed="rId2"/>
          <a:stretch/>
        </p:blipFill>
        <p:spPr>
          <a:xfrm>
            <a:off x="800280" y="2870280"/>
            <a:ext cx="7859520" cy="101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58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821000000000001024140</vt:lpwstr>
  </property>
</Properties>
</file>