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E90-A6B4-428B-9778-67607644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740-BC83-4017-A567-1839AA1C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0AD-9D34-4835-9D95-6337053A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301-0B60-47C7-B93C-B821AAFE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8936-BBF3-408A-B5ED-53EB75B7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932-77DA-4E64-9FCD-70B099D2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9186-2A2B-45D5-A112-A2F0E752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202-B59F-4AD0-B3AD-D92F357E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BCE-F590-4C66-8EA6-B4C32202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0924-3648-4600-886E-5943CAED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92ED-A66F-4782-AD2A-98B439F7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EB3-2FD2-48D9-B6E2-D789A376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993B-7617-4063-85F5-5B351645E3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9" descr=""/>
          <p:cNvPicPr/>
          <p:nvPr/>
        </p:nvPicPr>
        <p:blipFill>
          <a:blip r:embed="rId1"/>
          <a:stretch/>
        </p:blipFill>
        <p:spPr>
          <a:xfrm>
            <a:off x="2379600" y="2247840"/>
            <a:ext cx="4241880" cy="12304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7240" y="4036320"/>
            <a:ext cx="1590120" cy="1057320"/>
            <a:chOff x="1047240" y="4036320"/>
            <a:chExt cx="1590120" cy="105732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1320" y="4179600"/>
              <a:ext cx="146196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0120" y="4204800"/>
              <a:ext cx="14036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活动任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2903400" y="4099320"/>
            <a:ext cx="1453320" cy="819360"/>
            <a:chOff x="2903400" y="4099320"/>
            <a:chExt cx="1453320" cy="819360"/>
          </a:xfrm>
        </p:grpSpPr>
        <p:sp>
          <p:nvSpPr>
            <p:cNvPr id="713" name="AutoShape 9"/>
            <p:cNvSpPr/>
            <p:nvPr/>
          </p:nvSpPr>
          <p:spPr>
            <a:xfrm rot="120000">
              <a:off x="2916360" y="4123800"/>
              <a:ext cx="142704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>
              <a:hlinkClick r:id="rId3" action="ppaction://hlinksldjump"/>
            </p:cNvPr>
            <p:cNvSpPr/>
            <p:nvPr/>
          </p:nvSpPr>
          <p:spPr>
            <a:xfrm rot="120000">
              <a:off x="2951280" y="4149000"/>
              <a:ext cx="134676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设计方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652280" y="4316400"/>
            <a:ext cx="1504800" cy="978120"/>
            <a:chOff x="4652280" y="4316400"/>
            <a:chExt cx="1504800" cy="97812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703400" y="4421160"/>
              <a:ext cx="1401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>
              <a:hlinkClick r:id="rId4" action="ppaction://hlinksldjump"/>
            </p:cNvPr>
            <p:cNvSpPr/>
            <p:nvPr/>
          </p:nvSpPr>
          <p:spPr>
            <a:xfrm rot="21060000">
              <a:off x="4736880" y="4447080"/>
              <a:ext cx="132300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动手实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560" y="3649320"/>
            <a:ext cx="1672920" cy="1291320"/>
            <a:chOff x="6622560" y="3649320"/>
            <a:chExt cx="1672920" cy="129132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13640" y="3909960"/>
              <a:ext cx="149040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>
              <a:hlinkClick r:id="rId5" action="ppaction://hlinksldjump"/>
            </p:cNvPr>
            <p:cNvSpPr/>
            <p:nvPr/>
          </p:nvSpPr>
          <p:spPr>
            <a:xfrm rot="20220000">
              <a:off x="6747480" y="3937680"/>
              <a:ext cx="140652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交流反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1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自我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7"/>
          <p:cNvSpPr/>
          <p:nvPr/>
        </p:nvSpPr>
        <p:spPr>
          <a:xfrm>
            <a:off x="623880" y="1798560"/>
            <a:ext cx="831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次活动中，我的表现是（请把每项后面的☆涂上颜色，涂满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为做得最好的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图片 28" descr="8.png"/>
          <p:cNvPicPr/>
          <p:nvPr/>
        </p:nvPicPr>
        <p:blipFill>
          <a:blip r:embed="rId1"/>
          <a:stretch/>
        </p:blipFill>
        <p:spPr>
          <a:xfrm>
            <a:off x="512640" y="3014640"/>
            <a:ext cx="8183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4" descr=""/>
          <p:cNvPicPr/>
          <p:nvPr/>
        </p:nvPicPr>
        <p:blipFill>
          <a:blip r:embed="rId2"/>
          <a:stretch/>
        </p:blipFill>
        <p:spPr>
          <a:xfrm>
            <a:off x="1152360" y="981000"/>
            <a:ext cx="6839280" cy="384804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4" descr="3.png"/>
          <p:cNvPicPr/>
          <p:nvPr/>
        </p:nvPicPr>
        <p:blipFill>
          <a:blip r:embed="rId3"/>
          <a:stretch/>
        </p:blipFill>
        <p:spPr>
          <a:xfrm>
            <a:off x="5137200" y="576360"/>
            <a:ext cx="2990880" cy="221292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7"/>
          <p:cNvSpPr/>
          <p:nvPr/>
        </p:nvSpPr>
        <p:spPr>
          <a:xfrm>
            <a:off x="395280" y="4797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活动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26"/>
          <p:cNvSpPr/>
          <p:nvPr/>
        </p:nvSpPr>
        <p:spPr>
          <a:xfrm>
            <a:off x="468360" y="549900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滴水实验，推算出一个没拧紧的水龙头一年大约会浪费多少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设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什么实验可以解决这个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"/>
          <p:cNvPicPr/>
          <p:nvPr/>
        </p:nvPicPr>
        <p:blipFill>
          <a:blip r:embed="rId1"/>
          <a:stretch/>
        </p:blipFill>
        <p:spPr>
          <a:xfrm>
            <a:off x="3486240" y="2822400"/>
            <a:ext cx="2171520" cy="331488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27" descr="4.png"/>
          <p:cNvPicPr/>
          <p:nvPr/>
        </p:nvPicPr>
        <p:blipFill>
          <a:blip r:embed="rId2"/>
          <a:stretch/>
        </p:blipFill>
        <p:spPr>
          <a:xfrm>
            <a:off x="108000" y="3645000"/>
            <a:ext cx="4092480" cy="158904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28" descr="1.png"/>
          <p:cNvPicPr/>
          <p:nvPr/>
        </p:nvPicPr>
        <p:blipFill>
          <a:blip r:embed="rId3"/>
          <a:stretch/>
        </p:blipFill>
        <p:spPr>
          <a:xfrm>
            <a:off x="5929200" y="2631960"/>
            <a:ext cx="27306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86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设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讨论，设计具体实验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24" descr="5.png"/>
          <p:cNvPicPr/>
          <p:nvPr/>
        </p:nvPicPr>
        <p:blipFill>
          <a:blip r:embed="rId2"/>
          <a:stretch/>
        </p:blipFill>
        <p:spPr>
          <a:xfrm>
            <a:off x="399960" y="5222880"/>
            <a:ext cx="3548160" cy="116532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9" descr="6.png"/>
          <p:cNvPicPr/>
          <p:nvPr/>
        </p:nvPicPr>
        <p:blipFill>
          <a:blip r:embed="rId3"/>
          <a:stretch/>
        </p:blipFill>
        <p:spPr>
          <a:xfrm>
            <a:off x="4900680" y="5151600"/>
            <a:ext cx="3071880" cy="1307880"/>
          </a:xfrm>
          <a:prstGeom prst="rect">
            <a:avLst/>
          </a:prstGeom>
          <a:ln w="0">
            <a:noFill/>
          </a:ln>
        </p:spPr>
      </p:pic>
      <p:sp>
        <p:nvSpPr>
          <p:cNvPr id="790" name="文本框 3"/>
          <p:cNvSpPr/>
          <p:nvPr/>
        </p:nvSpPr>
        <p:spPr>
          <a:xfrm>
            <a:off x="747720" y="261144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验方案中应包含哪些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21"/>
          <p:cNvSpPr/>
          <p:nvPr/>
        </p:nvSpPr>
        <p:spPr>
          <a:xfrm>
            <a:off x="754200" y="319572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讨论实验步骤是什么，每一步要做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文本框 22"/>
          <p:cNvSpPr/>
          <p:nvPr/>
        </p:nvSpPr>
        <p:spPr>
          <a:xfrm>
            <a:off x="747720" y="3840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收集哪些数据？如何收集和记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文本框 24"/>
          <p:cNvSpPr/>
          <p:nvPr/>
        </p:nvSpPr>
        <p:spPr>
          <a:xfrm>
            <a:off x="747720" y="450684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内如何进行分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动手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实验方案进行实验，并填写实验报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27" descr="7.png"/>
          <p:cNvPicPr/>
          <p:nvPr/>
        </p:nvPicPr>
        <p:blipFill>
          <a:blip r:embed="rId2"/>
          <a:stretch/>
        </p:blipFill>
        <p:spPr>
          <a:xfrm>
            <a:off x="1238400" y="2549520"/>
            <a:ext cx="6213240" cy="362124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同伴交流并分享实验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2"/>
          <p:cNvSpPr/>
          <p:nvPr/>
        </p:nvSpPr>
        <p:spPr>
          <a:xfrm>
            <a:off x="655560" y="2492280"/>
            <a:ext cx="76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得到的实验数据，回答下列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23"/>
          <p:cNvSpPr/>
          <p:nvPr/>
        </p:nvSpPr>
        <p:spPr>
          <a:xfrm>
            <a:off x="1015920" y="3016080"/>
            <a:ext cx="812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日常生活中的物品，描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漏掉的水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有多少。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漏掉的水如果装在矿泉水瓶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面大约会在什么位置？在你的瓶子上画一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24"/>
          <p:cNvSpPr/>
          <p:nvPr/>
        </p:nvSpPr>
        <p:spPr>
          <a:xfrm>
            <a:off x="993600" y="4492800"/>
            <a:ext cx="81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上面的数据，借助生活经验，描述一个没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的水龙头一年大约浪费多少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24"/>
          <p:cNvSpPr/>
          <p:nvPr/>
        </p:nvSpPr>
        <p:spPr>
          <a:xfrm>
            <a:off x="5791320" y="3284640"/>
            <a:ext cx="31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是一个严重缺水的国家，是全球人均水资源最贫乏的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国家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2" descr=""/>
          <p:cNvPicPr/>
          <p:nvPr/>
        </p:nvPicPr>
        <p:blipFill>
          <a:blip r:embed="rId1"/>
          <a:stretch/>
        </p:blipFill>
        <p:spPr>
          <a:xfrm>
            <a:off x="1190520" y="2681280"/>
            <a:ext cx="4429080" cy="312408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24"/>
          <p:cNvSpPr/>
          <p:nvPr/>
        </p:nvSpPr>
        <p:spPr>
          <a:xfrm>
            <a:off x="5557680" y="3573360"/>
            <a:ext cx="35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没拧紧的水龙头，一个月漏掉的水够一个人用一个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tretch/>
        </p:blipFill>
        <p:spPr>
          <a:xfrm>
            <a:off x="770040" y="2781360"/>
            <a:ext cx="4419360" cy="302400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7"/>
          <p:cNvSpPr/>
          <p:nvPr/>
        </p:nvSpPr>
        <p:spPr>
          <a:xfrm>
            <a:off x="770040" y="1125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26"/>
          <p:cNvSpPr/>
          <p:nvPr/>
        </p:nvSpPr>
        <p:spPr>
          <a:xfrm>
            <a:off x="668160" y="1987560"/>
            <a:ext cx="76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24"/>
          <p:cNvSpPr/>
          <p:nvPr/>
        </p:nvSpPr>
        <p:spPr>
          <a:xfrm>
            <a:off x="4427640" y="3573360"/>
            <a:ext cx="392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实验数据推算，如果每人每天洗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手，每次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，那么用节水方法洗手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一年节约的水，可供一个家庭用一个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组合 28"/>
          <p:cNvGrpSpPr/>
          <p:nvPr/>
        </p:nvGrpSpPr>
        <p:grpSpPr>
          <a:xfrm>
            <a:off x="4518000" y="787320"/>
            <a:ext cx="3240000" cy="2646360"/>
            <a:chOff x="4518000" y="787320"/>
            <a:chExt cx="3240000" cy="2646360"/>
          </a:xfrm>
        </p:grpSpPr>
        <p:pic>
          <p:nvPicPr>
            <p:cNvPr id="906" name="Picture 2" descr=""/>
            <p:cNvPicPr/>
            <p:nvPr/>
          </p:nvPicPr>
          <p:blipFill>
            <a:blip r:embed="rId1"/>
            <a:stretch/>
          </p:blipFill>
          <p:spPr>
            <a:xfrm>
              <a:off x="4518000" y="787320"/>
              <a:ext cx="32400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TextBox 27"/>
            <p:cNvSpPr/>
            <p:nvPr/>
          </p:nvSpPr>
          <p:spPr>
            <a:xfrm>
              <a:off x="6742080" y="2837520"/>
              <a:ext cx="1015920" cy="576720"/>
            </a:xfrm>
            <a:prstGeom prst="roundRect">
              <a:avLst>
                <a:gd name="adj" fmla="val 16667"/>
              </a:avLst>
            </a:prstGeom>
            <a:solidFill>
              <a:srgbClr val="1b9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节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组合 30"/>
          <p:cNvGrpSpPr/>
          <p:nvPr/>
        </p:nvGrpSpPr>
        <p:grpSpPr>
          <a:xfrm>
            <a:off x="1190520" y="3478320"/>
            <a:ext cx="3238560" cy="2658960"/>
            <a:chOff x="1190520" y="3478320"/>
            <a:chExt cx="3238560" cy="2658960"/>
          </a:xfrm>
        </p:grpSpPr>
        <p:pic>
          <p:nvPicPr>
            <p:cNvPr id="909" name="Picture 3" descr=""/>
            <p:cNvPicPr/>
            <p:nvPr/>
          </p:nvPicPr>
          <p:blipFill>
            <a:blip r:embed="rId2"/>
            <a:stretch/>
          </p:blipFill>
          <p:spPr>
            <a:xfrm>
              <a:off x="1190520" y="3478320"/>
              <a:ext cx="3238560" cy="26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TextBox 29"/>
            <p:cNvSpPr/>
            <p:nvPr/>
          </p:nvSpPr>
          <p:spPr>
            <a:xfrm>
              <a:off x="3413520" y="5543280"/>
              <a:ext cx="1015560" cy="5767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浪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3:25Z</dcterms:modified>
  <cp:revision>27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7c17000000000001024140</vt:lpwstr>
  </property>
</Properties>
</file>