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A23-A5A2-40DF-A245-215D73BF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647-7BAD-4022-97F9-B1F8C628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16A-B955-4085-8554-E80CB9BC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56C-79EE-4F18-B68F-2AD5B3F5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C92-AC20-49A2-AE5E-95E48E27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4FE6-087B-4A4F-B3B0-23149965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CE7-CAF4-455B-801C-ACEECDEB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7B1-C992-435B-89F3-F59119C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0E6-088B-4CDA-9CF6-7DBC7C7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448-865F-4CF6-9F8E-EC352409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46D-3853-4758-B605-6D5BD753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00E-442B-45CB-8CEA-5C4EF646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0510-C2E7-468E-82A7-98DB0F490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八单元 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4" descr=""/>
          <p:cNvPicPr/>
          <p:nvPr/>
        </p:nvPicPr>
        <p:blipFill>
          <a:blip r:embed="rId1"/>
          <a:stretch/>
        </p:blipFill>
        <p:spPr>
          <a:xfrm>
            <a:off x="2135160" y="2492280"/>
            <a:ext cx="4576680" cy="13780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下面这些卡片混在一起，从中任意选取一张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片，这张卡片可能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8" descr="18.png"/>
          <p:cNvPicPr/>
          <p:nvPr/>
        </p:nvPicPr>
        <p:blipFill>
          <a:blip r:embed="rId2"/>
          <a:stretch/>
        </p:blipFill>
        <p:spPr>
          <a:xfrm>
            <a:off x="836640" y="2924280"/>
            <a:ext cx="769608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“一定”“可能”“不可能”说说生活中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情发生的可能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0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427040" y="2637000"/>
            <a:ext cx="6900840" cy="31683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6.png"/>
          <p:cNvPicPr/>
          <p:nvPr/>
        </p:nvPicPr>
        <p:blipFill>
          <a:blip r:embed="rId2"/>
          <a:stretch/>
        </p:blipFill>
        <p:spPr>
          <a:xfrm>
            <a:off x="0" y="2637000"/>
            <a:ext cx="2052720" cy="9554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7.png"/>
          <p:cNvPicPr/>
          <p:nvPr/>
        </p:nvPicPr>
        <p:blipFill>
          <a:blip r:embed="rId3"/>
          <a:stretch/>
        </p:blipFill>
        <p:spPr>
          <a:xfrm>
            <a:off x="950760" y="1230480"/>
            <a:ext cx="2627640" cy="140652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6383160" y="2257560"/>
            <a:ext cx="2149560" cy="76032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4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5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839080" cy="8654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87724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" descr=""/>
          <p:cNvPicPr/>
          <p:nvPr/>
        </p:nvPicPr>
        <p:blipFill>
          <a:blip r:embed="rId2"/>
          <a:stretch/>
        </p:blipFill>
        <p:spPr>
          <a:xfrm>
            <a:off x="1380960" y="2332080"/>
            <a:ext cx="6382080" cy="38386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22" descr="9.png"/>
          <p:cNvPicPr/>
          <p:nvPr/>
        </p:nvPicPr>
        <p:blipFill>
          <a:blip r:embed="rId3"/>
          <a:stretch/>
        </p:blipFill>
        <p:spPr>
          <a:xfrm>
            <a:off x="3762360" y="1563840"/>
            <a:ext cx="314172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21" descr="10.png"/>
          <p:cNvPicPr/>
          <p:nvPr/>
        </p:nvPicPr>
        <p:blipFill>
          <a:blip r:embed="rId2"/>
          <a:stretch/>
        </p:blipFill>
        <p:spPr>
          <a:xfrm>
            <a:off x="2693880" y="2744640"/>
            <a:ext cx="3097440" cy="30607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23" descr="11.png"/>
          <p:cNvPicPr/>
          <p:nvPr/>
        </p:nvPicPr>
        <p:blipFill>
          <a:blip r:embed="rId3"/>
          <a:stretch/>
        </p:blipFill>
        <p:spPr>
          <a:xfrm>
            <a:off x="5000760" y="1650960"/>
            <a:ext cx="25016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519120" y="1222200"/>
            <a:ext cx="4086360" cy="4287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838160" y="2665440"/>
            <a:ext cx="5532480" cy="350532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22" descr="12.png"/>
          <p:cNvPicPr/>
          <p:nvPr/>
        </p:nvPicPr>
        <p:blipFill>
          <a:blip r:embed="rId3"/>
          <a:stretch/>
        </p:blipFill>
        <p:spPr>
          <a:xfrm>
            <a:off x="5068800" y="2276640"/>
            <a:ext cx="29037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1" descr="13.png"/>
          <p:cNvPicPr/>
          <p:nvPr/>
        </p:nvPicPr>
        <p:blipFill>
          <a:blip r:embed="rId1"/>
          <a:stretch/>
        </p:blipFill>
        <p:spPr>
          <a:xfrm>
            <a:off x="395280" y="1233360"/>
            <a:ext cx="8408880" cy="827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23" descr="14.png"/>
          <p:cNvPicPr/>
          <p:nvPr/>
        </p:nvPicPr>
        <p:blipFill>
          <a:blip r:embed="rId2"/>
          <a:stretch/>
        </p:blipFill>
        <p:spPr>
          <a:xfrm>
            <a:off x="1346040" y="2205000"/>
            <a:ext cx="6105600" cy="225288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24" descr="15.png"/>
          <p:cNvPicPr/>
          <p:nvPr/>
        </p:nvPicPr>
        <p:blipFill>
          <a:blip r:embed="rId3"/>
          <a:stretch/>
        </p:blipFill>
        <p:spPr>
          <a:xfrm>
            <a:off x="1109520" y="5249880"/>
            <a:ext cx="7218360" cy="744480"/>
          </a:xfrm>
          <a:prstGeom prst="rect">
            <a:avLst/>
          </a:prstGeom>
          <a:ln w="0">
            <a:noFill/>
          </a:ln>
        </p:spPr>
      </p:pic>
      <p:sp>
        <p:nvSpPr>
          <p:cNvPr id="845" name="直接连接符 26"/>
          <p:cNvSpPr/>
          <p:nvPr/>
        </p:nvSpPr>
        <p:spPr>
          <a:xfrm>
            <a:off x="2173320" y="4457880"/>
            <a:ext cx="506268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直接连接符 27"/>
          <p:cNvSpPr/>
          <p:nvPr/>
        </p:nvSpPr>
        <p:spPr>
          <a:xfrm>
            <a:off x="4210200" y="4457880"/>
            <a:ext cx="507960" cy="792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30"/>
          <p:cNvSpPr/>
          <p:nvPr/>
        </p:nvSpPr>
        <p:spPr>
          <a:xfrm flipH="1">
            <a:off x="2173320" y="4457880"/>
            <a:ext cx="4270320" cy="944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2"/>
          <a:stretch/>
        </p:blipFill>
        <p:spPr>
          <a:xfrm>
            <a:off x="395280" y="1805040"/>
            <a:ext cx="5886360" cy="4000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8" descr="16.png"/>
          <p:cNvPicPr/>
          <p:nvPr/>
        </p:nvPicPr>
        <p:blipFill>
          <a:blip r:embed="rId3"/>
          <a:stretch/>
        </p:blipFill>
        <p:spPr>
          <a:xfrm>
            <a:off x="5823000" y="2328840"/>
            <a:ext cx="314172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09760" y="1568520"/>
            <a:ext cx="815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城市的冬天会下雪吗？请用“一定”“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”“不可能”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7" descr="17.png"/>
          <p:cNvPicPr/>
          <p:nvPr/>
        </p:nvPicPr>
        <p:blipFill>
          <a:blip r:embed="rId2"/>
          <a:stretch/>
        </p:blipFill>
        <p:spPr>
          <a:xfrm>
            <a:off x="1763640" y="2762280"/>
            <a:ext cx="5472360" cy="36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4T15:35:17Z</dcterms:modified>
  <cp:revision>28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41f000000000001024140</vt:lpwstr>
  </property>
</Properties>
</file>