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80E7-CFAD-44A0-AE7A-CE457C208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2078-9BF6-482B-B9BE-C655E188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94DB-0E80-4401-A170-B2A69205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21E3-2D93-4922-BA6D-FF3736C7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FB8A-8B03-4007-A702-13D98D63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4A5B-A3A5-43DC-B09A-EE6F0EED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F9FE-C183-40C5-8519-0170197B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09C3-FDA9-47CE-9040-A082BDAE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38F7-7915-484F-BD7E-9B03859C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5DC2-C758-41C3-86DE-C48104A4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2F43-A234-4FE6-883B-32FB95A29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3CB7-CA46-40B4-8A38-3C6F97AEE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75F9-323E-4BA7-9D7D-7516EA1D32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" Target="slide1.xml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数学好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8"/>
          <p:cNvGrpSpPr/>
          <p:nvPr/>
        </p:nvGrpSpPr>
        <p:grpSpPr>
          <a:xfrm>
            <a:off x="1752480" y="4191480"/>
            <a:ext cx="1908720" cy="835200"/>
            <a:chOff x="1752480" y="4191480"/>
            <a:chExt cx="1908720" cy="835200"/>
          </a:xfrm>
        </p:grpSpPr>
        <p:sp>
          <p:nvSpPr>
            <p:cNvPr id="709" name="AutoShape 9"/>
            <p:cNvSpPr/>
            <p:nvPr/>
          </p:nvSpPr>
          <p:spPr>
            <a:xfrm rot="120000">
              <a:off x="1765440" y="4223880"/>
              <a:ext cx="188280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10">
              <a:hlinkClick r:id="rId1" action="ppaction://hlinksldjump"/>
            </p:cNvPr>
            <p:cNvSpPr/>
            <p:nvPr/>
          </p:nvSpPr>
          <p:spPr>
            <a:xfrm rot="120000">
              <a:off x="1811520" y="4249080"/>
              <a:ext cx="177696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鼹鼠钻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11"/>
          <p:cNvGrpSpPr/>
          <p:nvPr/>
        </p:nvGrpSpPr>
        <p:grpSpPr>
          <a:xfrm>
            <a:off x="4928760" y="4077720"/>
            <a:ext cx="2070720" cy="1067760"/>
            <a:chOff x="4928760" y="4077720"/>
            <a:chExt cx="2070720" cy="1067760"/>
          </a:xfrm>
        </p:grpSpPr>
        <p:sp>
          <p:nvSpPr>
            <p:cNvPr id="712" name="AutoShape 12"/>
            <p:cNvSpPr/>
            <p:nvPr/>
          </p:nvSpPr>
          <p:spPr>
            <a:xfrm rot="21060000">
              <a:off x="4976640" y="4227120"/>
              <a:ext cx="197496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3">
              <a:hlinkClick r:id="rId2" action="ppaction://hlinksldjump"/>
            </p:cNvPr>
            <p:cNvSpPr/>
            <p:nvPr/>
          </p:nvSpPr>
          <p:spPr>
            <a:xfrm rot="21060000">
              <a:off x="5023800" y="4253760"/>
              <a:ext cx="186372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菜地旅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4" name="图片 63" descr=""/>
          <p:cNvPicPr/>
          <p:nvPr/>
        </p:nvPicPr>
        <p:blipFill>
          <a:blip r:embed="rId3"/>
          <a:stretch/>
        </p:blipFill>
        <p:spPr>
          <a:xfrm>
            <a:off x="1752480" y="2416320"/>
            <a:ext cx="5507280" cy="147456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1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1" name="图片 23" descr="1.png"/>
          <p:cNvPicPr/>
          <p:nvPr/>
        </p:nvPicPr>
        <p:blipFill>
          <a:blip r:embed="rId1"/>
          <a:stretch/>
        </p:blipFill>
        <p:spPr>
          <a:xfrm>
            <a:off x="264960" y="1125360"/>
            <a:ext cx="8678880" cy="3049920"/>
          </a:xfrm>
          <a:prstGeom prst="rect">
            <a:avLst/>
          </a:prstGeom>
          <a:ln w="0">
            <a:noFill/>
          </a:ln>
        </p:spPr>
      </p:pic>
      <p:pic>
        <p:nvPicPr>
          <p:cNvPr id="732" name="图片 24" descr="3.png"/>
          <p:cNvPicPr/>
          <p:nvPr/>
        </p:nvPicPr>
        <p:blipFill>
          <a:blip r:embed="rId2"/>
          <a:stretch/>
        </p:blipFill>
        <p:spPr>
          <a:xfrm>
            <a:off x="1771560" y="555480"/>
            <a:ext cx="4875480" cy="1333800"/>
          </a:xfrm>
          <a:prstGeom prst="rect">
            <a:avLst/>
          </a:prstGeom>
          <a:ln w="0">
            <a:noFill/>
          </a:ln>
        </p:spPr>
      </p:pic>
      <p:sp>
        <p:nvSpPr>
          <p:cNvPr id="733" name="直接连接符 26"/>
          <p:cNvSpPr/>
          <p:nvPr/>
        </p:nvSpPr>
        <p:spPr>
          <a:xfrm>
            <a:off x="1763640" y="5337000"/>
            <a:ext cx="54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直接连接符 30"/>
          <p:cNvSpPr/>
          <p:nvPr/>
        </p:nvSpPr>
        <p:spPr>
          <a:xfrm>
            <a:off x="1779480" y="5164200"/>
            <a:ext cx="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直接连接符 33"/>
          <p:cNvSpPr/>
          <p:nvPr/>
        </p:nvSpPr>
        <p:spPr>
          <a:xfrm>
            <a:off x="3576600" y="5164200"/>
            <a:ext cx="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直接连接符 34"/>
          <p:cNvSpPr/>
          <p:nvPr/>
        </p:nvSpPr>
        <p:spPr>
          <a:xfrm>
            <a:off x="5359320" y="5157720"/>
            <a:ext cx="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直接连接符 35"/>
          <p:cNvSpPr/>
          <p:nvPr/>
        </p:nvSpPr>
        <p:spPr>
          <a:xfrm>
            <a:off x="7162920" y="5164200"/>
            <a:ext cx="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36"/>
          <p:cNvSpPr/>
          <p:nvPr/>
        </p:nvSpPr>
        <p:spPr>
          <a:xfrm>
            <a:off x="480960" y="4175280"/>
            <a:ext cx="689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多少条不同的路线？画出示意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37"/>
          <p:cNvSpPr/>
          <p:nvPr/>
        </p:nvSpPr>
        <p:spPr>
          <a:xfrm>
            <a:off x="1571040" y="53434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38"/>
          <p:cNvSpPr/>
          <p:nvPr/>
        </p:nvSpPr>
        <p:spPr>
          <a:xfrm>
            <a:off x="3375360" y="53434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Box 39"/>
          <p:cNvSpPr/>
          <p:nvPr/>
        </p:nvSpPr>
        <p:spPr>
          <a:xfrm>
            <a:off x="5149080" y="53434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40"/>
          <p:cNvSpPr/>
          <p:nvPr/>
        </p:nvSpPr>
        <p:spPr>
          <a:xfrm>
            <a:off x="6945840" y="5337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3" name="椭圆 41"/>
          <p:cNvGrpSpPr/>
          <p:nvPr/>
        </p:nvGrpSpPr>
        <p:grpSpPr>
          <a:xfrm>
            <a:off x="8558280" y="5052960"/>
            <a:ext cx="519120" cy="463680"/>
            <a:chOff x="8558280" y="5052960"/>
            <a:chExt cx="519120" cy="463680"/>
          </a:xfrm>
        </p:grpSpPr>
        <p:pic>
          <p:nvPicPr>
            <p:cNvPr id="744" name="椭圆 41" descr=""/>
            <p:cNvPicPr/>
            <p:nvPr/>
          </p:nvPicPr>
          <p:blipFill>
            <a:blip r:embed="rId3"/>
            <a:stretch/>
          </p:blipFill>
          <p:spPr>
            <a:xfrm>
              <a:off x="8558280" y="5052960"/>
              <a:ext cx="51912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"/>
            <p:cNvSpPr/>
            <p:nvPr/>
          </p:nvSpPr>
          <p:spPr>
            <a:xfrm>
              <a:off x="8718480" y="5199120"/>
              <a:ext cx="2034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椭圆 42"/>
          <p:cNvGrpSpPr/>
          <p:nvPr/>
        </p:nvGrpSpPr>
        <p:grpSpPr>
          <a:xfrm>
            <a:off x="8558280" y="5529240"/>
            <a:ext cx="519120" cy="463680"/>
            <a:chOff x="8558280" y="5529240"/>
            <a:chExt cx="519120" cy="463680"/>
          </a:xfrm>
        </p:grpSpPr>
        <p:pic>
          <p:nvPicPr>
            <p:cNvPr id="747" name="椭圆 42" descr=""/>
            <p:cNvPicPr/>
            <p:nvPr/>
          </p:nvPicPr>
          <p:blipFill>
            <a:blip r:embed="rId4"/>
            <a:stretch/>
          </p:blipFill>
          <p:spPr>
            <a:xfrm>
              <a:off x="8558280" y="5529240"/>
              <a:ext cx="51912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8" name=""/>
            <p:cNvSpPr/>
            <p:nvPr/>
          </p:nvSpPr>
          <p:spPr>
            <a:xfrm>
              <a:off x="8718480" y="5673600"/>
              <a:ext cx="203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弧形 43"/>
          <p:cNvSpPr/>
          <p:nvPr/>
        </p:nvSpPr>
        <p:spPr>
          <a:xfrm>
            <a:off x="1765440" y="4916520"/>
            <a:ext cx="1800000" cy="720720"/>
          </a:xfrm>
          <a:custGeom>
            <a:avLst/>
            <a:gdLst>
              <a:gd name="textAreaLeft" fmla="*/ 9360 w 1800000"/>
              <a:gd name="textAreaRight" fmla="*/ 1800360 w 1800000"/>
              <a:gd name="textAreaTop" fmla="*/ 0 h 720720"/>
              <a:gd name="textAreaBottom" fmla="*/ 360360 h 720720"/>
            </a:gdLst>
            <a:ahLst/>
            <a:rect l="textAreaLeft" t="textAreaTop" r="textAreaRight" b="textAreaBottom"/>
            <a:pathLst>
              <a:path stroke="0" w="1800000" h="720080">
                <a:moveTo>
                  <a:pt x="9689" y="307353"/>
                </a:moveTo>
                <a:lnTo>
                  <a:pt x="9689" y="307353"/>
                </a:lnTo>
                <a:arcTo wR="900000" hR="360040" stAng="-10596797" swAng="10596805"/>
                <a:lnTo>
                  <a:pt x="900000" y="360040"/>
                </a:lnTo>
                <a:close/>
              </a:path>
              <a:path fill="none" w="1800000" h="720080">
                <a:moveTo>
                  <a:pt x="9689" y="307353"/>
                </a:moveTo>
                <a:lnTo>
                  <a:pt x="9689" y="307353"/>
                </a:lnTo>
                <a:arcTo wR="900000" hR="360040" stAng="-10596797" swAng="10596805"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弧形 44"/>
          <p:cNvSpPr/>
          <p:nvPr/>
        </p:nvSpPr>
        <p:spPr>
          <a:xfrm>
            <a:off x="3564000" y="4898880"/>
            <a:ext cx="1800000" cy="719280"/>
          </a:xfrm>
          <a:custGeom>
            <a:avLst/>
            <a:gdLst>
              <a:gd name="textAreaLeft" fmla="*/ 9360 w 1800000"/>
              <a:gd name="textAreaRight" fmla="*/ 1800360 w 1800000"/>
              <a:gd name="textAreaTop" fmla="*/ 0 h 719280"/>
              <a:gd name="textAreaBottom" fmla="*/ 359640 h 719280"/>
            </a:gdLst>
            <a:ahLst/>
            <a:rect l="textAreaLeft" t="textAreaTop" r="textAreaRight" b="textAreaBottom"/>
            <a:pathLst>
              <a:path stroke="0" w="1800000" h="720080">
                <a:moveTo>
                  <a:pt x="9689" y="307353"/>
                </a:moveTo>
                <a:lnTo>
                  <a:pt x="9689" y="307353"/>
                </a:lnTo>
                <a:arcTo wR="900000" hR="360040" stAng="-10596797" swAng="10596805"/>
                <a:lnTo>
                  <a:pt x="900000" y="360040"/>
                </a:lnTo>
                <a:close/>
              </a:path>
              <a:path fill="none" w="1800000" h="720080">
                <a:moveTo>
                  <a:pt x="9689" y="307353"/>
                </a:moveTo>
                <a:lnTo>
                  <a:pt x="9689" y="307353"/>
                </a:lnTo>
                <a:arcTo wR="900000" hR="360040" stAng="-10596797" swAng="10596805"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弧形 45"/>
          <p:cNvSpPr/>
          <p:nvPr/>
        </p:nvSpPr>
        <p:spPr>
          <a:xfrm>
            <a:off x="5354640" y="4898880"/>
            <a:ext cx="1800360" cy="719280"/>
          </a:xfrm>
          <a:custGeom>
            <a:avLst/>
            <a:gdLst>
              <a:gd name="textAreaLeft" fmla="*/ 9360 w 1800360"/>
              <a:gd name="textAreaRight" fmla="*/ 1800720 w 1800360"/>
              <a:gd name="textAreaTop" fmla="*/ 0 h 719280"/>
              <a:gd name="textAreaBottom" fmla="*/ 359640 h 719280"/>
            </a:gdLst>
            <a:ahLst/>
            <a:rect l="textAreaLeft" t="textAreaTop" r="textAreaRight" b="textAreaBottom"/>
            <a:pathLst>
              <a:path stroke="0" w="1800000" h="720080">
                <a:moveTo>
                  <a:pt x="9689" y="307353"/>
                </a:moveTo>
                <a:lnTo>
                  <a:pt x="9689" y="307353"/>
                </a:lnTo>
                <a:arcTo wR="900000" hR="360040" stAng="-10596797" swAng="10596805"/>
                <a:lnTo>
                  <a:pt x="900000" y="360040"/>
                </a:lnTo>
                <a:close/>
              </a:path>
              <a:path fill="none" w="1800000" h="720080">
                <a:moveTo>
                  <a:pt x="9689" y="307353"/>
                </a:moveTo>
                <a:lnTo>
                  <a:pt x="9689" y="307353"/>
                </a:lnTo>
                <a:arcTo wR="900000" hR="360040" stAng="-10596797" swAng="10596805"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Box 46"/>
          <p:cNvSpPr/>
          <p:nvPr/>
        </p:nvSpPr>
        <p:spPr>
          <a:xfrm>
            <a:off x="2518200" y="6002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弧形 47"/>
          <p:cNvSpPr/>
          <p:nvPr/>
        </p:nvSpPr>
        <p:spPr>
          <a:xfrm flipV="1">
            <a:off x="1779480" y="4973760"/>
            <a:ext cx="3600720" cy="720720"/>
          </a:xfrm>
          <a:custGeom>
            <a:avLst/>
            <a:gdLst>
              <a:gd name="textAreaLeft" fmla="*/ 360 w 3600720"/>
              <a:gd name="textAreaRight" fmla="*/ 3601080 w 3600720"/>
              <a:gd name="textAreaTop" fmla="*/ 360 h 720720"/>
              <a:gd name="textAreaBottom" fmla="*/ 360720 h 720720"/>
            </a:gdLst>
            <a:ahLst/>
            <a:rect l="textAreaLeft" t="textAreaTop" r="textAreaRight" b="textAreaBottom"/>
            <a:pathLst>
              <a:path stroke="0" w="3600000" h="720080">
                <a:moveTo>
                  <a:pt x="408" y="352374"/>
                </a:moveTo>
                <a:lnTo>
                  <a:pt x="408" y="352374"/>
                </a:lnTo>
                <a:arcTo wR="1800000" hR="360040" stAng="-10785356" swAng="10785363"/>
                <a:lnTo>
                  <a:pt x="1800000" y="360040"/>
                </a:lnTo>
                <a:close/>
              </a:path>
              <a:path fill="none" w="3600000" h="720080">
                <a:moveTo>
                  <a:pt x="408" y="352374"/>
                </a:moveTo>
                <a:lnTo>
                  <a:pt x="408" y="352374"/>
                </a:lnTo>
                <a:arcTo wR="1800000" hR="360040" stAng="-10785356" swAng="10785363"/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弧形 48"/>
          <p:cNvSpPr/>
          <p:nvPr/>
        </p:nvSpPr>
        <p:spPr>
          <a:xfrm flipV="1">
            <a:off x="3564000" y="5013360"/>
            <a:ext cx="3600360" cy="719280"/>
          </a:xfrm>
          <a:custGeom>
            <a:avLst/>
            <a:gdLst>
              <a:gd name="textAreaLeft" fmla="*/ 360 w 3600360"/>
              <a:gd name="textAreaRight" fmla="*/ 3600720 w 3600360"/>
              <a:gd name="textAreaTop" fmla="*/ 360 h 719280"/>
              <a:gd name="textAreaBottom" fmla="*/ 360000 h 719280"/>
            </a:gdLst>
            <a:ahLst/>
            <a:rect l="textAreaLeft" t="textAreaTop" r="textAreaRight" b="textAreaBottom"/>
            <a:pathLst>
              <a:path stroke="0" w="3600000" h="720080">
                <a:moveTo>
                  <a:pt x="408" y="352374"/>
                </a:moveTo>
                <a:lnTo>
                  <a:pt x="408" y="352374"/>
                </a:lnTo>
                <a:arcTo wR="1800000" hR="360040" stAng="-10785356" swAng="10785363"/>
                <a:lnTo>
                  <a:pt x="1800000" y="360040"/>
                </a:lnTo>
                <a:close/>
              </a:path>
              <a:path fill="none" w="3600000" h="720080">
                <a:moveTo>
                  <a:pt x="408" y="352374"/>
                </a:moveTo>
                <a:lnTo>
                  <a:pt x="408" y="352374"/>
                </a:lnTo>
                <a:arcTo wR="1800000" hR="360040" stAng="-10785356" swAng="10785363"/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Box 49"/>
          <p:cNvSpPr/>
          <p:nvPr/>
        </p:nvSpPr>
        <p:spPr>
          <a:xfrm>
            <a:off x="3181680" y="5989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弧形 50"/>
          <p:cNvSpPr/>
          <p:nvPr/>
        </p:nvSpPr>
        <p:spPr>
          <a:xfrm>
            <a:off x="1773360" y="4699080"/>
            <a:ext cx="5398920" cy="1149120"/>
          </a:xfrm>
          <a:custGeom>
            <a:avLst/>
            <a:gdLst>
              <a:gd name="textAreaLeft" fmla="*/ 360 w 5398920"/>
              <a:gd name="textAreaRight" fmla="*/ 5399280 w 5398920"/>
              <a:gd name="textAreaTop" fmla="*/ 0 h 1149120"/>
              <a:gd name="textAreaBottom" fmla="*/ 574560 h 1149120"/>
            </a:gdLst>
            <a:ahLst/>
            <a:rect l="textAreaLeft" t="textAreaTop" r="textAreaRight" b="textAreaBottom"/>
            <a:pathLst>
              <a:path stroke="0" w="5400000" h="1148949">
                <a:moveTo>
                  <a:pt x="541" y="562975"/>
                </a:moveTo>
                <a:lnTo>
                  <a:pt x="541" y="562975"/>
                </a:lnTo>
                <a:arcTo wR="2700000" hR="574475" stAng="-10785356" swAng="10785364"/>
                <a:lnTo>
                  <a:pt x="2700000" y="574475"/>
                </a:lnTo>
                <a:close/>
              </a:path>
              <a:path fill="none" w="5400000" h="1148949">
                <a:moveTo>
                  <a:pt x="541" y="562975"/>
                </a:moveTo>
                <a:lnTo>
                  <a:pt x="541" y="562975"/>
                </a:lnTo>
                <a:arcTo wR="2700000" hR="574475" stAng="-10785356" swAng="10785364"/>
              </a:path>
            </a:pathLst>
          </a:custGeom>
          <a:noFill/>
          <a:ln w="28440">
            <a:solidFill>
              <a:srgbClr val="6b6bc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51"/>
          <p:cNvSpPr/>
          <p:nvPr/>
        </p:nvSpPr>
        <p:spPr>
          <a:xfrm>
            <a:off x="3742560" y="5986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6bc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52"/>
          <p:cNvSpPr/>
          <p:nvPr/>
        </p:nvSpPr>
        <p:spPr>
          <a:xfrm>
            <a:off x="2815200" y="59961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53"/>
          <p:cNvSpPr/>
          <p:nvPr/>
        </p:nvSpPr>
        <p:spPr>
          <a:xfrm>
            <a:off x="3445920" y="59896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Box 54"/>
          <p:cNvSpPr/>
          <p:nvPr/>
        </p:nvSpPr>
        <p:spPr>
          <a:xfrm>
            <a:off x="4135320" y="59706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55"/>
          <p:cNvSpPr/>
          <p:nvPr/>
        </p:nvSpPr>
        <p:spPr>
          <a:xfrm>
            <a:off x="4608000" y="5989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弧形 56"/>
          <p:cNvSpPr/>
          <p:nvPr/>
        </p:nvSpPr>
        <p:spPr>
          <a:xfrm>
            <a:off x="1763640" y="4694400"/>
            <a:ext cx="5400720" cy="1147680"/>
          </a:xfrm>
          <a:custGeom>
            <a:avLst/>
            <a:gdLst>
              <a:gd name="textAreaLeft" fmla="*/ 360 w 5400720"/>
              <a:gd name="textAreaRight" fmla="*/ 5401080 w 5400720"/>
              <a:gd name="textAreaTop" fmla="*/ 0 h 1147680"/>
              <a:gd name="textAreaBottom" fmla="*/ 573840 h 1147680"/>
            </a:gdLst>
            <a:ahLst/>
            <a:rect l="textAreaLeft" t="textAreaTop" r="textAreaRight" b="textAreaBottom"/>
            <a:pathLst>
              <a:path stroke="0" w="5400000" h="1148949">
                <a:moveTo>
                  <a:pt x="541" y="562975"/>
                </a:moveTo>
                <a:lnTo>
                  <a:pt x="541" y="562975"/>
                </a:lnTo>
                <a:arcTo wR="2700000" hR="574475" stAng="-10785356" swAng="10785364"/>
                <a:lnTo>
                  <a:pt x="2700000" y="574475"/>
                </a:lnTo>
                <a:close/>
              </a:path>
              <a:path fill="none" w="5400000" h="1148949">
                <a:moveTo>
                  <a:pt x="541" y="562975"/>
                </a:moveTo>
                <a:lnTo>
                  <a:pt x="541" y="562975"/>
                </a:lnTo>
                <a:arcTo wR="2700000" hR="574475" stAng="-10785356" swAng="10785364"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弧形 57"/>
          <p:cNvSpPr/>
          <p:nvPr/>
        </p:nvSpPr>
        <p:spPr>
          <a:xfrm>
            <a:off x="1773360" y="4869000"/>
            <a:ext cx="3598920" cy="720720"/>
          </a:xfrm>
          <a:custGeom>
            <a:avLst/>
            <a:gdLst>
              <a:gd name="textAreaLeft" fmla="*/ 360 w 3598920"/>
              <a:gd name="textAreaRight" fmla="*/ 3599280 w 3598920"/>
              <a:gd name="textAreaTop" fmla="*/ 0 h 720720"/>
              <a:gd name="textAreaBottom" fmla="*/ 360360 h 720720"/>
            </a:gdLst>
            <a:ahLst/>
            <a:rect l="textAreaLeft" t="textAreaTop" r="textAreaRight" b="textAreaBottom"/>
            <a:pathLst>
              <a:path stroke="0" w="3600000" h="720080">
                <a:moveTo>
                  <a:pt x="408" y="352374"/>
                </a:moveTo>
                <a:lnTo>
                  <a:pt x="408" y="352374"/>
                </a:lnTo>
                <a:arcTo wR="1800000" hR="360040" stAng="-10785356" swAng="10785363"/>
                <a:lnTo>
                  <a:pt x="1800000" y="360040"/>
                </a:lnTo>
                <a:close/>
              </a:path>
              <a:path fill="none" w="3600000" h="720080">
                <a:moveTo>
                  <a:pt x="408" y="352374"/>
                </a:moveTo>
                <a:lnTo>
                  <a:pt x="408" y="352374"/>
                </a:lnTo>
                <a:arcTo wR="1800000" hR="360040" stAng="-10785356" swAng="10785363"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弧形 58"/>
          <p:cNvSpPr/>
          <p:nvPr/>
        </p:nvSpPr>
        <p:spPr>
          <a:xfrm flipV="1">
            <a:off x="3564000" y="4925880"/>
            <a:ext cx="1800000" cy="719280"/>
          </a:xfrm>
          <a:custGeom>
            <a:avLst/>
            <a:gdLst>
              <a:gd name="textAreaLeft" fmla="*/ 9360 w 1800000"/>
              <a:gd name="textAreaRight" fmla="*/ 1800360 w 1800000"/>
              <a:gd name="textAreaTop" fmla="*/ 360 h 719280"/>
              <a:gd name="textAreaBottom" fmla="*/ 360000 h 719280"/>
            </a:gdLst>
            <a:ahLst/>
            <a:rect l="textAreaLeft" t="textAreaTop" r="textAreaRight" b="textAreaBottom"/>
            <a:pathLst>
              <a:path stroke="0" w="1800000" h="720080">
                <a:moveTo>
                  <a:pt x="9689" y="307353"/>
                </a:moveTo>
                <a:lnTo>
                  <a:pt x="9689" y="307353"/>
                </a:lnTo>
                <a:arcTo wR="900000" hR="360040" stAng="-10596797" swAng="10596805"/>
                <a:lnTo>
                  <a:pt x="900000" y="360040"/>
                </a:lnTo>
                <a:close/>
              </a:path>
              <a:path fill="none" w="1800000" h="720080">
                <a:moveTo>
                  <a:pt x="9689" y="307353"/>
                </a:moveTo>
                <a:lnTo>
                  <a:pt x="9689" y="307353"/>
                </a:lnTo>
                <a:arcTo wR="900000" hR="360040" stAng="-10596797" swAng="10596805"/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弧形 59"/>
          <p:cNvSpPr/>
          <p:nvPr/>
        </p:nvSpPr>
        <p:spPr>
          <a:xfrm>
            <a:off x="5348160" y="4910040"/>
            <a:ext cx="1800360" cy="719280"/>
          </a:xfrm>
          <a:custGeom>
            <a:avLst/>
            <a:gdLst>
              <a:gd name="textAreaLeft" fmla="*/ 9360 w 1800360"/>
              <a:gd name="textAreaRight" fmla="*/ 1800720 w 1800360"/>
              <a:gd name="textAreaTop" fmla="*/ 0 h 719280"/>
              <a:gd name="textAreaBottom" fmla="*/ 359640 h 719280"/>
            </a:gdLst>
            <a:ahLst/>
            <a:rect l="textAreaLeft" t="textAreaTop" r="textAreaRight" b="textAreaBottom"/>
            <a:pathLst>
              <a:path stroke="0" w="1800000" h="720080">
                <a:moveTo>
                  <a:pt x="9689" y="307353"/>
                </a:moveTo>
                <a:lnTo>
                  <a:pt x="9689" y="307353"/>
                </a:lnTo>
                <a:arcTo wR="900000" hR="360040" stAng="-10596797" swAng="10596805"/>
                <a:lnTo>
                  <a:pt x="900000" y="360040"/>
                </a:lnTo>
                <a:close/>
              </a:path>
              <a:path fill="none" w="1800000" h="720080">
                <a:moveTo>
                  <a:pt x="9689" y="307353"/>
                </a:moveTo>
                <a:lnTo>
                  <a:pt x="9689" y="307353"/>
                </a:lnTo>
                <a:arcTo wR="900000" hR="360040" stAng="-10596797" swAng="10596805"/>
              </a:path>
            </a:pathLst>
          </a:custGeom>
          <a:noFill/>
          <a:ln w="28440">
            <a:solidFill>
              <a:srgbClr val="6b6bc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2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743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743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evt="onClick">
                          <p:tgtEl>
                            <p:spTgt spid="743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evt="onClick">
                          <p:tgtEl>
                            <p:spTgt spid="743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evt="onClick">
                          <p:tgtEl>
                            <p:spTgt spid="743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746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746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evt="onClick">
                          <p:tgtEl>
                            <p:spTgt spid="746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evt="onClick">
                          <p:tgtEl>
                            <p:spTgt spid="746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evt="onClick">
                          <p:tgtEl>
                            <p:spTgt spid="746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组合 41"/>
          <p:cNvGrpSpPr/>
          <p:nvPr/>
        </p:nvGrpSpPr>
        <p:grpSpPr>
          <a:xfrm>
            <a:off x="797040" y="525600"/>
            <a:ext cx="8383320" cy="3695400"/>
            <a:chOff x="797040" y="525600"/>
            <a:chExt cx="8383320" cy="3695400"/>
          </a:xfrm>
        </p:grpSpPr>
        <p:pic>
          <p:nvPicPr>
            <p:cNvPr id="783" name="图片 28" descr="4.png"/>
            <p:cNvPicPr/>
            <p:nvPr/>
          </p:nvPicPr>
          <p:blipFill>
            <a:blip r:embed="rId1"/>
            <a:stretch/>
          </p:blipFill>
          <p:spPr>
            <a:xfrm>
              <a:off x="797040" y="549360"/>
              <a:ext cx="8383320" cy="36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4" name="TextBox 29"/>
            <p:cNvSpPr/>
            <p:nvPr/>
          </p:nvSpPr>
          <p:spPr>
            <a:xfrm>
              <a:off x="1724760" y="1788840"/>
              <a:ext cx="138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西红柿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TextBox 31"/>
            <p:cNvSpPr/>
            <p:nvPr/>
          </p:nvSpPr>
          <p:spPr>
            <a:xfrm>
              <a:off x="996480" y="1095480"/>
              <a:ext cx="28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开往：土 豆 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TextBox 32"/>
            <p:cNvSpPr/>
            <p:nvPr/>
          </p:nvSpPr>
          <p:spPr>
            <a:xfrm>
              <a:off x="987480" y="525600"/>
              <a:ext cx="28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本站：红 薯 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TextBox 37"/>
            <p:cNvSpPr/>
            <p:nvPr/>
          </p:nvSpPr>
          <p:spPr>
            <a:xfrm>
              <a:off x="1727640" y="1476000"/>
              <a:ext cx="138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红  薯  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TextBox 38"/>
            <p:cNvSpPr/>
            <p:nvPr/>
          </p:nvSpPr>
          <p:spPr>
            <a:xfrm>
              <a:off x="1743480" y="2061000"/>
              <a:ext cx="138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茄  子  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TextBox 39"/>
            <p:cNvSpPr/>
            <p:nvPr/>
          </p:nvSpPr>
          <p:spPr>
            <a:xfrm>
              <a:off x="1742040" y="2371680"/>
              <a:ext cx="138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胡萝卜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TextBox 40"/>
            <p:cNvSpPr/>
            <p:nvPr/>
          </p:nvSpPr>
          <p:spPr>
            <a:xfrm>
              <a:off x="1764360" y="2653200"/>
              <a:ext cx="138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土  豆  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1" name="图片 42" descr="5.png"/>
          <p:cNvPicPr/>
          <p:nvPr/>
        </p:nvPicPr>
        <p:blipFill>
          <a:blip r:embed="rId2"/>
          <a:stretch/>
        </p:blipFill>
        <p:spPr>
          <a:xfrm>
            <a:off x="5000760" y="879480"/>
            <a:ext cx="3060720" cy="1353960"/>
          </a:xfrm>
          <a:prstGeom prst="rect">
            <a:avLst/>
          </a:prstGeom>
          <a:ln w="0">
            <a:noFill/>
          </a:ln>
        </p:spPr>
      </p:pic>
      <p:sp>
        <p:nvSpPr>
          <p:cNvPr id="792" name="TextBox 43"/>
          <p:cNvSpPr/>
          <p:nvPr/>
        </p:nvSpPr>
        <p:spPr>
          <a:xfrm>
            <a:off x="480960" y="4175280"/>
            <a:ext cx="866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画出示意图，有顺序地数一数，说说你是怎么数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直接连接符 63"/>
          <p:cNvSpPr/>
          <p:nvPr/>
        </p:nvSpPr>
        <p:spPr>
          <a:xfrm>
            <a:off x="879480" y="5754600"/>
            <a:ext cx="572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68"/>
          <p:cNvSpPr/>
          <p:nvPr/>
        </p:nvSpPr>
        <p:spPr>
          <a:xfrm>
            <a:off x="686880" y="5761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69"/>
          <p:cNvSpPr/>
          <p:nvPr/>
        </p:nvSpPr>
        <p:spPr>
          <a:xfrm>
            <a:off x="2095560" y="5761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70"/>
          <p:cNvSpPr/>
          <p:nvPr/>
        </p:nvSpPr>
        <p:spPr>
          <a:xfrm>
            <a:off x="3526560" y="5761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Box 71"/>
          <p:cNvSpPr/>
          <p:nvPr/>
        </p:nvSpPr>
        <p:spPr>
          <a:xfrm>
            <a:off x="4920480" y="5770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Box 73"/>
          <p:cNvSpPr/>
          <p:nvPr/>
        </p:nvSpPr>
        <p:spPr>
          <a:xfrm>
            <a:off x="6379560" y="57704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弧形 76"/>
          <p:cNvSpPr/>
          <p:nvPr/>
        </p:nvSpPr>
        <p:spPr>
          <a:xfrm>
            <a:off x="898560" y="5508720"/>
            <a:ext cx="1403280" cy="468360"/>
          </a:xfrm>
          <a:custGeom>
            <a:avLst/>
            <a:gdLst>
              <a:gd name="textAreaLeft" fmla="*/ 1080 w 1403280"/>
              <a:gd name="textAreaRight" fmla="*/ 1403640 w 1403280"/>
              <a:gd name="textAreaTop" fmla="*/ 0 h 468360"/>
              <a:gd name="textAreaBottom" fmla="*/ 234360 h 468360"/>
            </a:gdLst>
            <a:ahLst/>
            <a:rect l="textAreaLeft" t="textAreaTop" r="textAreaRight" b="textAreaBottom"/>
            <a:pathLst>
              <a:path stroke="0" w="1404000" h="468000">
                <a:moveTo>
                  <a:pt x="1281" y="219868"/>
                </a:moveTo>
                <a:lnTo>
                  <a:pt x="1281" y="219868"/>
                </a:lnTo>
                <a:arcTo wR="702000" hR="234000" stAng="-10730677" swAng="10730687"/>
                <a:lnTo>
                  <a:pt x="702000" y="234000"/>
                </a:lnTo>
                <a:close/>
              </a:path>
              <a:path fill="none" w="1404000" h="468000">
                <a:moveTo>
                  <a:pt x="1281" y="219868"/>
                </a:moveTo>
                <a:lnTo>
                  <a:pt x="1281" y="219868"/>
                </a:lnTo>
                <a:arcTo wR="702000" hR="234000" stAng="-10730677" swAng="10730687"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弧形 77"/>
          <p:cNvSpPr/>
          <p:nvPr/>
        </p:nvSpPr>
        <p:spPr>
          <a:xfrm>
            <a:off x="2316240" y="5518080"/>
            <a:ext cx="1403280" cy="466920"/>
          </a:xfrm>
          <a:custGeom>
            <a:avLst/>
            <a:gdLst>
              <a:gd name="textAreaLeft" fmla="*/ 1080 w 1403280"/>
              <a:gd name="textAreaRight" fmla="*/ 1403640 w 1403280"/>
              <a:gd name="textAreaTop" fmla="*/ 0 h 466920"/>
              <a:gd name="textAreaBottom" fmla="*/ 233640 h 466920"/>
            </a:gdLst>
            <a:ahLst/>
            <a:rect l="textAreaLeft" t="textAreaTop" r="textAreaRight" b="textAreaBottom"/>
            <a:pathLst>
              <a:path stroke="0" w="1404000" h="468000">
                <a:moveTo>
                  <a:pt x="1281" y="219868"/>
                </a:moveTo>
                <a:lnTo>
                  <a:pt x="1281" y="219868"/>
                </a:lnTo>
                <a:arcTo wR="702000" hR="234000" stAng="-10730677" swAng="10730687"/>
                <a:lnTo>
                  <a:pt x="702000" y="234000"/>
                </a:lnTo>
                <a:close/>
              </a:path>
              <a:path fill="none" w="1404000" h="468000">
                <a:moveTo>
                  <a:pt x="1281" y="219868"/>
                </a:moveTo>
                <a:lnTo>
                  <a:pt x="1281" y="219868"/>
                </a:lnTo>
                <a:arcTo wR="702000" hR="234000" stAng="-10730677" swAng="10730687"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弧形 78"/>
          <p:cNvSpPr/>
          <p:nvPr/>
        </p:nvSpPr>
        <p:spPr>
          <a:xfrm>
            <a:off x="3733920" y="5508720"/>
            <a:ext cx="1404720" cy="466560"/>
          </a:xfrm>
          <a:custGeom>
            <a:avLst/>
            <a:gdLst>
              <a:gd name="textAreaLeft" fmla="*/ 1080 w 1404720"/>
              <a:gd name="textAreaRight" fmla="*/ 1405080 w 1404720"/>
              <a:gd name="textAreaTop" fmla="*/ 0 h 466560"/>
              <a:gd name="textAreaBottom" fmla="*/ 233280 h 466560"/>
            </a:gdLst>
            <a:ahLst/>
            <a:rect l="textAreaLeft" t="textAreaTop" r="textAreaRight" b="textAreaBottom"/>
            <a:pathLst>
              <a:path stroke="0" w="1404000" h="468000">
                <a:moveTo>
                  <a:pt x="1281" y="219868"/>
                </a:moveTo>
                <a:lnTo>
                  <a:pt x="1281" y="219868"/>
                </a:lnTo>
                <a:arcTo wR="702000" hR="234000" stAng="-10730677" swAng="10730687"/>
                <a:lnTo>
                  <a:pt x="702000" y="234000"/>
                </a:lnTo>
                <a:close/>
              </a:path>
              <a:path fill="none" w="1404000" h="468000">
                <a:moveTo>
                  <a:pt x="1281" y="219868"/>
                </a:moveTo>
                <a:lnTo>
                  <a:pt x="1281" y="219868"/>
                </a:lnTo>
                <a:arcTo wR="702000" hR="234000" stAng="-10730677" swAng="10730687"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弧形 79"/>
          <p:cNvSpPr/>
          <p:nvPr/>
        </p:nvSpPr>
        <p:spPr>
          <a:xfrm>
            <a:off x="5167440" y="5499000"/>
            <a:ext cx="1403280" cy="468360"/>
          </a:xfrm>
          <a:custGeom>
            <a:avLst/>
            <a:gdLst>
              <a:gd name="textAreaLeft" fmla="*/ 1080 w 1403280"/>
              <a:gd name="textAreaRight" fmla="*/ 1403640 w 1403280"/>
              <a:gd name="textAreaTop" fmla="*/ 0 h 468360"/>
              <a:gd name="textAreaBottom" fmla="*/ 234360 h 468360"/>
            </a:gdLst>
            <a:ahLst/>
            <a:rect l="textAreaLeft" t="textAreaTop" r="textAreaRight" b="textAreaBottom"/>
            <a:pathLst>
              <a:path stroke="0" w="1404000" h="468000">
                <a:moveTo>
                  <a:pt x="1281" y="219868"/>
                </a:moveTo>
                <a:lnTo>
                  <a:pt x="1281" y="219868"/>
                </a:lnTo>
                <a:arcTo wR="702000" hR="234000" stAng="-10730677" swAng="10730687"/>
                <a:lnTo>
                  <a:pt x="702000" y="234000"/>
                </a:lnTo>
                <a:close/>
              </a:path>
              <a:path fill="none" w="1404000" h="468000">
                <a:moveTo>
                  <a:pt x="1281" y="219868"/>
                </a:moveTo>
                <a:lnTo>
                  <a:pt x="1281" y="219868"/>
                </a:lnTo>
                <a:arcTo wR="702000" hR="234000" stAng="-10730677" swAng="10730687"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直接连接符 66"/>
          <p:cNvSpPr/>
          <p:nvPr/>
        </p:nvSpPr>
        <p:spPr>
          <a:xfrm>
            <a:off x="3727440" y="5575320"/>
            <a:ext cx="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直接连接符 65"/>
          <p:cNvSpPr/>
          <p:nvPr/>
        </p:nvSpPr>
        <p:spPr>
          <a:xfrm>
            <a:off x="2306520" y="5581800"/>
            <a:ext cx="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直接连接符 67"/>
          <p:cNvSpPr/>
          <p:nvPr/>
        </p:nvSpPr>
        <p:spPr>
          <a:xfrm>
            <a:off x="5148360" y="5581800"/>
            <a:ext cx="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直接连接符 64"/>
          <p:cNvSpPr/>
          <p:nvPr/>
        </p:nvSpPr>
        <p:spPr>
          <a:xfrm>
            <a:off x="895320" y="5581800"/>
            <a:ext cx="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直接连接符 74"/>
          <p:cNvSpPr/>
          <p:nvPr/>
        </p:nvSpPr>
        <p:spPr>
          <a:xfrm>
            <a:off x="6588000" y="5581800"/>
            <a:ext cx="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弧形 80"/>
          <p:cNvSpPr/>
          <p:nvPr/>
        </p:nvSpPr>
        <p:spPr>
          <a:xfrm>
            <a:off x="900000" y="5364000"/>
            <a:ext cx="2843280" cy="792360"/>
          </a:xfrm>
          <a:custGeom>
            <a:avLst/>
            <a:gdLst>
              <a:gd name="textAreaLeft" fmla="*/ 3600 w 2843280"/>
              <a:gd name="textAreaRight" fmla="*/ 2843640 w 2843280"/>
              <a:gd name="textAreaTop" fmla="*/ 0 h 792360"/>
              <a:gd name="textAreaBottom" fmla="*/ 396360 h 792360"/>
            </a:gdLst>
            <a:ahLst/>
            <a:rect l="textAreaLeft" t="textAreaTop" r="textAreaRight" b="textAreaBottom"/>
            <a:pathLst>
              <a:path stroke="0" w="2844000" h="792000">
                <a:moveTo>
                  <a:pt x="3715" y="367396"/>
                </a:moveTo>
                <a:lnTo>
                  <a:pt x="3715" y="367396"/>
                </a:lnTo>
                <a:arcTo wR="1422000" hR="396000" stAng="-10730677" swAng="10730687"/>
                <a:lnTo>
                  <a:pt x="1422000" y="396000"/>
                </a:lnTo>
                <a:close/>
              </a:path>
              <a:path fill="none" w="2844000" h="792000">
                <a:moveTo>
                  <a:pt x="3715" y="367396"/>
                </a:moveTo>
                <a:lnTo>
                  <a:pt x="3715" y="367396"/>
                </a:lnTo>
                <a:arcTo wR="1422000" hR="396000" stAng="-10730677" swAng="10730687"/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弧形 81"/>
          <p:cNvSpPr/>
          <p:nvPr/>
        </p:nvSpPr>
        <p:spPr>
          <a:xfrm>
            <a:off x="2297160" y="5338800"/>
            <a:ext cx="2843280" cy="792000"/>
          </a:xfrm>
          <a:custGeom>
            <a:avLst/>
            <a:gdLst>
              <a:gd name="textAreaLeft" fmla="*/ 3600 w 2843280"/>
              <a:gd name="textAreaRight" fmla="*/ 2843640 w 2843280"/>
              <a:gd name="textAreaTop" fmla="*/ 0 h 792000"/>
              <a:gd name="textAreaBottom" fmla="*/ 396000 h 792000"/>
            </a:gdLst>
            <a:ahLst/>
            <a:rect l="textAreaLeft" t="textAreaTop" r="textAreaRight" b="textAreaBottom"/>
            <a:pathLst>
              <a:path stroke="0" w="2844000" h="792000">
                <a:moveTo>
                  <a:pt x="3715" y="367396"/>
                </a:moveTo>
                <a:lnTo>
                  <a:pt x="3715" y="367396"/>
                </a:lnTo>
                <a:arcTo wR="1422000" hR="396000" stAng="-10730677" swAng="10730687"/>
                <a:lnTo>
                  <a:pt x="1422000" y="396000"/>
                </a:lnTo>
                <a:close/>
              </a:path>
              <a:path fill="none" w="2844000" h="792000">
                <a:moveTo>
                  <a:pt x="3715" y="367396"/>
                </a:moveTo>
                <a:lnTo>
                  <a:pt x="3715" y="367396"/>
                </a:lnTo>
                <a:arcTo wR="1422000" hR="396000" stAng="-10730677" swAng="10730687"/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弧形 82"/>
          <p:cNvSpPr/>
          <p:nvPr/>
        </p:nvSpPr>
        <p:spPr>
          <a:xfrm>
            <a:off x="3745080" y="5354640"/>
            <a:ext cx="2842920" cy="792000"/>
          </a:xfrm>
          <a:custGeom>
            <a:avLst/>
            <a:gdLst>
              <a:gd name="textAreaLeft" fmla="*/ 3600 w 2842920"/>
              <a:gd name="textAreaRight" fmla="*/ 2843280 w 2842920"/>
              <a:gd name="textAreaTop" fmla="*/ 0 h 792000"/>
              <a:gd name="textAreaBottom" fmla="*/ 396000 h 792000"/>
            </a:gdLst>
            <a:ahLst/>
            <a:rect l="textAreaLeft" t="textAreaTop" r="textAreaRight" b="textAreaBottom"/>
            <a:pathLst>
              <a:path stroke="0" w="2844000" h="792000">
                <a:moveTo>
                  <a:pt x="3715" y="367396"/>
                </a:moveTo>
                <a:lnTo>
                  <a:pt x="3715" y="367396"/>
                </a:lnTo>
                <a:arcTo wR="1422000" hR="396000" stAng="-10730677" swAng="10730687"/>
                <a:lnTo>
                  <a:pt x="1422000" y="396000"/>
                </a:lnTo>
                <a:close/>
              </a:path>
              <a:path fill="none" w="2844000" h="792000">
                <a:moveTo>
                  <a:pt x="3715" y="367396"/>
                </a:moveTo>
                <a:lnTo>
                  <a:pt x="3715" y="367396"/>
                </a:lnTo>
                <a:arcTo wR="1422000" hR="396000" stAng="-10730677" swAng="10730687"/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弧形 83"/>
          <p:cNvSpPr/>
          <p:nvPr/>
        </p:nvSpPr>
        <p:spPr>
          <a:xfrm>
            <a:off x="900000" y="5200560"/>
            <a:ext cx="4283280" cy="1116000"/>
          </a:xfrm>
          <a:custGeom>
            <a:avLst/>
            <a:gdLst>
              <a:gd name="textAreaLeft" fmla="*/ 6120 w 4283280"/>
              <a:gd name="textAreaRight" fmla="*/ 4283640 w 4283280"/>
              <a:gd name="textAreaTop" fmla="*/ 0 h 1116000"/>
              <a:gd name="textAreaBottom" fmla="*/ 558000 h 1116000"/>
            </a:gdLst>
            <a:ahLst/>
            <a:rect l="textAreaLeft" t="textAreaTop" r="textAreaRight" b="textAreaBottom"/>
            <a:pathLst>
              <a:path stroke="0" w="4284000" h="1116000">
                <a:moveTo>
                  <a:pt x="6391" y="514928"/>
                </a:moveTo>
                <a:lnTo>
                  <a:pt x="6391" y="514928"/>
                </a:lnTo>
                <a:arcTo wR="2142000" hR="558000" stAng="-10730675" swAng="10730683"/>
                <a:lnTo>
                  <a:pt x="2142000" y="558000"/>
                </a:lnTo>
                <a:close/>
              </a:path>
              <a:path fill="none" w="4284000" h="1116000">
                <a:moveTo>
                  <a:pt x="6391" y="514928"/>
                </a:moveTo>
                <a:lnTo>
                  <a:pt x="6391" y="514928"/>
                </a:lnTo>
                <a:arcTo wR="2142000" hR="558000" stAng="-10730675" swAng="10730683"/>
              </a:path>
            </a:pathLst>
          </a:cu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弧形 84"/>
          <p:cNvSpPr/>
          <p:nvPr/>
        </p:nvSpPr>
        <p:spPr>
          <a:xfrm>
            <a:off x="2306520" y="5157720"/>
            <a:ext cx="4283280" cy="1116000"/>
          </a:xfrm>
          <a:custGeom>
            <a:avLst/>
            <a:gdLst>
              <a:gd name="textAreaLeft" fmla="*/ 0 w 4283280"/>
              <a:gd name="textAreaRight" fmla="*/ 4283640 w 4283280"/>
              <a:gd name="textAreaTop" fmla="*/ 0 h 1116000"/>
              <a:gd name="textAreaBottom" fmla="*/ 558000 h 1116000"/>
            </a:gdLst>
            <a:ahLst/>
            <a:rect l="textAreaLeft" t="textAreaTop" r="textAreaRight" b="textAreaBottom"/>
            <a:pathLst>
              <a:path stroke="0" w="4284000" h="1116000">
                <a:moveTo>
                  <a:pt x="86" y="553013"/>
                </a:moveTo>
                <a:lnTo>
                  <a:pt x="86" y="553013"/>
                </a:lnTo>
                <a:arcTo wR="2142000" hR="558000" stAng="-10791996" swAng="10792004"/>
                <a:lnTo>
                  <a:pt x="2142000" y="558000"/>
                </a:lnTo>
                <a:close/>
              </a:path>
              <a:path fill="none" w="4284000" h="1116000">
                <a:moveTo>
                  <a:pt x="86" y="553013"/>
                </a:moveTo>
                <a:lnTo>
                  <a:pt x="86" y="553013"/>
                </a:lnTo>
                <a:arcTo wR="2142000" hR="558000" stAng="-10791996" swAng="10792004"/>
              </a:path>
            </a:pathLst>
          </a:cu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弧形 86"/>
          <p:cNvSpPr/>
          <p:nvPr/>
        </p:nvSpPr>
        <p:spPr>
          <a:xfrm>
            <a:off x="900000" y="4941720"/>
            <a:ext cx="5688000" cy="1656000"/>
          </a:xfrm>
          <a:custGeom>
            <a:avLst/>
            <a:gdLst>
              <a:gd name="textAreaLeft" fmla="*/ 6480 w 5688000"/>
              <a:gd name="textAreaRight" fmla="*/ 5683680 w 5688000"/>
              <a:gd name="textAreaTop" fmla="*/ 0 h 1656000"/>
              <a:gd name="textAreaBottom" fmla="*/ 780480 h 1656000"/>
            </a:gdLst>
            <a:ahLst/>
            <a:rect l="textAreaLeft" t="textAreaTop" r="textAreaRight" b="textAreaBottom"/>
            <a:pathLst>
              <a:path stroke="0" w="5688000" h="1656000">
                <a:moveTo>
                  <a:pt x="6799" y="770779"/>
                </a:moveTo>
                <a:lnTo>
                  <a:pt x="6799" y="770779"/>
                </a:lnTo>
                <a:arcTo wR="2844000" hR="828000" stAng="-10730677" swAng="10673309"/>
                <a:lnTo>
                  <a:pt x="2844000" y="828000"/>
                </a:lnTo>
                <a:close/>
              </a:path>
              <a:path fill="none" w="5688000" h="1656000">
                <a:moveTo>
                  <a:pt x="6799" y="770779"/>
                </a:moveTo>
                <a:lnTo>
                  <a:pt x="6799" y="770779"/>
                </a:lnTo>
                <a:arcTo wR="2844000" hR="828000" stAng="-10730677" swAng="10673309"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Box 87"/>
          <p:cNvSpPr/>
          <p:nvPr/>
        </p:nvSpPr>
        <p:spPr>
          <a:xfrm>
            <a:off x="1066680" y="35640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＋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＋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＋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（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88"/>
          <p:cNvSpPr/>
          <p:nvPr/>
        </p:nvSpPr>
        <p:spPr>
          <a:xfrm>
            <a:off x="517680" y="4175280"/>
            <a:ext cx="866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汽车站，单程需要准备多少种不同的车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直接连接符 90"/>
          <p:cNvSpPr/>
          <p:nvPr/>
        </p:nvSpPr>
        <p:spPr>
          <a:xfrm>
            <a:off x="6588000" y="575136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直接连接符 91"/>
          <p:cNvSpPr/>
          <p:nvPr/>
        </p:nvSpPr>
        <p:spPr>
          <a:xfrm>
            <a:off x="8028000" y="5589720"/>
            <a:ext cx="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92"/>
          <p:cNvSpPr/>
          <p:nvPr/>
        </p:nvSpPr>
        <p:spPr>
          <a:xfrm>
            <a:off x="7830000" y="577044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弧形 93"/>
          <p:cNvSpPr/>
          <p:nvPr/>
        </p:nvSpPr>
        <p:spPr>
          <a:xfrm>
            <a:off x="6603840" y="5489640"/>
            <a:ext cx="1403640" cy="466560"/>
          </a:xfrm>
          <a:custGeom>
            <a:avLst/>
            <a:gdLst>
              <a:gd name="textAreaLeft" fmla="*/ 1080 w 1403640"/>
              <a:gd name="textAreaRight" fmla="*/ 1404000 w 1403640"/>
              <a:gd name="textAreaTop" fmla="*/ 0 h 466560"/>
              <a:gd name="textAreaBottom" fmla="*/ 233280 h 466560"/>
            </a:gdLst>
            <a:ahLst/>
            <a:rect l="textAreaLeft" t="textAreaTop" r="textAreaRight" b="textAreaBottom"/>
            <a:pathLst>
              <a:path stroke="0" w="1404000" h="468000">
                <a:moveTo>
                  <a:pt x="1281" y="219868"/>
                </a:moveTo>
                <a:lnTo>
                  <a:pt x="1281" y="219868"/>
                </a:lnTo>
                <a:arcTo wR="702000" hR="234000" stAng="-10730677" swAng="10730687"/>
                <a:lnTo>
                  <a:pt x="702000" y="234000"/>
                </a:lnTo>
                <a:close/>
              </a:path>
              <a:path fill="none" w="1404000" h="468000">
                <a:moveTo>
                  <a:pt x="1281" y="219868"/>
                </a:moveTo>
                <a:lnTo>
                  <a:pt x="1281" y="219868"/>
                </a:lnTo>
                <a:arcTo wR="702000" hR="234000" stAng="-10730677" swAng="10730687"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弧形 94"/>
          <p:cNvSpPr/>
          <p:nvPr/>
        </p:nvSpPr>
        <p:spPr>
          <a:xfrm>
            <a:off x="5184720" y="5361120"/>
            <a:ext cx="2843280" cy="792000"/>
          </a:xfrm>
          <a:custGeom>
            <a:avLst/>
            <a:gdLst>
              <a:gd name="textAreaLeft" fmla="*/ 3600 w 2843280"/>
              <a:gd name="textAreaRight" fmla="*/ 2843640 w 2843280"/>
              <a:gd name="textAreaTop" fmla="*/ 0 h 792000"/>
              <a:gd name="textAreaBottom" fmla="*/ 396000 h 792000"/>
            </a:gdLst>
            <a:ahLst/>
            <a:rect l="textAreaLeft" t="textAreaTop" r="textAreaRight" b="textAreaBottom"/>
            <a:pathLst>
              <a:path stroke="0" w="2844000" h="792000">
                <a:moveTo>
                  <a:pt x="3715" y="367396"/>
                </a:moveTo>
                <a:lnTo>
                  <a:pt x="3715" y="367396"/>
                </a:lnTo>
                <a:arcTo wR="1422000" hR="396000" stAng="-10730677" swAng="10730687"/>
                <a:lnTo>
                  <a:pt x="1422000" y="396000"/>
                </a:lnTo>
                <a:close/>
              </a:path>
              <a:path fill="none" w="2844000" h="792000">
                <a:moveTo>
                  <a:pt x="3715" y="367396"/>
                </a:moveTo>
                <a:lnTo>
                  <a:pt x="3715" y="367396"/>
                </a:lnTo>
                <a:arcTo wR="1422000" hR="396000" stAng="-10730677" swAng="10730687"/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弧形 95"/>
          <p:cNvSpPr/>
          <p:nvPr/>
        </p:nvSpPr>
        <p:spPr>
          <a:xfrm>
            <a:off x="3745080" y="5181480"/>
            <a:ext cx="4282920" cy="1116000"/>
          </a:xfrm>
          <a:custGeom>
            <a:avLst/>
            <a:gdLst>
              <a:gd name="textAreaLeft" fmla="*/ 0 w 4282920"/>
              <a:gd name="textAreaRight" fmla="*/ 4283280 w 4282920"/>
              <a:gd name="textAreaTop" fmla="*/ 0 h 1116000"/>
              <a:gd name="textAreaBottom" fmla="*/ 558000 h 1116000"/>
            </a:gdLst>
            <a:ahLst/>
            <a:rect l="textAreaLeft" t="textAreaTop" r="textAreaRight" b="textAreaBottom"/>
            <a:pathLst>
              <a:path stroke="0" w="4284000" h="1116000">
                <a:moveTo>
                  <a:pt x="86" y="553013"/>
                </a:moveTo>
                <a:lnTo>
                  <a:pt x="86" y="553013"/>
                </a:lnTo>
                <a:arcTo wR="2142000" hR="558000" stAng="-10791996" swAng="10792004"/>
                <a:lnTo>
                  <a:pt x="2142000" y="558000"/>
                </a:lnTo>
                <a:close/>
              </a:path>
              <a:path fill="none" w="4284000" h="1116000">
                <a:moveTo>
                  <a:pt x="86" y="553013"/>
                </a:moveTo>
                <a:lnTo>
                  <a:pt x="86" y="553013"/>
                </a:lnTo>
                <a:arcTo wR="2142000" hR="558000" stAng="-10791996" swAng="10792004"/>
              </a:path>
            </a:pathLst>
          </a:cu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弧形 96"/>
          <p:cNvSpPr/>
          <p:nvPr/>
        </p:nvSpPr>
        <p:spPr>
          <a:xfrm>
            <a:off x="2340000" y="4965840"/>
            <a:ext cx="5688000" cy="1655640"/>
          </a:xfrm>
          <a:custGeom>
            <a:avLst/>
            <a:gdLst>
              <a:gd name="textAreaLeft" fmla="*/ 6480 w 5688000"/>
              <a:gd name="textAreaRight" fmla="*/ 5683680 w 5688000"/>
              <a:gd name="textAreaTop" fmla="*/ 0 h 1655640"/>
              <a:gd name="textAreaBottom" fmla="*/ 780480 h 1655640"/>
            </a:gdLst>
            <a:ahLst/>
            <a:rect l="textAreaLeft" t="textAreaTop" r="textAreaRight" b="textAreaBottom"/>
            <a:pathLst>
              <a:path stroke="0" w="5688000" h="1656000">
                <a:moveTo>
                  <a:pt x="6799" y="770779"/>
                </a:moveTo>
                <a:lnTo>
                  <a:pt x="6799" y="770779"/>
                </a:lnTo>
                <a:arcTo wR="2844000" hR="828000" stAng="-10730677" swAng="10673309"/>
                <a:lnTo>
                  <a:pt x="2844000" y="828000"/>
                </a:lnTo>
                <a:close/>
              </a:path>
              <a:path fill="none" w="5688000" h="1656000">
                <a:moveTo>
                  <a:pt x="6799" y="770779"/>
                </a:moveTo>
                <a:lnTo>
                  <a:pt x="6799" y="770779"/>
                </a:lnTo>
                <a:arcTo wR="2844000" hR="828000" stAng="-10730677" swAng="10673309"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弧形 97"/>
          <p:cNvSpPr/>
          <p:nvPr/>
        </p:nvSpPr>
        <p:spPr>
          <a:xfrm>
            <a:off x="900000" y="4641840"/>
            <a:ext cx="7162920" cy="2340000"/>
          </a:xfrm>
          <a:custGeom>
            <a:avLst/>
            <a:gdLst>
              <a:gd name="textAreaLeft" fmla="*/ 6480 w 7162920"/>
              <a:gd name="textAreaRight" fmla="*/ 7158600 w 7162920"/>
              <a:gd name="textAreaTop" fmla="*/ 0 h 2340000"/>
              <a:gd name="textAreaBottom" fmla="*/ 1110240 h 2340000"/>
            </a:gdLst>
            <a:ahLst/>
            <a:rect l="textAreaLeft" t="textAreaTop" r="textAreaRight" b="textAreaBottom"/>
            <a:pathLst>
              <a:path stroke="0" w="7164000" h="2340000">
                <a:moveTo>
                  <a:pt x="6809" y="1097895"/>
                </a:moveTo>
                <a:lnTo>
                  <a:pt x="6809" y="1097895"/>
                </a:lnTo>
                <a:arcTo wR="3582000" hR="1170000" stAng="-10730676" swAng="10673308"/>
                <a:lnTo>
                  <a:pt x="3582000" y="1170000"/>
                </a:lnTo>
                <a:close/>
              </a:path>
              <a:path fill="none" w="7164000" h="2340000">
                <a:moveTo>
                  <a:pt x="6809" y="1097895"/>
                </a:moveTo>
                <a:lnTo>
                  <a:pt x="6809" y="1097895"/>
                </a:lnTo>
                <a:arcTo wR="3582000" hR="1170000" stAng="-10730676" swAng="10673308"/>
              </a:path>
            </a:pathLst>
          </a:custGeom>
          <a:noFill/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Box 98"/>
          <p:cNvSpPr/>
          <p:nvPr/>
        </p:nvSpPr>
        <p:spPr>
          <a:xfrm>
            <a:off x="449280" y="3564000"/>
            <a:ext cx="505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＋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＋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＋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＋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15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（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7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1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5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2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Box 56"/>
          <p:cNvSpPr/>
          <p:nvPr/>
        </p:nvSpPr>
        <p:spPr>
          <a:xfrm>
            <a:off x="272880" y="1413000"/>
            <a:ext cx="866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汽车站，单程需要准备多少种不同的车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呢？你发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Box 57"/>
          <p:cNvSpPr/>
          <p:nvPr/>
        </p:nvSpPr>
        <p:spPr>
          <a:xfrm>
            <a:off x="431640" y="2708280"/>
            <a:ext cx="866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站时，车票种数为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58"/>
          <p:cNvSpPr/>
          <p:nvPr/>
        </p:nvSpPr>
        <p:spPr>
          <a:xfrm>
            <a:off x="446040" y="3193920"/>
            <a:ext cx="866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站时，车票种数为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59"/>
          <p:cNvSpPr/>
          <p:nvPr/>
        </p:nvSpPr>
        <p:spPr>
          <a:xfrm>
            <a:off x="446040" y="3716280"/>
            <a:ext cx="866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站时，车票种数为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60"/>
          <p:cNvSpPr/>
          <p:nvPr/>
        </p:nvSpPr>
        <p:spPr>
          <a:xfrm>
            <a:off x="446040" y="4213080"/>
            <a:ext cx="866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站时，车票种数为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48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9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54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67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  <p:sp>
        <p:nvSpPr>
          <p:cNvPr id="873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3:53Z</dcterms:modified>
  <cp:revision>284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f61e000000000001024140</vt:lpwstr>
  </property>
</Properties>
</file>