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199-4BB3-4772-AA05-C4CD0F08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C5F-F54C-470A-8805-5CE878C4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C40-FDEB-45F3-9573-596AC2B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5BF-F90D-494A-8A05-9A2AE91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987-427F-418D-8EF7-9A53694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7BF-60D8-4513-95D9-70128CEC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4AA-736E-43EA-B07F-9DFBBA1B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301-98E7-4363-A075-143AD506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86D-4119-4F1D-9128-5AA7DC9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EE1-AF67-48DB-90D4-0BDBF6D9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AD8-33AA-49B0-B4DE-A3E7178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FB0-0C12-4A1E-9265-0690FB28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A6D7-1C81-4474-ACEF-23D5E2CD56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7" descr=""/>
          <p:cNvPicPr/>
          <p:nvPr/>
        </p:nvPicPr>
        <p:blipFill>
          <a:blip r:embed="rId1"/>
          <a:stretch/>
        </p:blipFill>
        <p:spPr>
          <a:xfrm>
            <a:off x="2216160" y="2565360"/>
            <a:ext cx="43689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74680" y="1222200"/>
            <a:ext cx="8659800" cy="793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708120" y="2259000"/>
            <a:ext cx="3779640" cy="2212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754520" y="2276640"/>
            <a:ext cx="3780000" cy="22143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2532240" y="4541760"/>
            <a:ext cx="3911400" cy="19130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316080" y="1266840"/>
            <a:ext cx="8637480" cy="799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57320" y="2421000"/>
            <a:ext cx="2987640" cy="21114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5" descr="10.png"/>
          <p:cNvPicPr/>
          <p:nvPr/>
        </p:nvPicPr>
        <p:blipFill>
          <a:blip r:embed="rId3"/>
          <a:stretch/>
        </p:blipFill>
        <p:spPr>
          <a:xfrm>
            <a:off x="3170160" y="2479680"/>
            <a:ext cx="2940120" cy="21128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7" descr="11.png"/>
          <p:cNvPicPr/>
          <p:nvPr/>
        </p:nvPicPr>
        <p:blipFill>
          <a:blip r:embed="rId4"/>
          <a:stretch/>
        </p:blipFill>
        <p:spPr>
          <a:xfrm>
            <a:off x="6105600" y="2479680"/>
            <a:ext cx="2946240" cy="2112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5"/>
          <a:stretch/>
        </p:blipFill>
        <p:spPr>
          <a:xfrm>
            <a:off x="452520" y="4770360"/>
            <a:ext cx="8124840" cy="6098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8"/>
          <p:cNvSpPr/>
          <p:nvPr/>
        </p:nvSpPr>
        <p:spPr>
          <a:xfrm>
            <a:off x="3059280" y="55897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商不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665280" y="1222200"/>
            <a:ext cx="6372000" cy="409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347760" y="1916280"/>
            <a:ext cx="5048280" cy="15508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6" descr="12.png"/>
          <p:cNvPicPr/>
          <p:nvPr/>
        </p:nvPicPr>
        <p:blipFill>
          <a:blip r:embed="rId3"/>
          <a:stretch/>
        </p:blipFill>
        <p:spPr>
          <a:xfrm>
            <a:off x="3335400" y="3467160"/>
            <a:ext cx="4122720" cy="27036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和同伴说说它们的商为什么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7" descr="13.png"/>
          <p:cNvPicPr/>
          <p:nvPr/>
        </p:nvPicPr>
        <p:blipFill>
          <a:blip r:embed="rId2"/>
          <a:stretch/>
        </p:blipFill>
        <p:spPr>
          <a:xfrm>
            <a:off x="1123920" y="2421000"/>
            <a:ext cx="70516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的计算对吗？和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4" descr="14.png"/>
          <p:cNvPicPr/>
          <p:nvPr/>
        </p:nvPicPr>
        <p:blipFill>
          <a:blip r:embed="rId2"/>
          <a:stretch/>
        </p:blipFill>
        <p:spPr>
          <a:xfrm>
            <a:off x="539640" y="2284560"/>
            <a:ext cx="2376720" cy="33382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5" descr="15.png"/>
          <p:cNvPicPr/>
          <p:nvPr/>
        </p:nvPicPr>
        <p:blipFill>
          <a:blip r:embed="rId3"/>
          <a:stretch/>
        </p:blipFill>
        <p:spPr>
          <a:xfrm>
            <a:off x="2916360" y="2284560"/>
            <a:ext cx="3024000" cy="33811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6" descr="16.png"/>
          <p:cNvPicPr/>
          <p:nvPr/>
        </p:nvPicPr>
        <p:blipFill>
          <a:blip r:embed="rId4"/>
          <a:stretch/>
        </p:blipFill>
        <p:spPr>
          <a:xfrm>
            <a:off x="5900760" y="2181240"/>
            <a:ext cx="31687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各题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2"/>
          <a:stretch/>
        </p:blipFill>
        <p:spPr>
          <a:xfrm>
            <a:off x="100080" y="2421000"/>
            <a:ext cx="8943840" cy="1257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捆铁丝有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4" descr="17.png"/>
          <p:cNvPicPr/>
          <p:nvPr/>
        </p:nvPicPr>
        <p:blipFill>
          <a:blip r:embed="rId2"/>
          <a:stretch/>
        </p:blipFill>
        <p:spPr>
          <a:xfrm>
            <a:off x="144360" y="1986120"/>
            <a:ext cx="889164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09680" y="141300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7" descr="17.png"/>
          <p:cNvPicPr/>
          <p:nvPr/>
        </p:nvPicPr>
        <p:blipFill>
          <a:blip r:embed="rId2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539640" y="1413000"/>
            <a:ext cx="813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计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过程，观察计算的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步，你受到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00÷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971640" y="4797360"/>
            <a:ext cx="59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这个方法计算下面各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÷25       2000÷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27Z</dcterms:modified>
  <cp:revision>27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21a000000000001024140</vt:lpwstr>
  </property>
</Properties>
</file>