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173-B298-4F00-AA4E-E1E269B7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E60-9C07-42B0-991D-33CC8B63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FA2-90E3-46B7-BE1D-EBFE73E4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37B-8A1B-425C-B614-CFE119A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AE2-6661-4AEE-812E-7F40154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422-7979-4857-A606-F49D88EA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28F-E725-49F6-96BF-F1859BC4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314-F7CC-4F07-85EB-D993A56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573-F4B7-402F-9690-AF2C703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7E2-CF57-4FCA-81A2-666E0C9E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0D6-EBFE-4F6F-8EA5-4E052AD0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B49-F070-43DE-BBCA-64F936D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CCC9-48D0-4398-8C0B-6CB32753C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6" descr=""/>
          <p:cNvPicPr/>
          <p:nvPr/>
        </p:nvPicPr>
        <p:blipFill>
          <a:blip r:embed="rId1"/>
          <a:stretch/>
        </p:blipFill>
        <p:spPr>
          <a:xfrm>
            <a:off x="2271600" y="2421000"/>
            <a:ext cx="46515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419040" y="1235160"/>
            <a:ext cx="7039080" cy="447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16.png"/>
          <p:cNvPicPr/>
          <p:nvPr/>
        </p:nvPicPr>
        <p:blipFill>
          <a:blip r:embed="rId3"/>
          <a:stretch/>
        </p:blipFill>
        <p:spPr>
          <a:xfrm>
            <a:off x="657360" y="3573360"/>
            <a:ext cx="2058840" cy="1409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17.png"/>
          <p:cNvPicPr/>
          <p:nvPr/>
        </p:nvPicPr>
        <p:blipFill>
          <a:blip r:embed="rId4"/>
          <a:stretch/>
        </p:blipFill>
        <p:spPr>
          <a:xfrm>
            <a:off x="2055960" y="4541760"/>
            <a:ext cx="2089080" cy="14320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18.png"/>
          <p:cNvPicPr/>
          <p:nvPr/>
        </p:nvPicPr>
        <p:blipFill>
          <a:blip r:embed="rId5"/>
          <a:stretch/>
        </p:blipFill>
        <p:spPr>
          <a:xfrm>
            <a:off x="4078440" y="5268960"/>
            <a:ext cx="2654280" cy="1473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667560" cy="447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4" descr=""/>
          <p:cNvPicPr/>
          <p:nvPr/>
        </p:nvPicPr>
        <p:blipFill>
          <a:blip r:embed="rId2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65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6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7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68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0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1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93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4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5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sp>
        <p:nvSpPr>
          <p:cNvPr id="796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8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9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484200" y="1252440"/>
            <a:ext cx="6734160" cy="419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509760" y="1341360"/>
            <a:ext cx="781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小红上学和回家的路线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8" descr="1.png"/>
          <p:cNvPicPr/>
          <p:nvPr/>
        </p:nvPicPr>
        <p:blipFill>
          <a:blip r:embed="rId2"/>
          <a:stretch/>
        </p:blipFill>
        <p:spPr>
          <a:xfrm>
            <a:off x="1050840" y="1989000"/>
            <a:ext cx="6593040" cy="24289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09760" y="4221000"/>
            <a:ext cx="816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家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打谷场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小树林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468360" y="53848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学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回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231300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3306600" y="424800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751536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534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4260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5321160" y="48038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2835360" y="540396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3838680" y="5411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9"/>
          <p:cNvSpPr/>
          <p:nvPr/>
        </p:nvSpPr>
        <p:spPr>
          <a:xfrm>
            <a:off x="7873920" y="538956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496800" y="59641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1"/>
          <p:cNvSpPr/>
          <p:nvPr/>
        </p:nvSpPr>
        <p:spPr>
          <a:xfrm>
            <a:off x="5118120" y="5383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小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1903320" y="596412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打谷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404172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31036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交车从起始站到终点站的往返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2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314600" cy="1971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09760" y="4149720"/>
            <a:ext cx="8383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场东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书店，请你用△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店北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健身广场，请你用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6"/>
          <p:cNvSpPr/>
          <p:nvPr/>
        </p:nvSpPr>
        <p:spPr>
          <a:xfrm>
            <a:off x="5110200" y="3535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6"/>
          <p:cNvGrpSpPr/>
          <p:nvPr/>
        </p:nvGrpSpPr>
        <p:grpSpPr>
          <a:xfrm>
            <a:off x="5145120" y="1889280"/>
            <a:ext cx="77760" cy="1618920"/>
            <a:chOff x="5145120" y="1889280"/>
            <a:chExt cx="77760" cy="1618920"/>
          </a:xfrm>
        </p:grpSpPr>
        <p:sp>
          <p:nvSpPr>
            <p:cNvPr id="833" name="直接连接符 9"/>
            <p:cNvSpPr/>
            <p:nvPr/>
          </p:nvSpPr>
          <p:spPr>
            <a:xfrm>
              <a:off x="5218920" y="1889280"/>
              <a:ext cx="0" cy="16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1"/>
            <p:cNvSpPr/>
            <p:nvPr/>
          </p:nvSpPr>
          <p:spPr>
            <a:xfrm flipH="1">
              <a:off x="5145120" y="320112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2"/>
            <p:cNvSpPr/>
            <p:nvPr/>
          </p:nvSpPr>
          <p:spPr>
            <a:xfrm flipH="1">
              <a:off x="5146920" y="29152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13"/>
            <p:cNvSpPr/>
            <p:nvPr/>
          </p:nvSpPr>
          <p:spPr>
            <a:xfrm flipH="1">
              <a:off x="5146920" y="26236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14"/>
            <p:cNvSpPr/>
            <p:nvPr/>
          </p:nvSpPr>
          <p:spPr>
            <a:xfrm flipH="1">
              <a:off x="5146200" y="232416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15"/>
            <p:cNvSpPr/>
            <p:nvPr/>
          </p:nvSpPr>
          <p:spPr>
            <a:xfrm flipH="1">
              <a:off x="5150880" y="203184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五角星 17"/>
          <p:cNvSpPr/>
          <p:nvPr/>
        </p:nvSpPr>
        <p:spPr>
          <a:xfrm>
            <a:off x="5153040" y="1959120"/>
            <a:ext cx="144360" cy="144360"/>
          </a:xfrm>
          <a:custGeom>
            <a:avLst/>
            <a:gdLst>
              <a:gd name="textAreaLeft" fmla="*/ 44640 w 144360"/>
              <a:gd name="textAreaRight" fmla="*/ 99720 w 144360"/>
              <a:gd name="textAreaTop" fmla="*/ 55080 h 144360"/>
              <a:gd name="textAreaBottom" fmla="*/ 110520 h 144360"/>
            </a:gdLst>
            <a:ahLst/>
            <a:rect l="textAreaLeft" t="textAreaTop" r="textAreaRight" b="textAreaBottom"/>
            <a:pathLst>
              <a:path w="144000" h="144000">
                <a:moveTo>
                  <a:pt x="0" y="55003"/>
                </a:moveTo>
                <a:lnTo>
                  <a:pt x="55003" y="55003"/>
                </a:lnTo>
                <a:lnTo>
                  <a:pt x="72000" y="0"/>
                </a:lnTo>
                <a:lnTo>
                  <a:pt x="88997" y="55003"/>
                </a:lnTo>
                <a:lnTo>
                  <a:pt x="144000" y="55003"/>
                </a:lnTo>
                <a:lnTo>
                  <a:pt x="99501" y="88996"/>
                </a:lnTo>
                <a:lnTo>
                  <a:pt x="116498" y="144000"/>
                </a:lnTo>
                <a:lnTo>
                  <a:pt x="72000" y="110005"/>
                </a:lnTo>
                <a:lnTo>
                  <a:pt x="27502" y="144000"/>
                </a:lnTo>
                <a:lnTo>
                  <a:pt x="44499" y="88996"/>
                </a:lnTo>
                <a:close/>
              </a:path>
            </a:pathLst>
          </a:custGeom>
          <a:solidFill>
            <a:srgbClr val="badde1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4807080" y="371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790800" y="17892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健身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践活动。你能描述从自己家到学校的路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509760" y="2276640"/>
            <a:ext cx="4422600" cy="17748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"/>
          <p:cNvPicPr/>
          <p:nvPr/>
        </p:nvPicPr>
        <p:blipFill>
          <a:blip r:embed="rId3"/>
          <a:stretch/>
        </p:blipFill>
        <p:spPr>
          <a:xfrm>
            <a:off x="4356000" y="4051440"/>
            <a:ext cx="424836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18Z</dcterms:modified>
  <cp:revision>26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e19000000000001024140</vt:lpwstr>
  </property>
</Properties>
</file>