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51C-B340-4D33-8C3F-96360B1E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570-4515-4414-8D5B-95D59BB8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FA2-7E0D-4A20-9865-9A8D26DF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212-5F98-496A-B83E-5B9C91EF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259-981B-41CB-AF92-10B1325A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9D83-16F1-489B-9D0A-16AC386B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B3B-647F-4227-83F4-2529799A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8DE-4081-46D5-8F4D-B5873C41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A26-086A-493C-9722-1CA2CBDC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C3E-729E-4CA1-A040-DAC62F59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97D-CDE6-4B4B-B076-A4B2B318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453-922D-4E26-9F2E-9B8A5A59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A0BC-7E2D-4B68-A5A7-F0856D45F6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7" descr=""/>
          <p:cNvPicPr/>
          <p:nvPr/>
        </p:nvPicPr>
        <p:blipFill>
          <a:blip r:embed="rId1"/>
          <a:stretch/>
        </p:blipFill>
        <p:spPr>
          <a:xfrm>
            <a:off x="2216160" y="2565360"/>
            <a:ext cx="43689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74680" y="1222200"/>
            <a:ext cx="8659800" cy="793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708120" y="2259000"/>
            <a:ext cx="3779640" cy="2212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754520" y="2276640"/>
            <a:ext cx="3780000" cy="22143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2532240" y="4541760"/>
            <a:ext cx="3911400" cy="191304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316080" y="1266840"/>
            <a:ext cx="8637480" cy="799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157320" y="2421000"/>
            <a:ext cx="2987640" cy="21114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5" descr="10.png"/>
          <p:cNvPicPr/>
          <p:nvPr/>
        </p:nvPicPr>
        <p:blipFill>
          <a:blip r:embed="rId3"/>
          <a:stretch/>
        </p:blipFill>
        <p:spPr>
          <a:xfrm>
            <a:off x="3170160" y="2479680"/>
            <a:ext cx="2940120" cy="21128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7" descr="11.png"/>
          <p:cNvPicPr/>
          <p:nvPr/>
        </p:nvPicPr>
        <p:blipFill>
          <a:blip r:embed="rId4"/>
          <a:stretch/>
        </p:blipFill>
        <p:spPr>
          <a:xfrm>
            <a:off x="6105600" y="2479680"/>
            <a:ext cx="2946240" cy="21128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"/>
          <p:cNvPicPr/>
          <p:nvPr/>
        </p:nvPicPr>
        <p:blipFill>
          <a:blip r:embed="rId5"/>
          <a:stretch/>
        </p:blipFill>
        <p:spPr>
          <a:xfrm>
            <a:off x="452520" y="4770360"/>
            <a:ext cx="8124840" cy="609840"/>
          </a:xfrm>
          <a:prstGeom prst="rect">
            <a:avLst/>
          </a:prstGeom>
          <a:ln w="0">
            <a:noFill/>
          </a:ln>
        </p:spPr>
      </p:pic>
      <p:sp>
        <p:nvSpPr>
          <p:cNvPr id="767" name="TextBox 28"/>
          <p:cNvSpPr/>
          <p:nvPr/>
        </p:nvSpPr>
        <p:spPr>
          <a:xfrm>
            <a:off x="3059280" y="55897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商不变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665280" y="1222200"/>
            <a:ext cx="6372000" cy="409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"/>
          <p:cNvPicPr/>
          <p:nvPr/>
        </p:nvPicPr>
        <p:blipFill>
          <a:blip r:embed="rId2"/>
          <a:stretch/>
        </p:blipFill>
        <p:spPr>
          <a:xfrm>
            <a:off x="347760" y="1916280"/>
            <a:ext cx="5048280" cy="15508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26" descr="12.png"/>
          <p:cNvPicPr/>
          <p:nvPr/>
        </p:nvPicPr>
        <p:blipFill>
          <a:blip r:embed="rId3"/>
          <a:stretch/>
        </p:blipFill>
        <p:spPr>
          <a:xfrm>
            <a:off x="3335400" y="3467160"/>
            <a:ext cx="4122720" cy="27036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和同伴说说它们的商为什么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7" descr="13.png"/>
          <p:cNvPicPr/>
          <p:nvPr/>
        </p:nvPicPr>
        <p:blipFill>
          <a:blip r:embed="rId2"/>
          <a:stretch/>
        </p:blipFill>
        <p:spPr>
          <a:xfrm>
            <a:off x="1123920" y="2421000"/>
            <a:ext cx="70516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6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的计算对吗？和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4" descr="14.png"/>
          <p:cNvPicPr/>
          <p:nvPr/>
        </p:nvPicPr>
        <p:blipFill>
          <a:blip r:embed="rId2"/>
          <a:stretch/>
        </p:blipFill>
        <p:spPr>
          <a:xfrm>
            <a:off x="539640" y="2284560"/>
            <a:ext cx="2376720" cy="33382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5" descr="15.png"/>
          <p:cNvPicPr/>
          <p:nvPr/>
        </p:nvPicPr>
        <p:blipFill>
          <a:blip r:embed="rId3"/>
          <a:stretch/>
        </p:blipFill>
        <p:spPr>
          <a:xfrm>
            <a:off x="2916360" y="2284560"/>
            <a:ext cx="3024000" cy="33811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6" descr="16.png"/>
          <p:cNvPicPr/>
          <p:nvPr/>
        </p:nvPicPr>
        <p:blipFill>
          <a:blip r:embed="rId4"/>
          <a:stretch/>
        </p:blipFill>
        <p:spPr>
          <a:xfrm>
            <a:off x="5900760" y="2181240"/>
            <a:ext cx="31687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面各题，并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2"/>
          <a:stretch/>
        </p:blipFill>
        <p:spPr>
          <a:xfrm>
            <a:off x="100080" y="2421000"/>
            <a:ext cx="8943840" cy="1257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捆铁丝有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图片 4" descr="17.png"/>
          <p:cNvPicPr/>
          <p:nvPr/>
        </p:nvPicPr>
        <p:blipFill>
          <a:blip r:embed="rId2"/>
          <a:stretch/>
        </p:blipFill>
        <p:spPr>
          <a:xfrm>
            <a:off x="144360" y="1986120"/>
            <a:ext cx="889164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09680" y="1413000"/>
            <a:ext cx="561960" cy="7999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7" descr="17.png"/>
          <p:cNvPicPr/>
          <p:nvPr/>
        </p:nvPicPr>
        <p:blipFill>
          <a:blip r:embed="rId2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539640" y="1413000"/>
            <a:ext cx="8136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计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过程，观察计算的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步，你受到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00÷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9"/>
          <p:cNvSpPr/>
          <p:nvPr/>
        </p:nvSpPr>
        <p:spPr>
          <a:xfrm>
            <a:off x="971640" y="4797360"/>
            <a:ext cx="590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这个方法计算下面各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÷25       2000÷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27Z</dcterms:modified>
  <cp:revision>27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21a000000000001024140</vt:lpwstr>
  </property>
</Properties>
</file>