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FA5-20E5-4087-B8E3-34075608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E06-F839-4E50-8DAD-5ED978FC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441-43B2-443C-9605-340E6D81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918-190B-4C44-A7A9-226AF4A3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C177-DA5A-4E4E-8366-BCAC60CB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BF51-7EF2-41F1-9326-81E0B3B1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5291-1E34-4CB4-868B-712938BA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AD67-F4E1-43B1-9441-1A8C5788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FBF6-E566-4EB1-8179-1D45339E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5F08-FF52-4649-8877-3EE8DCDE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4483-81C1-4A50-A3CC-14B6A9C9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A92-277B-47B8-9CD8-8DBBED7D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3FD4-57AF-4136-9DFE-BFC6A03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94FB-FEC0-4ADB-B5D3-3C5A6A3F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EA70-79D8-4C04-879C-E3F09319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C60B-64E9-4C2F-BCCE-21C3CBA6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83C9-E6C3-4C74-BEFE-4D1793D7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46E-692C-4F60-A473-EDD705D1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F69-CF88-432D-B6F2-BB91216E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D81-5E4D-4AA1-B69B-DE141178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447-11BE-47E6-A5C3-2C0FC75F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40C-6786-4577-BB6A-A8C4E024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C03-9DDB-45B0-860B-D5D0867F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954-F2ED-492D-90B0-B597A7EA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C004-8DE4-4FF3-BEBC-004CCFA8F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31D2-9F59-4DF7-AC58-6B91C8FD2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00000" y="1773360"/>
            <a:ext cx="89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写人习作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22680" y="508464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西航港小学     邓阳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关：人物形象刻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25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小组讨论交流交流课前搜集的资料，总结提炼方法</a:t>
            </a:r>
            <a:r>
              <a:rPr b="1" lang="en-US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一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外貌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二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语言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三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动作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四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神态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五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心理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五关：名言运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命题及名言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4920" y="2276640"/>
            <a:ext cx="903456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在你的成长经历中，有无数的人给你温暖、快乐、幸福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激之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045080" y="2349000"/>
            <a:ext cx="925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        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关：温故知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989000"/>
            <a:ext cx="93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白衣天使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    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包公审驴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当代神农氏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西门豹治邺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金色的鱼钩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吉思汗和鹰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928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关：审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我这个人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母爱伴我成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忘不了你，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填人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在你的成长经历中，有无数的人给你温暖、快乐、幸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谢之情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5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关：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685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勤快，家里的家务全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工作很负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36:58Z</dcterms:created>
  <dc:creator>ASUS</dc:creator>
  <dc:description/>
  <cp:keywords/>
  <dc:language>en-US</dc:language>
  <cp:lastModifiedBy>Windows 用户</cp:lastModifiedBy>
  <dcterms:modified xsi:type="dcterms:W3CDTF">2014-04-16T16:00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