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FBD-A18E-450B-BDF2-822CB909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4E4-DD69-4D46-822A-B0626FDF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C30-D899-4F28-A128-9CE07FF5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061-3BFC-4013-BB65-5EE4B3A2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D48C-DE4E-4C33-84CC-A13BE91A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CFC9-62EA-4AD1-800E-F3F2A14A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48C4-104E-4EEB-A3C0-595203DC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25D8-A0DE-49E0-BE7B-48F7AA31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53EA-E600-4624-ABAD-2FFEA2F6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CF2E-DD47-4638-B71B-811D939D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C83C-D6DF-4516-BE1A-34D7174D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8E5-99E7-417F-B1D4-1D83014E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4ED4-F792-40D8-B2B4-381420A9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0210-597D-4CCA-B541-D1F1C01C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EC59-3E37-4626-ABC8-E14F968D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3E99-F14A-422D-893C-4601C190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2277-812E-49A8-9486-16711CEC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563-9000-4E8B-BD1F-A929580A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CE9-F8D8-4975-8F9B-AD7C039D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FE7-776C-4247-B9E5-5C57A547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4FC7-8237-4CA5-A449-D566B073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EE8-3150-4A1C-ACD6-951A7833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7D37-655A-4FB3-A9DA-8F0A999B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AB6-D9AA-40C1-BA37-7BAD9813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29E2-86D2-4C14-AD00-88877533B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983B-0A35-46A7-BB8F-BE9C7BCA7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00000" y="1773360"/>
            <a:ext cx="89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写人习作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22680" y="508464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西航港小学     邓阳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四关：人物形象刻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25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小组讨论交流交流课前搜集的资料，总结提炼方法</a:t>
            </a:r>
            <a:r>
              <a:rPr b="1" lang="en-US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一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外貌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二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语言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三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动作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四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神态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五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心理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五关：名言运用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命题及名言运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4920" y="2276640"/>
            <a:ext cx="903456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3600" spc="-1" strike="noStrike" u="sng">
                <a:solidFill>
                  <a:srgbClr val="6600cc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在你的成长经历中，有无数的人给你温暖、快乐、幸福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激之情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1045080" y="2349000"/>
            <a:ext cx="9253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            </a:t>
            </a:r>
            <a:r>
              <a:rPr b="1" lang="zh-CN" sz="1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一关：温故知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989000"/>
            <a:ext cx="93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白衣天使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    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包公审驴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当代神农氏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西门豹治邺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金色的鱼钩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成吉思汗和鹰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19280" y="2142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二关：审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我这个人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母爱伴我成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忘不了你，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填人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在你的成长经历中，有无数的人给你温暖、快乐、幸福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谢之情吧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835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三关：选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6854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勤快，家里的家务全包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工作很负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4:36:58Z</dcterms:created>
  <dc:creator>ASUS</dc:creator>
  <dc:description/>
  <cp:keywords/>
  <dc:language>en-US</dc:language>
  <cp:lastModifiedBy>Windows 用户</cp:lastModifiedBy>
  <dcterms:modified xsi:type="dcterms:W3CDTF">2014-04-16T16:00:2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