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AD1-8ECD-4793-8851-77EFD272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444-9A7C-4410-BBF0-EDBA9F5F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A11-B0DC-48A5-91D1-97E24514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C22-CFFC-41E1-88AF-D0CC4303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3C56-E8E5-4B00-84FD-58CB5EF5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C883-DFD8-4F36-BF3F-9EACBA55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FB1E-AB9B-48A7-B059-7C5BF859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5F31-68F3-46AF-BB95-276B80A7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12C6-C337-49DC-AFF8-2EAE9358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263A-896F-48C8-8E89-D4554E1A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C388-766C-4FD9-A80B-7ED4CCA5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B6A-3CB0-4627-BB80-AF995BE1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D1F0-183D-40C1-9F4C-8E702C71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777B-DD98-4C08-A9DC-C2F70FA0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EB45-8DD2-424A-859E-320792D2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64DB-5E9C-4A17-9C02-0C243FCA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0F1D-4EA8-485E-8241-837E5F00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CDF-DF38-4B4C-AFA2-2F4DA1A9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7FA-846F-4385-B728-A0FBA3EE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DE7-573C-4B6E-B0B1-32F24AA1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631-4C84-4CEF-A6C9-EEF2791F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924-6FF4-4CD5-8AB4-B1C25892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534-C7F8-4683-B8B3-139D59FB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0F1-7288-4570-A456-5614EB62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951F-6615-42EF-B4E9-84F3C335E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5A99-FCF9-41BF-89E0-74D8B2526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00000" y="1773360"/>
            <a:ext cx="89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写人习作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22680" y="508464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西航港小学     邓阳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关：人物形象刻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25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小组讨论交流交流课前搜集的资料，总结提炼方法</a:t>
            </a:r>
            <a:r>
              <a:rPr b="1" lang="en-US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一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外貌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二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语言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三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动作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四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神态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五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心理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五关：名言运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命题及名言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4920" y="2276640"/>
            <a:ext cx="903456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在你的成长经历中，有无数的人给你温暖、快乐、幸福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激之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045080" y="2349000"/>
            <a:ext cx="925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        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关：温故知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989000"/>
            <a:ext cx="93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白衣天使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    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包公审驴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当代神农氏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西门豹治邺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金色的鱼钩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吉思汗和鹰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928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关：审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我这个人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母爱伴我成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忘不了你，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填人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在你的成长经历中，有无数的人给你温暖、快乐、幸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谢之情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5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关：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685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勤快，家里的家务全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工作很负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36:58Z</dcterms:created>
  <dc:creator>ASUS</dc:creator>
  <dc:description/>
  <cp:keywords/>
  <dc:language>en-US</dc:language>
  <cp:lastModifiedBy>Windows 用户</cp:lastModifiedBy>
  <dcterms:modified xsi:type="dcterms:W3CDTF">2014-04-16T16:00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