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CCD3-D44F-4C35-923D-1BFEF3983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118F-DFAA-4C97-9DF4-69EB2E51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E86E-B53C-44FD-80FF-F5A56B1CB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4A7B-BAE9-4DAA-AAEC-9D5B7F0E1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8833F-E720-4301-B447-51B6F34C6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7D04-65D2-4D5B-A34C-CDFF4F95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305D-B5AA-442C-9FA9-ABB91312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1F79-2D26-4676-9ED0-F7B1777C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D407-E3F5-4634-AD5E-27201F61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8B30-AF58-4DD5-87AF-D7426490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3045-7445-476A-80C3-A1563797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9339-F472-4A77-B345-D5276292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7DC6-D0BB-4470-ABC2-C224840A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1A8A-CFE1-46C8-B405-D3CDF513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FBB7-9595-4B27-8393-A3753842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9163-10AA-4525-8D21-362CD7AE2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EBAF6-1DB2-4CF2-B137-4CC8DAED4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2AA5-5D9F-4E1D-A201-2C8C7670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67E1-E920-4F9C-AAE5-33560378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47F2-4E9A-4CBF-9B7B-1BD63439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7D32-46EE-47F4-8CD6-DE395A9A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35AD-D577-4BFD-A119-C1E52DB8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8BE5-758D-4B25-B90A-4FA6D638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5604-EBB9-4906-9E33-147C80CC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F1F4-D6AC-41DE-A81D-FE28DE759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5副本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0599-4155-4111-9731-8D742BEE8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900000" y="1773360"/>
            <a:ext cx="896472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方正宋黑简体"/>
                <a:ea typeface="方正宋黑简体"/>
              </a:rPr>
              <a:t>　</a:t>
            </a:r>
            <a:r>
              <a:rPr b="1" lang="zh-CN" sz="6000" spc="-1" strike="noStrike">
                <a:solidFill>
                  <a:srgbClr val="ff0000"/>
                </a:solidFill>
                <a:latin typeface="方正宋黑简体"/>
                <a:ea typeface="方正宋黑简体"/>
              </a:rPr>
              <a:t>写人习作复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522680" y="5084640"/>
            <a:ext cx="34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西航港小学     邓阳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题目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母爱伴我成长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7567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每天即使再晚也要认真检查我的作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经常用各种方式和我聊天谈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对我犯的错“零容忍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11280" y="2420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四关：人物形象刻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1425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小组讨论交流交流课前搜集的资料，总结提炼方法</a:t>
            </a:r>
            <a:r>
              <a:rPr b="1" lang="en-US" sz="36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第一组以</a:t>
            </a:r>
            <a:r>
              <a:rPr b="1" lang="zh-CN" sz="2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外貌描写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第二组以</a:t>
            </a:r>
            <a:r>
              <a:rPr b="1" lang="zh-CN" sz="2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语言描写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第三组以</a:t>
            </a:r>
            <a:r>
              <a:rPr b="1" lang="zh-CN" sz="2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动作描写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第四组以</a:t>
            </a:r>
            <a:r>
              <a:rPr b="1" lang="zh-CN" sz="2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神态描写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第五组以</a:t>
            </a:r>
            <a:r>
              <a:rPr b="1" lang="zh-CN" sz="2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心理描写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403280" y="2420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五关：名言运用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命题及名言运用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4920" y="2276640"/>
            <a:ext cx="9034560" cy="47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Arial"/>
              </a:rPr>
              <a:t>1</a:t>
            </a:r>
            <a:r>
              <a:rPr b="0" lang="zh-CN" sz="4800" spc="-1" strike="noStrike">
                <a:solidFill>
                  <a:srgbClr val="6600cc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一个</a:t>
            </a:r>
            <a:r>
              <a:rPr b="1" lang="zh-CN" sz="3600" spc="-1" strike="noStrike" u="sng">
                <a:solidFill>
                  <a:srgbClr val="6600cc"/>
                </a:solidFill>
                <a:uFillTx/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的人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在你的成长经历中，有无数的人给你温暖、快乐、幸福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怀着一颗感恩的心，回忆起这其中的点点滴滴，你的心里一定充满了感激。你最想感谢的人是谁？赶快拿起笔表达你对他（她）的感激之情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-1045080" y="2349000"/>
            <a:ext cx="9253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            </a:t>
            </a:r>
            <a:r>
              <a:rPr b="1" lang="zh-CN" sz="1400" spc="-1" strike="noStrike">
                <a:solidFill>
                  <a:srgbClr val="6600cc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一关：温故知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0" y="1989000"/>
            <a:ext cx="939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白衣天使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    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包公审驴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当代神农氏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西门豹治邺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金色的鱼钩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成吉思汗和鹰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619280" y="214272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二关：审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题目一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《 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嘿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我这个人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》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母爱伴我成长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忘不了你，</a:t>
            </a:r>
            <a:r>
              <a:rPr b="1" lang="zh-CN" sz="4400" spc="-1" strike="noStrike" u="sng">
                <a:solidFill>
                  <a:srgbClr val="6600cc"/>
                </a:solidFill>
                <a:uFillTx/>
                <a:latin typeface="Arial"/>
              </a:rPr>
              <a:t>        </a:t>
            </a: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》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（填人物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一个</a:t>
            </a:r>
            <a:r>
              <a:rPr b="1" lang="zh-CN" sz="4400" spc="-1" strike="noStrike" u="sng">
                <a:solidFill>
                  <a:srgbClr val="6600cc"/>
                </a:solidFill>
                <a:uFillTx/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的人</a:t>
            </a: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题目二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在你的成长经历中，有无数的人给你温暖、快乐、幸福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……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怀着一颗感恩的心，回忆起这其中的点点滴滴，你的心里一定充满了感激。你最想感谢的人是谁？赶快拿起笔表达你对他（她）的感谢之情吧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835280" y="2420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三关：选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题目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母爱伴我成长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68544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特别喜欢唠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每天即使再晚也要认真检查我的作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特别勤快，家里的家务全包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经常用各种方式和我聊天谈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对工作很负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对我犯的错“零容忍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我生病了，妈妈背我去看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题目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母爱伴我成长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7567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特别喜欢唠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每天即使再晚也要认真检查我的作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经常用各种方式和我聊天谈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对我犯的错“零容忍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我生病了，妈妈背我去看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04:36:58Z</dcterms:created>
  <dc:creator>ASUS</dc:creator>
  <dc:description/>
  <cp:keywords/>
  <dc:language>en-US</dc:language>
  <cp:lastModifiedBy>Windows 用户</cp:lastModifiedBy>
  <dcterms:modified xsi:type="dcterms:W3CDTF">2014-04-16T16:00:28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17</vt:lpwstr>
  </property>
</Properties>
</file>