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8DF-0B68-4364-8D78-CAB4A138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342-2461-440A-9E39-55065983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3B7-ADF4-41C5-9909-5CFE787A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326-E502-4B43-853D-F0B691D0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6516-6478-449F-9C5B-D91A1ABF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359-BAE3-4711-BE3D-84D7CB64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1BAC-2C02-4A15-995A-269BDAE5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652D-8065-4CAC-8136-DC47183F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3517-B04F-46FB-9299-5F01DAED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7D22-CF43-4634-9F9C-432CA28D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14F5-0B07-48AA-B8C8-EFA270DD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C4F-63B2-4041-B10F-4F06BA4F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A54C-055C-45DD-93AB-A0015966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0721-D1BC-4913-9435-D083CC7D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4DF6-CD0B-46AD-885F-40482173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4D58-7B15-4456-8980-F5B9AA2B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3FC2-1040-48E1-B25D-DED6C6A7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30DB-F035-4C6A-AF20-7845F37D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28D9-E567-47B1-8064-5A6671F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2315-FD10-43D4-87D2-0331D59D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D199-9D5C-4731-9071-713EF55E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D609-532E-4062-A816-433EECC3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654-23EA-4F50-AD21-9091BE41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4163-C2DC-45E5-A880-750AF83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D7B3-C2E6-4F79-A5F8-11150C2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7AF4-436E-4061-817F-17DD3F27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F5CB7-1DF4-46D8-9824-BE7045A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42B7-FF2B-469C-994E-EFE2B354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97CE-760C-44DF-B88A-6BA9711C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3C72-5FE2-45E5-820C-7E080157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8EA-2BFC-4C29-80A2-B15C1421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4BD-DC3B-4B1F-9092-54A1A10C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C21-B252-472E-ACCF-B2FC9352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504-1525-46E9-94DD-824DBE35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9D6-C85E-4A3A-9B0D-93AA4818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D51-B084-49CA-805D-7CC09A28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B276-5E95-4089-9A93-907243ACA6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94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79036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9814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c6f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1081-732A-4C33-A4AE-0D9A9E465306}" type="slidenum">
              <a:rPr b="0" lang="zh-CN" sz="1200" spc="-1" strike="noStrike">
                <a:solidFill>
                  <a:srgbClr val="6c6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A7D4-5DEB-4075-9E10-D1AB50B7BA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1280" y="1486080"/>
            <a:ext cx="439272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一个梦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唤醒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771280" y="4005000"/>
            <a:ext cx="36594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8550"/>
                </a:solidFill>
                <a:latin typeface="楷体_GB2312"/>
                <a:ea typeface="楷体_GB2312"/>
              </a:rPr>
              <a:t>棠外附小  冯文</a:t>
            </a:r>
            <a:endParaRPr b="0" lang="en-US" sz="24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1440" y="117360"/>
            <a:ext cx="76309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无尽的梦</a:t>
            </a:r>
            <a:br>
              <a:rPr sz="2800"/>
            </a:b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</a:t>
            </a:r>
            <a:r>
              <a:rPr b="0" lang="zh-CN" sz="2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冯文</a:t>
            </a:r>
            <a:endParaRPr b="0" lang="en-US" sz="2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260360"/>
            <a:ext cx="82915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叶子的梦是一条小船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装满了它的奇思妙想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小溪推着它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鱼儿呵护它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飘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想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飘到遥远的地方</a:t>
            </a:r>
            <a:r>
              <a:rPr b="0" lang="en-US" sz="28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幼圆"/>
                <a:ea typeface="楷体"/>
              </a:rPr>
              <a:t>合作创编儿童诗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480" y="1026720"/>
            <a:ext cx="8040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2835360" y="130320"/>
            <a:ext cx="411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幼圆"/>
                <a:ea typeface="楷体"/>
              </a:rPr>
              <a:t>实现诗人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480" y="1375920"/>
            <a:ext cx="63403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385c"/>
                </a:solidFill>
                <a:latin typeface="幼圆"/>
              </a:rPr>
              <a:t>以“梦”为主题写一首儿童诗：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3" name=""/>
          <p:cNvSpPr/>
          <p:nvPr/>
        </p:nvSpPr>
        <p:spPr>
          <a:xfrm>
            <a:off x="1150920" y="2639880"/>
            <a:ext cx="5365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语言凝练，语句优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格式正确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书写美观、整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01.倒映的彩色蜡笔画~雕塑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5280" y="6453360"/>
            <a:ext cx="360360" cy="50472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504720"/>
              <a:gd name="textAreaBottom" fmla="*/ 482400 h 504720"/>
            </a:gdLst>
            <a:ahLst/>
            <a:rect l="textAreaLeft" t="textAreaTop" r="textAreaRight" b="textAreaBottom"/>
            <a:pathLst>
              <a:path w="21600" h="30244">
                <a:moveTo>
                  <a:pt x="0" y="0"/>
                </a:moveTo>
                <a:lnTo>
                  <a:pt x="21600" y="0"/>
                </a:lnTo>
                <a:lnTo>
                  <a:pt x="21600" y="30244"/>
                </a:lnTo>
                <a:lnTo>
                  <a:pt x="0" y="30244"/>
                </a:lnTo>
                <a:close/>
              </a:path>
              <a:path fill="lightenLess" w="21600" h="3024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0244">
                <a:moveTo>
                  <a:pt x="21600" y="0"/>
                </a:moveTo>
                <a:lnTo>
                  <a:pt x="21600" y="30244"/>
                </a:lnTo>
                <a:lnTo>
                  <a:pt x="20250" y="28894"/>
                </a:lnTo>
                <a:lnTo>
                  <a:pt x="20250" y="1350"/>
                </a:lnTo>
                <a:close/>
              </a:path>
              <a:path fill="darkenLess" w="21600" h="30244">
                <a:moveTo>
                  <a:pt x="21600" y="30244"/>
                </a:moveTo>
                <a:lnTo>
                  <a:pt x="0" y="30244"/>
                </a:lnTo>
                <a:lnTo>
                  <a:pt x="1350" y="28894"/>
                </a:lnTo>
                <a:lnTo>
                  <a:pt x="20250" y="28894"/>
                </a:lnTo>
                <a:close/>
              </a:path>
              <a:path fill="lighten" w="21600" h="30244">
                <a:moveTo>
                  <a:pt x="0" y="30244"/>
                </a:moveTo>
                <a:lnTo>
                  <a:pt x="0" y="0"/>
                </a:lnTo>
                <a:lnTo>
                  <a:pt x="1350" y="1350"/>
                </a:lnTo>
                <a:lnTo>
                  <a:pt x="1350" y="28894"/>
                </a:lnTo>
                <a:close/>
              </a:path>
              <a:path fill="darken" w="21600" h="30244">
                <a:moveTo>
                  <a:pt x="14318" y="15122"/>
                </a:moveTo>
                <a:lnTo>
                  <a:pt x="3756" y="22166"/>
                </a:lnTo>
                <a:lnTo>
                  <a:pt x="3756" y="8078"/>
                </a:lnTo>
                <a:close/>
              </a:path>
              <a:path fill="darken" w="21600" h="30244">
                <a:moveTo>
                  <a:pt x="16173" y="8078"/>
                </a:moveTo>
                <a:lnTo>
                  <a:pt x="16173" y="22166"/>
                </a:lnTo>
                <a:lnTo>
                  <a:pt x="17844" y="22166"/>
                </a:lnTo>
                <a:lnTo>
                  <a:pt x="17844" y="8078"/>
                </a:lnTo>
                <a:close/>
              </a:path>
            </a:pathLst>
          </a:custGeom>
          <a:solidFill>
            <a:srgbClr val="f08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7274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0" y="-88920"/>
            <a:ext cx="9144000" cy="6959520"/>
          </a:xfrm>
          <a:prstGeom prst="rect">
            <a:avLst/>
          </a:prstGeom>
          <a:solidFill>
            <a:srgbClr val="e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14"/>
          <p:cNvSpPr/>
          <p:nvPr/>
        </p:nvSpPr>
        <p:spPr>
          <a:xfrm rot="9523800">
            <a:off x="3813120" y="991800"/>
            <a:ext cx="1596960" cy="1816200"/>
          </a:xfrm>
          <a:custGeom>
            <a:avLst/>
            <a:gdLst/>
            <a:ahLst/>
            <a:rect l="l" t="t" r="r" b="b"/>
            <a:pathLst>
              <a:path w="1597245" h="1816360">
                <a:moveTo>
                  <a:pt x="509269" y="1761714"/>
                </a:moveTo>
                <a:cubicBezTo>
                  <a:pt x="98297" y="1601750"/>
                  <a:pt x="-105314" y="1139246"/>
                  <a:pt x="54492" y="728682"/>
                </a:cubicBezTo>
                <a:cubicBezTo>
                  <a:pt x="194321" y="369439"/>
                  <a:pt x="566059" y="168996"/>
                  <a:pt x="932129" y="231662"/>
                </a:cubicBezTo>
                <a:lnTo>
                  <a:pt x="1031088" y="259138"/>
                </a:lnTo>
                <a:lnTo>
                  <a:pt x="1086534" y="0"/>
                </a:lnTo>
                <a:lnTo>
                  <a:pt x="1219736" y="342121"/>
                </a:lnTo>
                <a:lnTo>
                  <a:pt x="1232066" y="348408"/>
                </a:lnTo>
                <a:cubicBezTo>
                  <a:pt x="1544173" y="549712"/>
                  <a:pt x="1682583" y="948722"/>
                  <a:pt x="1542753" y="1307965"/>
                </a:cubicBezTo>
                <a:cubicBezTo>
                  <a:pt x="1382948" y="1718528"/>
                  <a:pt x="920242" y="1921679"/>
                  <a:pt x="509269" y="17617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1927080" y="313200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微软雅黑"/>
              </a:rPr>
              <a:t>THANKS TO 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1927080" y="370188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谢谢大家聆听</a:t>
            </a: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2"/>
          <p:cNvSpPr/>
          <p:nvPr/>
        </p:nvSpPr>
        <p:spPr>
          <a:xfrm>
            <a:off x="2136600" y="3676680"/>
            <a:ext cx="4896000" cy="0"/>
          </a:xfrm>
          <a:prstGeom prst="line">
            <a:avLst/>
          </a:prstGeom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8"/>
          <p:cNvSpPr/>
          <p:nvPr/>
        </p:nvSpPr>
        <p:spPr>
          <a:xfrm>
            <a:off x="40687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9"/>
          <p:cNvSpPr/>
          <p:nvPr/>
        </p:nvSpPr>
        <p:spPr>
          <a:xfrm>
            <a:off x="436572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0"/>
          <p:cNvSpPr/>
          <p:nvPr/>
        </p:nvSpPr>
        <p:spPr>
          <a:xfrm>
            <a:off x="466236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22"/>
          <p:cNvSpPr/>
          <p:nvPr/>
        </p:nvSpPr>
        <p:spPr>
          <a:xfrm>
            <a:off x="49579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3"/>
          <p:cNvSpPr/>
          <p:nvPr/>
        </p:nvSpPr>
        <p:spPr>
          <a:xfrm>
            <a:off x="3860640" y="1079640"/>
            <a:ext cx="1422720" cy="1422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674280" y="333360"/>
            <a:ext cx="7290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段想象惊艳另一段想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"/>
          <p:cNvSpPr/>
          <p:nvPr/>
        </p:nvSpPr>
        <p:spPr>
          <a:xfrm>
            <a:off x="7588080" y="2492280"/>
            <a:ext cx="729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个梦唤醒另一个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29" name="Picture 4" descr="u=4233926744,4122306700&amp;fm=21&amp;gp=0"/>
          <p:cNvPicPr/>
          <p:nvPr/>
        </p:nvPicPr>
        <p:blipFill>
          <a:blip r:embed="rId1"/>
          <a:stretch/>
        </p:blipFill>
        <p:spPr>
          <a:xfrm>
            <a:off x="36360" y="-98280"/>
            <a:ext cx="9107640" cy="698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008122143538233_1"/>
          <p:cNvPicPr/>
          <p:nvPr/>
        </p:nvPicPr>
        <p:blipFill>
          <a:blip r:embed="rId2"/>
          <a:stretch/>
        </p:blipFill>
        <p:spPr>
          <a:xfrm>
            <a:off x="4068720" y="5229360"/>
            <a:ext cx="1906560" cy="1892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6608733_131207080000_2"/>
          <p:cNvPicPr/>
          <p:nvPr/>
        </p:nvPicPr>
        <p:blipFill>
          <a:blip r:embed="rId3"/>
          <a:stretch/>
        </p:blipFill>
        <p:spPr>
          <a:xfrm>
            <a:off x="971640" y="5373720"/>
            <a:ext cx="12952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635280" y="24210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线条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132N9B05H0-25052"/>
          <p:cNvPicPr/>
          <p:nvPr/>
        </p:nvPicPr>
        <p:blipFill>
          <a:blip r:embed="rId4"/>
          <a:stretch/>
        </p:blipFill>
        <p:spPr>
          <a:xfrm>
            <a:off x="6661080" y="4005360"/>
            <a:ext cx="2374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楷体_GB2312"/>
                <a:ea typeface="楷体_GB2312"/>
              </a:rPr>
              <a:t>一个梦唤醒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63640" y="1844280"/>
            <a:ext cx="280836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谁？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想象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40" name="Picture 4" descr="a0001673570"/>
          <p:cNvPicPr/>
          <p:nvPr/>
        </p:nvPicPr>
        <p:blipFill>
          <a:blip r:embed="rId1"/>
          <a:stretch/>
        </p:blipFill>
        <p:spPr>
          <a:xfrm>
            <a:off x="34920" y="-98280"/>
            <a:ext cx="5716440" cy="571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01300000342079125249730752658"/>
          <p:cNvPicPr/>
          <p:nvPr/>
        </p:nvPicPr>
        <p:blipFill>
          <a:blip r:embed="rId2"/>
          <a:stretch/>
        </p:blipFill>
        <p:spPr>
          <a:xfrm>
            <a:off x="5651640" y="2781360"/>
            <a:ext cx="2952720" cy="3386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6012000" y="2205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谢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尔弗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0160" y="-385920"/>
            <a:ext cx="7848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冰冻的梦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谢尔</a:t>
            </a:r>
            <a:r>
              <a:rPr b="1" lang="zh-CN" sz="3200" spc="-1" strike="noStrike">
                <a:solidFill>
                  <a:srgbClr val="940422"/>
                </a:solidFill>
                <a:latin typeface="楷体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希尔弗斯坦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 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656880" y="1839960"/>
            <a:ext cx="28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要把昨天我做的梦，拿到冰箱里冷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到遥远的一天，我变成了白发苍苍的老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就把这个可爱的美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拿出来解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然后把它煮沸，坐下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浸暖冰冷的双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合理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81080" y="1057320"/>
            <a:ext cx="206388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梦</a:t>
            </a:r>
            <a:endParaRPr b="0" lang="en-US" sz="4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411280" y="2421000"/>
            <a:ext cx="5400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幼圆"/>
                <a:ea typeface="楷体"/>
              </a:rPr>
              <a:t>       </a:t>
            </a: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的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076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4" name=""/>
          <p:cNvSpPr/>
          <p:nvPr/>
        </p:nvSpPr>
        <p:spPr>
          <a:xfrm>
            <a:off x="1943280" y="2538360"/>
            <a:ext cx="58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的梦是调皮的音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4073400"/>
            <a:ext cx="58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叶子的梦是一条小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134136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2:18:08Z</dcterms:created>
  <dc:creator>Administrator</dc:creator>
  <dc:description/>
  <dc:language>en-US</dc:language>
  <cp:lastModifiedBy>tw</cp:lastModifiedBy>
  <dcterms:modified xsi:type="dcterms:W3CDTF">2015-10-19T17:15:10Z</dcterms:modified>
  <cp:revision>10</cp:revision>
  <dc:subject/>
  <dc:title>一个梦 唤醒 另一个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