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5DE-DA29-4582-A2E9-89FF1E96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246-B3FC-4297-8B25-83507F2A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890-C51E-4540-8FA9-17DD5B5A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F6E-07B2-4D91-BBCE-DE38B256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213C-194D-418C-BCD2-8DF771E7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4E5E-F8DC-455A-9A63-6C4A3495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02B1-5454-481C-8C85-6D9EE29F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37AD-B57C-4AD4-8D73-889019DD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9133-36BD-4436-BE42-66927181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15AB-91C2-42C5-9F1C-5BB895FE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CB7E-955C-4399-B4E9-A931C587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EBA-2567-42E7-9190-1ABF05F9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AD50-E4D7-4DCE-8756-746E9429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0B24-C559-4535-BAAE-496302A8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FEE1-A38F-47C8-975A-5027BA4E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A6E1-6F79-4F95-890F-F49B5469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BC62-6F93-4D8B-BCC9-09BA410E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1C2-B540-40A4-AEF9-9B80BDB9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6F6-C337-4AE5-8780-706F4F48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86F-D140-482B-8831-95CF1B28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3C4-138F-4CC3-A2D5-8FFADE2B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64B-A3E6-4F26-8944-BB9558CA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20D-02C5-4E77-B1D4-9FB30E9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146-C8FC-4857-AD27-6CA719AE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CCB8-CBC8-44DF-8AB3-903EEBD56A3B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E72B-B8E0-4CFA-9875-6F529A101D9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0"/>
          <p:cNvGraphicFramePr/>
          <p:nvPr/>
        </p:nvGraphicFramePr>
        <p:xfrm>
          <a:off x="0" y="495360"/>
          <a:ext cx="9144000" cy="58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5360"/>
                    <a:ext cx="9144000" cy="58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è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堵塞   闭塞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2639880" y="3697200"/>
            <a:ext cx="622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ài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塞外    要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859120" y="247500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瓶塞  塞住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ù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处   到处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905200" y="3697200"/>
            <a:ext cx="595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ǔ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处理  处置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371600" y="2625840"/>
            <a:ext cx="599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24160" y="2638440"/>
            <a:ext cx="6543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开凿      挖通     垒起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892600"/>
            <a:ext cx="894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鲧在临死前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叮嘱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儿子禹“ 一定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429000" y="1506600"/>
            <a:ext cx="243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叮嘱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836640" y="2343240"/>
            <a:ext cx="16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207200" y="2984400"/>
            <a:ext cx="17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定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21654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“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定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074600" y="549576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02000" y="2460600"/>
            <a:ext cx="26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堵塞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2246400" y="5405400"/>
            <a:ext cx="36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疏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743360" y="5457960"/>
            <a:ext cx="33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变堵为疏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189000" y="579240"/>
            <a:ext cx="93582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默读课文第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治水艰辛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你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晚上，他常常睡在草丘山冈，天蒙蒙亮就又出发了。他的脚长年泡在泥水中，脚跟都烂了，他只好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057320" y="4262400"/>
            <a:ext cx="305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……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3406680" y="1895400"/>
            <a:ext cx="21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常常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2359080" y="2540160"/>
            <a:ext cx="19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52960" y="311616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常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睡在草丘山冈，天蒙蒙亮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出发了。他的脚长年泡在泥水中，脚跟都烂了，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只好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312920" y="4446720"/>
            <a:ext cx="305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10"/>
          <p:cNvGraphicFramePr/>
          <p:nvPr/>
        </p:nvGraphicFramePr>
        <p:xfrm>
          <a:off x="0" y="507960"/>
          <a:ext cx="9144000" cy="58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7960"/>
                    <a:ext cx="914400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3"/>
          <p:cNvSpPr/>
          <p:nvPr/>
        </p:nvSpPr>
        <p:spPr>
          <a:xfrm>
            <a:off x="1278000" y="1519200"/>
            <a:ext cx="724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_GB2312"/>
              </a:rPr>
              <a:t>大禹治水</a:t>
            </a:r>
            <a:endParaRPr b="0" lang="en-US" sz="1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595600" y="5041800"/>
            <a:ext cx="51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棠外附小   李春花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727920"/>
            <a:ext cx="9144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自学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课文第</a:t>
            </a:r>
            <a:r>
              <a:rPr b="1" lang="en-US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4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为了治水而让你感动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自己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216000" y="200160"/>
            <a:ext cx="8618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为了治水，禹三十岁才结婚，在家仅仅住了四天，就告别了妻子。禹治水十年，曾经三次路过家门，却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4956120" y="25560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才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7718400" y="241200"/>
            <a:ext cx="16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仅仅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2492280" y="91440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就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4321080" y="1585800"/>
            <a:ext cx="8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却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793800" y="264960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三十岁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结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295200" y="3483000"/>
            <a:ext cx="83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在家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仅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住了四天，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告别了妻子。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336600" y="484020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曾经三次路过家门，  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却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6132600" y="5769000"/>
            <a:ext cx="22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322200" y="23004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09600" y="5079960"/>
            <a:ext cx="8391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———————————— ——————————————————————————————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0" y="484200"/>
            <a:ext cx="86742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小组交流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下面这几个句子连成一段含有排比修辞手法的话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349200" y="11970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376200" y="4356000"/>
            <a:ext cx="82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课了，同学们有的在踢球；有的在跳绳；有的在踢毽子；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268200" y="189000"/>
            <a:ext cx="44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以致用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4437000" y="5692680"/>
            <a:ext cx="24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201600" y="282600"/>
            <a:ext cx="8391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是小作家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322200" y="974880"/>
            <a:ext cx="831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用排比的修辞手法自己写一段话吗？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0" y="234000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年四季多么美，你看那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春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夏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秋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冬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0" y="3967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物园的动物可真多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538200" y="5056200"/>
            <a:ext cx="474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……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241200" y="1638360"/>
            <a:ext cx="859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为了治水，禹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十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岁才结婚，在家仅仅住了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四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就告别了妻子。禹治水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十年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曾经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路过家门，却顾不得进去看一看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255600" y="1936800"/>
            <a:ext cx="87138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命的意义在于奉献，而不在于索取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苏联）高尔基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3" name="Picture 4" descr="图片2"/>
          <p:cNvPicPr/>
          <p:nvPr/>
        </p:nvPicPr>
        <p:blipFill>
          <a:blip r:embed="rId1"/>
          <a:stretch/>
        </p:blipFill>
        <p:spPr>
          <a:xfrm>
            <a:off x="1440" y="495360"/>
            <a:ext cx="9141120" cy="5867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1260985_143753636118_2"/>
          <p:cNvPicPr/>
          <p:nvPr/>
        </p:nvPicPr>
        <p:blipFill>
          <a:blip r:embed="rId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梁邦彦 - 風の誓い - 单曲.mp3" descr=""/>
          <p:cNvPicPr/>
          <p:nvPr/>
        </p:nvPicPr>
        <p:blipFill>
          <a:blip r:embed="rId3"/>
          <a:stretch/>
        </p:blipFill>
        <p:spPr>
          <a:xfrm>
            <a:off x="8304120" y="5946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6.0)">
                                      <p:cBhvr>
                                        <p:cTn id="198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7" name="Picture 2" descr="0201002130111599557209234895_000"/>
          <p:cNvPicPr/>
          <p:nvPr/>
        </p:nvPicPr>
        <p:blipFill>
          <a:blip r:embed="rId1"/>
          <a:stretch/>
        </p:blipFill>
        <p:spPr>
          <a:xfrm>
            <a:off x="0" y="0"/>
            <a:ext cx="993924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2008225111226669_2"/>
          <p:cNvPicPr/>
          <p:nvPr/>
        </p:nvPicPr>
        <p:blipFill>
          <a:blip r:embed="rId1"/>
          <a:stretch/>
        </p:blipFill>
        <p:spPr>
          <a:xfrm>
            <a:off x="0" y="-255600"/>
            <a:ext cx="9502920" cy="71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201006202036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57200" y="5769000"/>
            <a:ext cx="83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洪水淹没了村庄和田野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" name="天空之城.mp3" descr=""/>
          <p:cNvPicPr/>
          <p:nvPr/>
        </p:nvPicPr>
        <p:blipFill>
          <a:blip r:embed="rId2"/>
          <a:stretch/>
        </p:blipFill>
        <p:spPr>
          <a:xfrm>
            <a:off x="8232840" y="6173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-25560" y="-15840"/>
            <a:ext cx="920772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63600" y="1822320"/>
            <a:ext cx="818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禹因此成为人们世世代代敬仰和爱戴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英雄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大禹治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174600" y="2797200"/>
            <a:ext cx="1386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治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189000" y="0"/>
            <a:ext cx="1585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大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禹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0" y="0"/>
            <a:ext cx="28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荐故事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44520" y="15462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349200" y="2139840"/>
            <a:ext cx="13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开凿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524400" y="2151000"/>
            <a:ext cx="16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挖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7126200" y="2151000"/>
            <a:ext cx="14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垒起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6760" y="5300640"/>
            <a:ext cx="797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31840" y="5987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56386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房屋倒塌了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6600"/>
                </a:solidFill>
                <a:latin typeface="Arial"/>
              </a:rPr>
              <a:t>冲倒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887400"/>
            <a:ext cx="9144000" cy="7732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3300"/>
                </a:solidFill>
                <a:latin typeface="Arial"/>
              </a:rPr>
              <a:t>淹没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104"/>
          <p:cNvPicPr/>
          <p:nvPr/>
        </p:nvPicPr>
        <p:blipFill>
          <a:blip r:embed="rId1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928880" y="6156360"/>
            <a:ext cx="66974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68200" y="13050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久很久以前，洪水淹没了村庄和田野，房屋倒塌了，牲畜被冲走了，庄稼也被冲毁了，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352600" y="4262400"/>
            <a:ext cx="391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286000" y="2421000"/>
            <a:ext cx="13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房屋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351400" y="2394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牲畜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41200" y="332100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庄稼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162000" y="1022400"/>
            <a:ext cx="831060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用自己喜欢的方式读课文，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字音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句子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376280" y="288936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堵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565520" y="2887560"/>
            <a:ext cx="20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5:16:00Z</dcterms:created>
  <dc:creator>alex.min</dc:creator>
  <dc:description/>
  <dc:language>en-US</dc:language>
  <cp:lastModifiedBy>User</cp:lastModifiedBy>
  <dcterms:modified xsi:type="dcterms:W3CDTF">2016-05-19T16:03:55Z</dcterms:modified>
  <cp:revision>369</cp:revision>
  <dc:subject/>
  <dc:title>幻灯片 1</dc:title>
</cp:coreProperties>
</file>