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F63-90A3-4815-AACD-EE44572D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6F8-C4B5-4149-B01D-69643DD8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B23-EEF9-4579-8457-8C914764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F94-B75F-473F-8951-8CE77D42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660D-C5C1-46EF-8AB5-8B2BC7C0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F3C2-6B64-437C-9EB5-933D04BB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65F8-BF5F-42ED-B968-FA74BF0B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8F38-6753-491F-BB6A-129E809E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AA30-819A-4659-B272-FE6D1771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4FDC-626F-4737-9502-0AAC1B26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D106-84C9-4B85-9251-0B40DFD2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767-9FE2-4EAA-B220-1E6CED7F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9F35-766D-4636-832E-D05450E2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E2F8-D15E-480F-AF23-5CB1C4DC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1240-C507-4888-A73C-594BFC99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8166-87DD-49D1-842C-07E468CE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D5EA-27AF-4BBF-9688-238E2B29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19E-9051-4A51-B974-FFA27240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032-4BE9-45E9-B177-8830C060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DE4-D324-451E-8A27-1ECFEA93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247-EDE6-49DD-B515-E70A852E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0A6-5BB7-42DE-844F-D57A4F39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0FB-C52A-440B-95EE-62D4FC82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098-144B-4780-981C-2A55BCA7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9D56-C288-4B98-A78B-87997A7591F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37D7-E3D7-4CD7-84F1-19BF4AC1C6B1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0"/>
          <p:cNvGraphicFramePr/>
          <p:nvPr/>
        </p:nvGraphicFramePr>
        <p:xfrm>
          <a:off x="0" y="495360"/>
          <a:ext cx="9144000" cy="58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5360"/>
                    <a:ext cx="9144000" cy="58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384200" y="2460600"/>
            <a:ext cx="41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塞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2422440" y="15382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520 h 3095640"/>
              <a:gd name="textAreaBottom" fmla="*/ 299412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5"/>
                  <a:pt x="10800" y="2269"/>
                </a:cubicBezTo>
                <a:lnTo>
                  <a:pt x="10800" y="8531"/>
                </a:lnTo>
                <a:cubicBezTo>
                  <a:pt x="10800" y="9666"/>
                  <a:pt x="5400" y="10800"/>
                  <a:pt x="0" y="10800"/>
                </a:cubicBezTo>
                <a:cubicBezTo>
                  <a:pt x="5400" y="10800"/>
                  <a:pt x="10800" y="11935"/>
                  <a:pt x="10800" y="13069"/>
                </a:cubicBezTo>
                <a:lnTo>
                  <a:pt x="10800" y="19331"/>
                </a:lnTo>
                <a:cubicBezTo>
                  <a:pt x="10800" y="20466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836800" y="1170000"/>
            <a:ext cx="59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è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堵塞   闭塞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2639880" y="3697200"/>
            <a:ext cx="622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ài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塞外    要塞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859120" y="247500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瓶塞  塞住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384200" y="2460600"/>
            <a:ext cx="41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处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2422440" y="15382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520 h 3095640"/>
              <a:gd name="textAreaBottom" fmla="*/ 299412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5"/>
                  <a:pt x="10800" y="2269"/>
                </a:cubicBezTo>
                <a:lnTo>
                  <a:pt x="10800" y="8531"/>
                </a:lnTo>
                <a:cubicBezTo>
                  <a:pt x="10800" y="9666"/>
                  <a:pt x="5400" y="10800"/>
                  <a:pt x="0" y="10800"/>
                </a:cubicBezTo>
                <a:cubicBezTo>
                  <a:pt x="5400" y="10800"/>
                  <a:pt x="10800" y="11935"/>
                  <a:pt x="10800" y="13069"/>
                </a:cubicBezTo>
                <a:lnTo>
                  <a:pt x="10800" y="19331"/>
                </a:lnTo>
                <a:cubicBezTo>
                  <a:pt x="10800" y="20466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836800" y="1170000"/>
            <a:ext cx="59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ù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处   到处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905200" y="3697200"/>
            <a:ext cx="595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ǔ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处理  处置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371600" y="2625840"/>
            <a:ext cx="599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424160" y="2638440"/>
            <a:ext cx="6543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开凿      挖通     垒起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892600"/>
            <a:ext cx="894240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鲧在临死前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叮嘱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儿子禹“ 一定要把洪水治好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3429000" y="1506600"/>
            <a:ext cx="243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叮嘱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836640" y="2343240"/>
            <a:ext cx="167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ǔ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207200" y="2984400"/>
            <a:ext cx="17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定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21654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“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一定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要把洪水治好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444600" y="11350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到人们受苦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着急，就把天上的土偷下来，去堵塞洪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25520" y="32544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993600" y="57643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444600" y="11350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到人们受苦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着急，就把天上的土偷下来，去堵塞洪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25520" y="32544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074600" y="549576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02000" y="2460600"/>
            <a:ext cx="268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堵塞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2246400" y="5405400"/>
            <a:ext cx="368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疏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4743360" y="5457960"/>
            <a:ext cx="33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变堵为疏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189000" y="579240"/>
            <a:ext cx="93582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默读课文第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自然段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禹治水艰辛的句子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句中的关键词说说你的体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你的感受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晚上，他常常睡在草丘山冈，天蒙蒙亮就又出发了。他的脚长年泡在泥水中，脚跟都烂了，他只好拄着棍子走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057320" y="4262400"/>
            <a:ext cx="305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……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3406680" y="1895400"/>
            <a:ext cx="21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常常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2359080" y="2540160"/>
            <a:ext cx="19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5952960" y="3116160"/>
            <a:ext cx="23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好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常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睡在草丘山冈，天蒙蒙亮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出发了。他的脚长年泡在泥水中，脚跟都烂了，他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只好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拄着棍子走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312920" y="4446720"/>
            <a:ext cx="305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10"/>
          <p:cNvGraphicFramePr/>
          <p:nvPr/>
        </p:nvGraphicFramePr>
        <p:xfrm>
          <a:off x="0" y="507960"/>
          <a:ext cx="9144000" cy="581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7960"/>
                    <a:ext cx="9144000" cy="58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3"/>
          <p:cNvSpPr/>
          <p:nvPr/>
        </p:nvSpPr>
        <p:spPr>
          <a:xfrm>
            <a:off x="1278000" y="1519200"/>
            <a:ext cx="724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_GB2312"/>
              </a:rPr>
              <a:t>大禹治水</a:t>
            </a:r>
            <a:endParaRPr b="0" lang="en-US" sz="1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595600" y="5041800"/>
            <a:ext cx="51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棠外附小   李春花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727920"/>
            <a:ext cx="9144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自学</a:t>
            </a:r>
            <a:r>
              <a:rPr b="1" lang="zh-CN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课文第</a:t>
            </a:r>
            <a:r>
              <a:rPr b="1" lang="en-US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4</a:t>
            </a:r>
            <a:r>
              <a:rPr b="1" lang="zh-CN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自然段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禹为了治水而让你感动的句子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句中的关键词说说自己的体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③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你的感受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216000" y="200160"/>
            <a:ext cx="8618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为了治水，禹三十岁才结婚，在家仅仅住了四天，就告别了妻子。禹治水十年，曾经三次路过家门，却顾不得进去看一看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4956120" y="25560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才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7718400" y="241200"/>
            <a:ext cx="16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仅仅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2492280" y="914400"/>
            <a:ext cx="8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就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4321080" y="1585800"/>
            <a:ext cx="8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却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793800" y="264960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三十岁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结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295200" y="3483000"/>
            <a:ext cx="83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在家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仅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住了四天，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告别了妻子。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336600" y="4840200"/>
            <a:ext cx="85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曾经三次路过家门，  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却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顾不得进去看一看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6132600" y="5769000"/>
            <a:ext cx="22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517680" y="1812960"/>
            <a:ext cx="830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322200" y="2300400"/>
            <a:ext cx="84042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球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跳绳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毽子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309600" y="5079960"/>
            <a:ext cx="8391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———————————— ——————————————————————————————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0" y="484200"/>
            <a:ext cx="86742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小组交流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下面这几个句子连成一段含有排比修辞手法的话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517680" y="1812960"/>
            <a:ext cx="830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349200" y="1197000"/>
            <a:ext cx="84042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球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跳绳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毽子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376200" y="4356000"/>
            <a:ext cx="82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课了，同学们有的在踢球；有的在跳绳；有的在踢毽子；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268200" y="189000"/>
            <a:ext cx="44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学以致用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4437000" y="5692680"/>
            <a:ext cx="24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201600" y="282600"/>
            <a:ext cx="8391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是小作家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322200" y="974880"/>
            <a:ext cx="831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用排比的修辞手法自己写一段话吗？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0" y="234000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一年四季多么美，你看那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春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夏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秋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冬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。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0" y="3967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物园的动物可真多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538200" y="5056200"/>
            <a:ext cx="474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 ……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241200" y="1638360"/>
            <a:ext cx="859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为了治水，禹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三十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岁才结婚，在家仅仅住了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四天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就告别了妻子。禹治水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十年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曾经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三次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路过家门，却顾不得进去看一看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255600" y="1936800"/>
            <a:ext cx="871380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命的意义在于奉献，而不在于索取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苏联）高尔基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3" name="Picture 4" descr="图片2"/>
          <p:cNvPicPr/>
          <p:nvPr/>
        </p:nvPicPr>
        <p:blipFill>
          <a:blip r:embed="rId1"/>
          <a:stretch/>
        </p:blipFill>
        <p:spPr>
          <a:xfrm>
            <a:off x="1440" y="495360"/>
            <a:ext cx="9141120" cy="5867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1260985_143753636118_2"/>
          <p:cNvPicPr/>
          <p:nvPr/>
        </p:nvPicPr>
        <p:blipFill>
          <a:blip r:embed="rId2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梁邦彦 - 風の誓い - 单曲.mp3" descr=""/>
          <p:cNvPicPr/>
          <p:nvPr/>
        </p:nvPicPr>
        <p:blipFill>
          <a:blip r:embed="rId3"/>
          <a:stretch/>
        </p:blipFill>
        <p:spPr>
          <a:xfrm>
            <a:off x="8304120" y="5946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6.0)">
                                      <p:cBhvr>
                                        <p:cTn id="198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7" name="Picture 2" descr="0201002130111599557209234895_000"/>
          <p:cNvPicPr/>
          <p:nvPr/>
        </p:nvPicPr>
        <p:blipFill>
          <a:blip r:embed="rId1"/>
          <a:stretch/>
        </p:blipFill>
        <p:spPr>
          <a:xfrm>
            <a:off x="0" y="0"/>
            <a:ext cx="993924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2008225111226669_2"/>
          <p:cNvPicPr/>
          <p:nvPr/>
        </p:nvPicPr>
        <p:blipFill>
          <a:blip r:embed="rId1"/>
          <a:stretch/>
        </p:blipFill>
        <p:spPr>
          <a:xfrm>
            <a:off x="0" y="-255600"/>
            <a:ext cx="9502920" cy="71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Picture 4" descr="20100620203603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457200" y="5769000"/>
            <a:ext cx="832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洪水淹没了村庄和田野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2" name="天空之城.mp3" descr=""/>
          <p:cNvPicPr/>
          <p:nvPr/>
        </p:nvPicPr>
        <p:blipFill>
          <a:blip r:embed="rId2"/>
          <a:stretch/>
        </p:blipFill>
        <p:spPr>
          <a:xfrm>
            <a:off x="8232840" y="6173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-25560" y="-15840"/>
            <a:ext cx="9207720" cy="69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363600" y="1822320"/>
            <a:ext cx="818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禹因此成为人们世世代代敬仰和爱戴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英雄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大禹治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174600" y="2797200"/>
            <a:ext cx="1386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治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189000" y="0"/>
            <a:ext cx="1585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大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禹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0" y="0"/>
            <a:ext cx="285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荐故事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44520" y="15462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993600" y="57643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349200" y="2139840"/>
            <a:ext cx="13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开凿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3524400" y="2151000"/>
            <a:ext cx="16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挖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7126200" y="2151000"/>
            <a:ext cx="14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垒起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1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6760" y="5300640"/>
            <a:ext cx="797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31840" y="5987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56386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房屋倒塌了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6600"/>
                </a:solidFill>
                <a:latin typeface="Arial"/>
              </a:rPr>
              <a:t>冲倒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887400"/>
            <a:ext cx="9144000" cy="7732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3300"/>
                </a:solidFill>
                <a:latin typeface="Arial"/>
              </a:rPr>
              <a:t>淹没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104"/>
          <p:cNvPicPr/>
          <p:nvPr/>
        </p:nvPicPr>
        <p:blipFill>
          <a:blip r:embed="rId1"/>
          <a:stretch/>
        </p:blipFill>
        <p:spPr>
          <a:xfrm>
            <a:off x="0" y="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928880" y="6156360"/>
            <a:ext cx="66974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人们只好四处逃荒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795240" y="3870360"/>
            <a:ext cx="273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68200" y="130500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久很久以前，洪水淹没了村庄和田野，房屋倒塌了，牲畜被冲走了，庄稼也被冲毁了，人们只好四处逃荒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352600" y="4262400"/>
            <a:ext cx="391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286000" y="2421000"/>
            <a:ext cx="13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房屋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351400" y="2394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牲畜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41200" y="3321000"/>
            <a:ext cx="15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庄稼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162000" y="1022400"/>
            <a:ext cx="831060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自读提示：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用自己喜欢的方式读课文，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读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字音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读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句子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376280" y="2889360"/>
            <a:ext cx="19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堵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塞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565520" y="2887560"/>
            <a:ext cx="20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处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795240" y="3870360"/>
            <a:ext cx="273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5:16:00Z</dcterms:created>
  <dc:creator>alex.min</dc:creator>
  <dc:description/>
  <dc:language>en-US</dc:language>
  <cp:lastModifiedBy>User</cp:lastModifiedBy>
  <dcterms:modified xsi:type="dcterms:W3CDTF">2016-05-19T16:03:55Z</dcterms:modified>
  <cp:revision>369</cp:revision>
  <dc:subject/>
  <dc:title>幻灯片 1</dc:title>
</cp:coreProperties>
</file>