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5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9832-18B9-4CE1-B704-8AFE92A2F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0899-1303-4A62-A795-74B7924B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8C1E-3C8D-48DA-AFB5-E5E77CB06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212E-7454-4FBF-AC9A-4E7E2B98B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5891-0556-4129-B0F2-296408840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CAC2-0A22-44B7-8DA6-AB1C1D27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C02F-1C20-46E3-8D92-1B0FBF79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FF79-EF53-4B3C-9512-A4DF0887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94D7-47AC-4BB9-AA62-EF406428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E92A-4463-4C5F-B5BD-7DF1EC5D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C286-CD04-4E45-B392-6A1C6F71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5FC6-F679-4EC7-AC6E-B6EAEB0C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DAFF-0627-48BB-8507-F3B263A0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C29E1-9561-4D97-AE9D-035A600F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EE5B-0972-4452-A424-A39992C5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F863-95FD-4425-A5C9-1621132A5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3B00-6F7F-446E-8ADE-A5AE22EEF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E502-A769-4888-AD6C-047590E3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6B64-234A-4331-9AE0-8D111653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35DF-1742-480D-82F7-153E3401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A7C1-0A77-4DFF-B29F-191AB3A4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5337-F6D1-43CE-AA41-C1BD0D0F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69D9-ED78-4DF6-AEAD-C5D708DC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950F-1176-48E1-9E1C-CDF4DE66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5565-39A1-4362-8F7B-BE92ABEE1F39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2174-A9D8-4E2A-AD7B-1BDDEF8D53A2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10"/>
          <p:cNvGraphicFramePr/>
          <p:nvPr/>
        </p:nvGraphicFramePr>
        <p:xfrm>
          <a:off x="0" y="495360"/>
          <a:ext cx="9144000" cy="58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95360"/>
                    <a:ext cx="9144000" cy="58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4"/>
          <p:cNvSpPr/>
          <p:nvPr/>
        </p:nvSpPr>
        <p:spPr>
          <a:xfrm>
            <a:off x="1882800" y="2003400"/>
            <a:ext cx="19368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1384200" y="2460600"/>
            <a:ext cx="415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塞</a:t>
            </a:r>
            <a:endParaRPr b="0" lang="en-US" sz="7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AutoShape 15"/>
          <p:cNvSpPr/>
          <p:nvPr/>
        </p:nvSpPr>
        <p:spPr>
          <a:xfrm>
            <a:off x="2422440" y="1538280"/>
            <a:ext cx="360360" cy="30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520 h 3095640"/>
              <a:gd name="textAreaBottom" fmla="*/ 299412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35"/>
                  <a:pt x="10800" y="2269"/>
                </a:cubicBezTo>
                <a:lnTo>
                  <a:pt x="10800" y="8531"/>
                </a:lnTo>
                <a:cubicBezTo>
                  <a:pt x="10800" y="9666"/>
                  <a:pt x="5400" y="10800"/>
                  <a:pt x="0" y="10800"/>
                </a:cubicBezTo>
                <a:cubicBezTo>
                  <a:pt x="5400" y="10800"/>
                  <a:pt x="10800" y="11935"/>
                  <a:pt x="10800" y="13069"/>
                </a:cubicBezTo>
                <a:lnTo>
                  <a:pt x="10800" y="19331"/>
                </a:lnTo>
                <a:cubicBezTo>
                  <a:pt x="10800" y="20466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2836800" y="1170000"/>
            <a:ext cx="597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è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堵塞   闭塞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3200400" y="2635200"/>
            <a:ext cx="488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1680" y="5955840"/>
            <a:ext cx="172872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TextBox 11"/>
          <p:cNvSpPr/>
          <p:nvPr/>
        </p:nvSpPr>
        <p:spPr>
          <a:xfrm>
            <a:off x="2639880" y="3697200"/>
            <a:ext cx="622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ài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塞外    要塞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2859120" y="2475000"/>
            <a:ext cx="522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i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瓶塞  塞住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4"/>
          <p:cNvSpPr/>
          <p:nvPr/>
        </p:nvSpPr>
        <p:spPr>
          <a:xfrm>
            <a:off x="1882800" y="2003400"/>
            <a:ext cx="19368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384200" y="2460600"/>
            <a:ext cx="415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处</a:t>
            </a:r>
            <a:endParaRPr b="0" lang="en-US" sz="7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AutoShape 15"/>
          <p:cNvSpPr/>
          <p:nvPr/>
        </p:nvSpPr>
        <p:spPr>
          <a:xfrm>
            <a:off x="2422440" y="1538280"/>
            <a:ext cx="360360" cy="30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520 h 3095640"/>
              <a:gd name="textAreaBottom" fmla="*/ 299412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35"/>
                  <a:pt x="10800" y="2269"/>
                </a:cubicBezTo>
                <a:lnTo>
                  <a:pt x="10800" y="8531"/>
                </a:lnTo>
                <a:cubicBezTo>
                  <a:pt x="10800" y="9666"/>
                  <a:pt x="5400" y="10800"/>
                  <a:pt x="0" y="10800"/>
                </a:cubicBezTo>
                <a:cubicBezTo>
                  <a:pt x="5400" y="10800"/>
                  <a:pt x="10800" y="11935"/>
                  <a:pt x="10800" y="13069"/>
                </a:cubicBezTo>
                <a:lnTo>
                  <a:pt x="10800" y="19331"/>
                </a:lnTo>
                <a:cubicBezTo>
                  <a:pt x="10800" y="20466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2836800" y="1170000"/>
            <a:ext cx="597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chù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四处   到处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3200400" y="2635200"/>
            <a:ext cx="488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1680" y="5955840"/>
            <a:ext cx="172872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TextBox 11"/>
          <p:cNvSpPr/>
          <p:nvPr/>
        </p:nvSpPr>
        <p:spPr>
          <a:xfrm>
            <a:off x="2905200" y="3697200"/>
            <a:ext cx="595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chǔ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处理  处置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4"/>
          <p:cNvSpPr/>
          <p:nvPr/>
        </p:nvSpPr>
        <p:spPr>
          <a:xfrm>
            <a:off x="1882800" y="2003400"/>
            <a:ext cx="19368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" name="TextBox 9"/>
          <p:cNvSpPr/>
          <p:nvPr/>
        </p:nvSpPr>
        <p:spPr>
          <a:xfrm>
            <a:off x="3200400" y="2635200"/>
            <a:ext cx="488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1680" y="5955840"/>
            <a:ext cx="172872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1371600" y="2625840"/>
            <a:ext cx="5996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1424160" y="2638440"/>
            <a:ext cx="6543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开凿      挖通     垒起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2892600"/>
            <a:ext cx="8942400" cy="31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鲧在临死前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叮嘱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儿子禹“ 一定要把洪水治好。”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3429000" y="1506600"/>
            <a:ext cx="243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叮嘱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836640" y="2343240"/>
            <a:ext cx="167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ǔ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7207200" y="2984400"/>
            <a:ext cx="17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一定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2165400"/>
            <a:ext cx="8547120" cy="31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“ 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一定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要把洪水治好。”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2905200"/>
            <a:ext cx="8547120" cy="27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444600" y="113508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见到人们受苦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鲧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很着急，就把天上的土偷下来，去堵塞洪水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282600" y="3468600"/>
            <a:ext cx="847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425520" y="3254400"/>
            <a:ext cx="846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改变了父亲的做法，带领人们开凿了龙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挖通了九条河，垒起堤坝，把洪水引到东边的大海里去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993600" y="5764320"/>
            <a:ext cx="728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2905200"/>
            <a:ext cx="8547120" cy="27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TextBox 6"/>
          <p:cNvSpPr/>
          <p:nvPr/>
        </p:nvSpPr>
        <p:spPr>
          <a:xfrm>
            <a:off x="444600" y="113508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见到人们受苦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鲧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很着急，就把天上的土偷下来，去堵塞洪水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TextBox 7"/>
          <p:cNvSpPr/>
          <p:nvPr/>
        </p:nvSpPr>
        <p:spPr>
          <a:xfrm>
            <a:off x="282600" y="3468600"/>
            <a:ext cx="847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425520" y="3254400"/>
            <a:ext cx="846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改变了父亲的做法，带领人们开凿了龙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挖通了九条河，垒起堤坝，把洪水引到东边的大海里去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1074600" y="5495760"/>
            <a:ext cx="728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02000" y="2460600"/>
            <a:ext cx="268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堵塞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6" name="TextBox 13"/>
          <p:cNvSpPr/>
          <p:nvPr/>
        </p:nvSpPr>
        <p:spPr>
          <a:xfrm>
            <a:off x="2246400" y="5405400"/>
            <a:ext cx="368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疏通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4743360" y="5457960"/>
            <a:ext cx="33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变堵为疏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Rectangle 1"/>
          <p:cNvSpPr/>
          <p:nvPr/>
        </p:nvSpPr>
        <p:spPr>
          <a:xfrm>
            <a:off x="189000" y="579240"/>
            <a:ext cx="93582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  <a:ea typeface="Times New Roman"/>
              </a:rPr>
              <a:t>默读课文第</a:t>
            </a:r>
            <a:r>
              <a:rPr b="1" lang="en-US" sz="4400" spc="-1" strike="noStrike">
                <a:solidFill>
                  <a:srgbClr val="0000ff"/>
                </a:solidFill>
                <a:latin typeface="Calibri"/>
                <a:ea typeface="Times New Roman"/>
              </a:rPr>
              <a:t>3</a:t>
            </a:r>
            <a:r>
              <a:rPr b="1" lang="zh-CN" sz="4400" spc="-1" strike="noStrike">
                <a:solidFill>
                  <a:srgbClr val="0000ff"/>
                </a:solidFill>
                <a:latin typeface="Calibri"/>
                <a:ea typeface="Times New Roman"/>
              </a:rPr>
              <a:t>自然段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    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①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画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出禹治水艰辛的句子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②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圈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出句中的关键词说说你的体会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③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读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出你的感受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Calibri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晚上，他常常睡在草丘山冈，天蒙蒙亮就又出发了。他的脚长年泡在泥水中，脚跟都烂了，他只好拄着棍子走路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517680" y="1812960"/>
            <a:ext cx="83041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1057320" y="4262400"/>
            <a:ext cx="305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 ……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3406680" y="1895400"/>
            <a:ext cx="217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常常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2359080" y="2540160"/>
            <a:ext cx="191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又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5952960" y="3116160"/>
            <a:ext cx="238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只好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Calibri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常常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睡在草丘山冈，天蒙蒙亮就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又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出发了。他的脚长年泡在泥水中，脚跟都烂了，他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只好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拄着棍子走路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矩形 4"/>
          <p:cNvSpPr/>
          <p:nvPr/>
        </p:nvSpPr>
        <p:spPr>
          <a:xfrm>
            <a:off x="517680" y="1812960"/>
            <a:ext cx="83041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1312920" y="4446720"/>
            <a:ext cx="3051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10"/>
          <p:cNvGraphicFramePr/>
          <p:nvPr/>
        </p:nvGraphicFramePr>
        <p:xfrm>
          <a:off x="0" y="507960"/>
          <a:ext cx="9144000" cy="581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07960"/>
                    <a:ext cx="9144000" cy="581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13"/>
          <p:cNvSpPr/>
          <p:nvPr/>
        </p:nvSpPr>
        <p:spPr>
          <a:xfrm>
            <a:off x="1278000" y="1519200"/>
            <a:ext cx="724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Arial"/>
                <a:ea typeface="楷体_GB2312"/>
              </a:rPr>
              <a:t>大禹治水</a:t>
            </a:r>
            <a:endParaRPr b="0" lang="en-US" sz="1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2595600" y="5041800"/>
            <a:ext cx="512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棠外附小   李春花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0" y="727920"/>
            <a:ext cx="914400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alibri"/>
                <a:ea typeface="Times New Roman"/>
              </a:rPr>
              <a:t>自学</a:t>
            </a:r>
            <a:r>
              <a:rPr b="1" lang="zh-CN" sz="5400" spc="-1" strike="noStrike">
                <a:solidFill>
                  <a:srgbClr val="0000ff"/>
                </a:solidFill>
                <a:latin typeface="Calibri"/>
                <a:ea typeface="Times New Roman"/>
              </a:rPr>
              <a:t>课文第</a:t>
            </a:r>
            <a:r>
              <a:rPr b="1" lang="en-US" sz="5400" spc="-1" strike="noStrike">
                <a:solidFill>
                  <a:srgbClr val="0000ff"/>
                </a:solidFill>
                <a:latin typeface="Calibri"/>
                <a:ea typeface="Times New Roman"/>
              </a:rPr>
              <a:t>4</a:t>
            </a:r>
            <a:r>
              <a:rPr b="1" lang="zh-CN" sz="5400" spc="-1" strike="noStrike">
                <a:solidFill>
                  <a:srgbClr val="0000ff"/>
                </a:solidFill>
                <a:latin typeface="Calibri"/>
                <a:ea typeface="Times New Roman"/>
              </a:rPr>
              <a:t>自然段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①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画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出禹为了治水而让你感动的句子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②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圈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出句中的关键词说说自己的体会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③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读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出你的感受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904760"/>
            <a:ext cx="85406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矩形 4"/>
          <p:cNvSpPr/>
          <p:nvPr/>
        </p:nvSpPr>
        <p:spPr>
          <a:xfrm>
            <a:off x="216000" y="200160"/>
            <a:ext cx="8618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为了治水，禹三十岁才结婚，在家仅仅住了四天，就告别了妻子。禹治水十年，曾经三次路过家门，却顾不得进去看一看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TextBox 5"/>
          <p:cNvSpPr/>
          <p:nvPr/>
        </p:nvSpPr>
        <p:spPr>
          <a:xfrm>
            <a:off x="4956120" y="255600"/>
            <a:ext cx="8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才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9" name="TextBox 6"/>
          <p:cNvSpPr/>
          <p:nvPr/>
        </p:nvSpPr>
        <p:spPr>
          <a:xfrm>
            <a:off x="7718400" y="241200"/>
            <a:ext cx="16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仅仅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TextBox 8"/>
          <p:cNvSpPr/>
          <p:nvPr/>
        </p:nvSpPr>
        <p:spPr>
          <a:xfrm>
            <a:off x="2492280" y="914400"/>
            <a:ext cx="8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就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TextBox 9"/>
          <p:cNvSpPr/>
          <p:nvPr/>
        </p:nvSpPr>
        <p:spPr>
          <a:xfrm>
            <a:off x="4321080" y="1585800"/>
            <a:ext cx="84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却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TextBox 10"/>
          <p:cNvSpPr/>
          <p:nvPr/>
        </p:nvSpPr>
        <p:spPr>
          <a:xfrm>
            <a:off x="793800" y="264960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为了治水，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禹三十岁</a:t>
            </a:r>
            <a:r>
              <a:rPr b="1" lang="zh-CN" sz="3600" spc="-1" strike="noStrike">
                <a:solidFill>
                  <a:srgbClr val="0070c0"/>
                </a:solidFill>
                <a:latin typeface="Calibri"/>
              </a:rPr>
              <a:t>才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结婚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3" name="TextBox 11"/>
          <p:cNvSpPr/>
          <p:nvPr/>
        </p:nvSpPr>
        <p:spPr>
          <a:xfrm>
            <a:off x="295200" y="3483000"/>
            <a:ext cx="833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为了治水，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禹在家</a:t>
            </a:r>
            <a:r>
              <a:rPr b="1" lang="zh-CN" sz="3600" spc="-1" strike="noStrike">
                <a:solidFill>
                  <a:srgbClr val="0070c0"/>
                </a:solidFill>
                <a:latin typeface="Calibri"/>
              </a:rPr>
              <a:t>仅仅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住了四天，</a:t>
            </a:r>
            <a:r>
              <a:rPr b="1" lang="zh-CN" sz="3600" spc="-1" strike="noStrike">
                <a:solidFill>
                  <a:srgbClr val="0070c0"/>
                </a:solidFill>
                <a:latin typeface="Calibri"/>
              </a:rPr>
              <a:t>就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告别了妻子。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4" name="TextBox 12"/>
          <p:cNvSpPr/>
          <p:nvPr/>
        </p:nvSpPr>
        <p:spPr>
          <a:xfrm>
            <a:off x="336600" y="4840200"/>
            <a:ext cx="851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为了治水，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禹曾经三次路过家门，  </a:t>
            </a:r>
            <a:r>
              <a:rPr b="1" lang="zh-CN" sz="3600" spc="-1" strike="noStrike">
                <a:solidFill>
                  <a:srgbClr val="0070c0"/>
                </a:solidFill>
                <a:latin typeface="Calibri"/>
              </a:rPr>
              <a:t>却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顾不得进去看一看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TextBox 13"/>
          <p:cNvSpPr/>
          <p:nvPr/>
        </p:nvSpPr>
        <p:spPr>
          <a:xfrm>
            <a:off x="6132600" y="5769000"/>
            <a:ext cx="22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排比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517680" y="1812960"/>
            <a:ext cx="8304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322200" y="2300400"/>
            <a:ext cx="8404200" cy="28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课了，同学们有的在踢球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课了，同学们有的在跳绳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课了，同学们有的在踢毽子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课了，同学们还有的在练习跳远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309600" y="5079960"/>
            <a:ext cx="8391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—————————————— ——————————————————————————————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>
            <a:off x="0" y="484200"/>
            <a:ext cx="867420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小组交流：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ts val="36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下面这几个句子连成一段含有排比修辞手法的话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" name="矩形 4"/>
          <p:cNvSpPr/>
          <p:nvPr/>
        </p:nvSpPr>
        <p:spPr>
          <a:xfrm>
            <a:off x="517680" y="1812960"/>
            <a:ext cx="8304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5" name="TextBox 5"/>
          <p:cNvSpPr/>
          <p:nvPr/>
        </p:nvSpPr>
        <p:spPr>
          <a:xfrm>
            <a:off x="349200" y="1197000"/>
            <a:ext cx="8404200" cy="28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课了，同学们有的在踢球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课了，同学们有的在跳绳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课了，同学们有的在踢毽子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课了，同学们还有的在练习跳远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TextBox 6"/>
          <p:cNvSpPr/>
          <p:nvPr/>
        </p:nvSpPr>
        <p:spPr>
          <a:xfrm>
            <a:off x="376200" y="4356000"/>
            <a:ext cx="829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下课了，同学们有的在踢球；有的在跳绳；有的在踢毽子；还有的在练习跳远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TextBox 7"/>
          <p:cNvSpPr/>
          <p:nvPr/>
        </p:nvSpPr>
        <p:spPr>
          <a:xfrm>
            <a:off x="268200" y="189000"/>
            <a:ext cx="442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学以致用：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8" name="TextBox 7"/>
          <p:cNvSpPr/>
          <p:nvPr/>
        </p:nvSpPr>
        <p:spPr>
          <a:xfrm>
            <a:off x="4437000" y="5692680"/>
            <a:ext cx="243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排比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TextBox 3"/>
          <p:cNvSpPr/>
          <p:nvPr/>
        </p:nvSpPr>
        <p:spPr>
          <a:xfrm>
            <a:off x="201600" y="282600"/>
            <a:ext cx="8391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我是小作家：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1" name="TextBox 4"/>
          <p:cNvSpPr/>
          <p:nvPr/>
        </p:nvSpPr>
        <p:spPr>
          <a:xfrm>
            <a:off x="322200" y="974880"/>
            <a:ext cx="831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能用排比的修辞手法自己写一段话吗？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2" name="TextBox 5"/>
          <p:cNvSpPr/>
          <p:nvPr/>
        </p:nvSpPr>
        <p:spPr>
          <a:xfrm>
            <a:off x="0" y="2340000"/>
            <a:ext cx="9144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一年四季多么美，你看那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春天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___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；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夏天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；秋天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；冬天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。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   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       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3" name="TextBox 6"/>
          <p:cNvSpPr/>
          <p:nvPr/>
        </p:nvSpPr>
        <p:spPr>
          <a:xfrm>
            <a:off x="0" y="39672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动物园的动物可真多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__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；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；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；还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。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4" name="TextBox 7"/>
          <p:cNvSpPr/>
          <p:nvPr/>
        </p:nvSpPr>
        <p:spPr>
          <a:xfrm>
            <a:off x="538200" y="5056200"/>
            <a:ext cx="4746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  ……</a:t>
            </a: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904760"/>
            <a:ext cx="85406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矩形 4"/>
          <p:cNvSpPr/>
          <p:nvPr/>
        </p:nvSpPr>
        <p:spPr>
          <a:xfrm>
            <a:off x="241200" y="1638360"/>
            <a:ext cx="859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为了治水，禹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三十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岁才结婚，在家仅仅住了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四天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就告别了妻子。禹治水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十年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曾经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三次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路过家门，却顾不得进去看一看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680" y="1904760"/>
            <a:ext cx="85406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TextBox 10"/>
          <p:cNvSpPr/>
          <p:nvPr/>
        </p:nvSpPr>
        <p:spPr>
          <a:xfrm>
            <a:off x="255600" y="1936800"/>
            <a:ext cx="8713800" cy="25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生命的意义在于奉献，而不在于索取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---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苏联）高尔基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         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13" name="Picture 4" descr="图片2"/>
          <p:cNvPicPr/>
          <p:nvPr/>
        </p:nvPicPr>
        <p:blipFill>
          <a:blip r:embed="rId1"/>
          <a:stretch/>
        </p:blipFill>
        <p:spPr>
          <a:xfrm>
            <a:off x="1440" y="495360"/>
            <a:ext cx="9141120" cy="5867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1260985_143753636118_2"/>
          <p:cNvPicPr/>
          <p:nvPr/>
        </p:nvPicPr>
        <p:blipFill>
          <a:blip r:embed="rId2"/>
          <a:stretch/>
        </p:blipFill>
        <p:spPr>
          <a:xfrm>
            <a:off x="-304920" y="0"/>
            <a:ext cx="975384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梁邦彦 - 風の誓い - 单曲.mp3" descr=""/>
          <p:cNvPicPr/>
          <p:nvPr/>
        </p:nvPicPr>
        <p:blipFill>
          <a:blip r:embed="rId3"/>
          <a:stretch/>
        </p:blipFill>
        <p:spPr>
          <a:xfrm>
            <a:off x="8304120" y="594684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6.0)">
                                      <p:cBhvr>
                                        <p:cTn id="198" dur="1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17" name="Picture 2" descr="0201002130111599557209234895_000"/>
          <p:cNvPicPr/>
          <p:nvPr/>
        </p:nvPicPr>
        <p:blipFill>
          <a:blip r:embed="rId1"/>
          <a:stretch/>
        </p:blipFill>
        <p:spPr>
          <a:xfrm>
            <a:off x="0" y="0"/>
            <a:ext cx="9939240" cy="745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3" descr="2008225111226669_2"/>
          <p:cNvPicPr/>
          <p:nvPr/>
        </p:nvPicPr>
        <p:blipFill>
          <a:blip r:embed="rId1"/>
          <a:stretch/>
        </p:blipFill>
        <p:spPr>
          <a:xfrm>
            <a:off x="0" y="-255600"/>
            <a:ext cx="9502920" cy="711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0" name="Picture 4" descr="20100620203603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457200" y="5769000"/>
            <a:ext cx="832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洪水淹没了村庄和田野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92" name="天空之城.mp3" descr=""/>
          <p:cNvPicPr/>
          <p:nvPr/>
        </p:nvPicPr>
        <p:blipFill>
          <a:blip r:embed="rId2"/>
          <a:stretch/>
        </p:blipFill>
        <p:spPr>
          <a:xfrm>
            <a:off x="8232840" y="6173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-25560" y="-15840"/>
            <a:ext cx="9207720" cy="690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363600" y="1822320"/>
            <a:ext cx="818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禹因此成为人们世世代代敬仰和爱戴的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英雄。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大禹治水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3"/>
          <p:cNvSpPr/>
          <p:nvPr/>
        </p:nvSpPr>
        <p:spPr>
          <a:xfrm>
            <a:off x="174600" y="2797200"/>
            <a:ext cx="13860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治</a:t>
            </a: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水</a:t>
            </a: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189000" y="0"/>
            <a:ext cx="15858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大</a:t>
            </a: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禹</a:t>
            </a: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4"/>
          <p:cNvSpPr/>
          <p:nvPr/>
        </p:nvSpPr>
        <p:spPr>
          <a:xfrm>
            <a:off x="0" y="0"/>
            <a:ext cx="285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推荐故事：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680" y="2905200"/>
            <a:ext cx="8547120" cy="27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282600" y="3468600"/>
            <a:ext cx="847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344520" y="1546200"/>
            <a:ext cx="846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改变了父亲的做法，带领人们开凿了龙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挖通了九条河，垒起堤坝，把洪水引到东边的大海里去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993600" y="5764320"/>
            <a:ext cx="728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3" name="TextBox 9"/>
          <p:cNvSpPr/>
          <p:nvPr/>
        </p:nvSpPr>
        <p:spPr>
          <a:xfrm>
            <a:off x="349200" y="2139840"/>
            <a:ext cx="13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开凿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4" name="TextBox 11"/>
          <p:cNvSpPr/>
          <p:nvPr/>
        </p:nvSpPr>
        <p:spPr>
          <a:xfrm>
            <a:off x="3524400" y="2151000"/>
            <a:ext cx="163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挖通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5" name="TextBox 12"/>
          <p:cNvSpPr/>
          <p:nvPr/>
        </p:nvSpPr>
        <p:spPr>
          <a:xfrm>
            <a:off x="7126200" y="2151000"/>
            <a:ext cx="147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垒起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1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1166760" y="5300640"/>
            <a:ext cx="7977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231840" y="59878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304920" y="5638680"/>
            <a:ext cx="88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房屋倒塌了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336600"/>
                </a:solidFill>
                <a:latin typeface="Arial"/>
              </a:rPr>
              <a:t>冲倒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887400"/>
            <a:ext cx="9144000" cy="77328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406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333300"/>
                </a:solidFill>
                <a:latin typeface="Arial"/>
              </a:rPr>
              <a:t>淹没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104"/>
          <p:cNvPicPr/>
          <p:nvPr/>
        </p:nvPicPr>
        <p:blipFill>
          <a:blip r:embed="rId1"/>
          <a:stretch/>
        </p:blipFill>
        <p:spPr>
          <a:xfrm>
            <a:off x="0" y="0"/>
            <a:ext cx="9144000" cy="7893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1928880" y="6156360"/>
            <a:ext cx="669744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人们只好四处逃荒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2905200"/>
            <a:ext cx="8547120" cy="31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795240" y="3870360"/>
            <a:ext cx="2730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268200" y="1305000"/>
            <a:ext cx="8458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很久很久以前，洪水淹没了村庄和田野，房屋倒塌了，牲畜被冲走了，庄稼也被冲毁了，人们只好四处逃荒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2352600" y="4262400"/>
            <a:ext cx="391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排比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2286000" y="2421000"/>
            <a:ext cx="138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房屋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5351400" y="23940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牲畜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241200" y="3321000"/>
            <a:ext cx="152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庄稼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162000" y="1022400"/>
            <a:ext cx="831060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自读提示：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用自己喜欢的方式读课文，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读准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字音、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读通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句子。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2905200"/>
            <a:ext cx="8547120" cy="31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1376280" y="2889360"/>
            <a:ext cx="193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堵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塞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4565520" y="2887560"/>
            <a:ext cx="209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四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处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795240" y="3870360"/>
            <a:ext cx="2730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5:16:00Z</dcterms:created>
  <dc:creator>alex.min</dc:creator>
  <dc:description/>
  <dc:language>en-US</dc:language>
  <cp:lastModifiedBy>User</cp:lastModifiedBy>
  <dcterms:modified xsi:type="dcterms:W3CDTF">2016-05-19T16:03:55Z</dcterms:modified>
  <cp:revision>369</cp:revision>
  <dc:subject/>
  <dc:title>幻灯片 1</dc:title>
</cp:coreProperties>
</file>