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CB46-65A4-4728-A0C4-19BDB0A2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3B0C-AB3F-4430-B9FF-61B34CC7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C54-0DB0-4B9A-83E7-42ED92C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919-9657-43DA-8BBB-274CB073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854C-D7B6-4D0D-8EBE-62589380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ED7A-0F93-4F83-98D4-563244F7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4F47-22FF-4FC1-B999-BA5936F4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863-42B0-4DBF-B0BD-CC9A03FC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115C-3929-4BFB-99FB-7CE0A1A9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1D65-4C27-4D9E-AD30-C0B3C917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1D1B-F35E-4CBE-8C86-1DFBAE3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56E-2367-4A17-B02D-210EC1CB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8469-C730-4726-BC61-19F1BC1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600E-90B6-4642-B536-73CBC894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AC4A-062B-4E5D-8979-FB061AD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A67A-019E-431E-92AE-96B9284D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3AA0-B54F-4B62-B990-8E73C1AD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4F27-53D9-4EAD-951C-E9A8440E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25A-9C5B-4F33-926B-1AA76D04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524-7111-4979-9419-E4F20885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E55-B879-490C-A495-9C13F7E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EC0-7BA0-4ADC-A3AC-90C3D98E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234-5850-426A-A00E-7EFBBDC0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B62-6FC3-44E5-BF8B-FAA2131E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D529-2833-4FCD-8840-DF423643722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7301-52A8-4F1C-8214-D233BD64079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"/>
          <p:cNvGraphicFramePr/>
          <p:nvPr/>
        </p:nvGraphicFramePr>
        <p:xfrm>
          <a:off x="0" y="495360"/>
          <a:ext cx="9144000" cy="58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5360"/>
                    <a:ext cx="9144000" cy="58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è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堵塞   闭塞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639880" y="3697200"/>
            <a:ext cx="622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ài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塞外    要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859120" y="247500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瓶塞  塞住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1384200" y="2460600"/>
            <a:ext cx="41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422440" y="15382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101520 h 3095640"/>
              <a:gd name="textAreaBottom" fmla="*/ 299412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5"/>
                  <a:pt x="10800" y="2269"/>
                </a:cubicBezTo>
                <a:lnTo>
                  <a:pt x="10800" y="8531"/>
                </a:lnTo>
                <a:cubicBezTo>
                  <a:pt x="10800" y="9666"/>
                  <a:pt x="5400" y="10800"/>
                  <a:pt x="0" y="10800"/>
                </a:cubicBezTo>
                <a:cubicBezTo>
                  <a:pt x="5400" y="10800"/>
                  <a:pt x="10800" y="11935"/>
                  <a:pt x="10800" y="13069"/>
                </a:cubicBezTo>
                <a:lnTo>
                  <a:pt x="10800" y="19331"/>
                </a:lnTo>
                <a:cubicBezTo>
                  <a:pt x="10800" y="20466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2836800" y="1170000"/>
            <a:ext cx="597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ù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处   到处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2905200" y="3697200"/>
            <a:ext cx="595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chǔ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处理  处置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4"/>
          <p:cNvSpPr/>
          <p:nvPr/>
        </p:nvSpPr>
        <p:spPr>
          <a:xfrm>
            <a:off x="1882800" y="2003400"/>
            <a:ext cx="1936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3200400" y="2635200"/>
            <a:ext cx="488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1680" y="5955840"/>
            <a:ext cx="1728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371600" y="2625840"/>
            <a:ext cx="599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24160" y="2638440"/>
            <a:ext cx="6543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开凿      挖通     垒起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892600"/>
            <a:ext cx="894240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鲧在临死前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叮嘱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儿子禹“ 一定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1506600"/>
            <a:ext cx="24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叮嘱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836640" y="2343240"/>
            <a:ext cx="167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ǔ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7207200" y="2984400"/>
            <a:ext cx="17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定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21654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“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定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要把洪水治好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444600" y="11350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见到人们受苦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着急，就把天上的土偷下来，去堵塞洪水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25520" y="32544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1074600" y="549576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02000" y="2460600"/>
            <a:ext cx="268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堵塞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2246400" y="5405400"/>
            <a:ext cx="368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疏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743360" y="5457960"/>
            <a:ext cx="33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变堵为疏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189000" y="579240"/>
            <a:ext cx="93582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默读课文第</a:t>
            </a:r>
            <a:r>
              <a:rPr b="1" lang="en-US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治水艰辛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你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晚上，他常常睡在草丘山冈，天蒙蒙亮就又出发了。他的脚长年泡在泥水中，脚跟都烂了，他只好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057320" y="4262400"/>
            <a:ext cx="305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……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406680" y="1895400"/>
            <a:ext cx="217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常常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2359080" y="2540160"/>
            <a:ext cx="191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又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5952960" y="31161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Calibri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常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在草丘山冈，天蒙蒙亮就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出发了。他的脚长年泡在泥水中，脚跟都烂了，他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只好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拄着棍子走路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517680" y="1812960"/>
            <a:ext cx="8304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12920" y="4446720"/>
            <a:ext cx="3051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0"/>
          <p:cNvGraphicFramePr/>
          <p:nvPr/>
        </p:nvGraphicFramePr>
        <p:xfrm>
          <a:off x="0" y="507960"/>
          <a:ext cx="9144000" cy="581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7960"/>
                    <a:ext cx="9144000" cy="58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13"/>
          <p:cNvSpPr/>
          <p:nvPr/>
        </p:nvSpPr>
        <p:spPr>
          <a:xfrm>
            <a:off x="1278000" y="1519200"/>
            <a:ext cx="724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楷体_GB2312"/>
              </a:rPr>
              <a:t>大禹治水</a:t>
            </a:r>
            <a:endParaRPr b="0" lang="en-US" sz="1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595600" y="504180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棠外附小   李春花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727920"/>
            <a:ext cx="914400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自学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课文第</a:t>
            </a:r>
            <a:r>
              <a:rPr b="1" lang="en-US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4</a:t>
            </a:r>
            <a:r>
              <a:rPr b="1" lang="zh-CN" sz="5400" spc="-1" strike="noStrike">
                <a:solidFill>
                  <a:srgbClr val="0000ff"/>
                </a:solidFill>
                <a:latin typeface="Calibri"/>
                <a:ea typeface="Times New Roman"/>
              </a:rPr>
              <a:t>自然段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禹为了治水而让你感动的句子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圈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句中的关键词说说自己的体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③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读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出你的感受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矩形 4"/>
          <p:cNvSpPr/>
          <p:nvPr/>
        </p:nvSpPr>
        <p:spPr>
          <a:xfrm>
            <a:off x="216000" y="200160"/>
            <a:ext cx="8618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为了治水，禹三十岁才结婚，在家仅仅住了四天，就告别了妻子。禹治水十年，曾经三次路过家门，却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TextBox 5"/>
          <p:cNvSpPr/>
          <p:nvPr/>
        </p:nvSpPr>
        <p:spPr>
          <a:xfrm>
            <a:off x="4956120" y="255600"/>
            <a:ext cx="8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才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7718400" y="2412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仅仅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2492280" y="914400"/>
            <a:ext cx="8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就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4321080" y="1585800"/>
            <a:ext cx="8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却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793800" y="264960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三十岁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才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结婚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295200" y="3483000"/>
            <a:ext cx="833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在家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仅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住了四天，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就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告别了妻子。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336600" y="4840200"/>
            <a:ext cx="851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为了治水，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禹曾经三次路过家门，  </a:t>
            </a:r>
            <a:r>
              <a:rPr b="1" lang="zh-CN" sz="3600" spc="-1" strike="noStrike">
                <a:solidFill>
                  <a:srgbClr val="0070c0"/>
                </a:solidFill>
                <a:latin typeface="Calibri"/>
              </a:rPr>
              <a:t>却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顾不得进去看一看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132600" y="5769000"/>
            <a:ext cx="22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322200" y="23004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309600" y="5079960"/>
            <a:ext cx="8391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———————————— ——————————————————————————————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>
            <a:off x="0" y="484200"/>
            <a:ext cx="86742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小组交流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6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面这几个句子连成一段含有排比修辞手法的话。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矩形 4"/>
          <p:cNvSpPr/>
          <p:nvPr/>
        </p:nvSpPr>
        <p:spPr>
          <a:xfrm>
            <a:off x="517680" y="1812960"/>
            <a:ext cx="830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49200" y="1197000"/>
            <a:ext cx="84042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球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跳绳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有的在踢毽子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下课了，同学们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376200" y="4356000"/>
            <a:ext cx="82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课了，同学们有的在踢球；有的在跳绳；有的在踢毽子；还有的在练习跳远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268200" y="189000"/>
            <a:ext cx="44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学以致用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4437000" y="5692680"/>
            <a:ext cx="243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TextBox 3"/>
          <p:cNvSpPr/>
          <p:nvPr/>
        </p:nvSpPr>
        <p:spPr>
          <a:xfrm>
            <a:off x="201600" y="282600"/>
            <a:ext cx="8391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是小作家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4"/>
          <p:cNvSpPr/>
          <p:nvPr/>
        </p:nvSpPr>
        <p:spPr>
          <a:xfrm>
            <a:off x="322200" y="974880"/>
            <a:ext cx="831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用排比的修辞手法自己写一段话吗？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0" y="234000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一年四季多么美，你看那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春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_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夏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秋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冬天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0" y="39672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物园的动物可真多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__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；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538200" y="5056200"/>
            <a:ext cx="474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  ……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矩形 4"/>
          <p:cNvSpPr/>
          <p:nvPr/>
        </p:nvSpPr>
        <p:spPr>
          <a:xfrm>
            <a:off x="241200" y="1638360"/>
            <a:ext cx="859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为了治水，禹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十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岁才结婚，在家仅仅住了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四天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就告别了妻子。禹治水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十年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曾经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三次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路过家门，却顾不得进去看一看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4760"/>
            <a:ext cx="8540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255600" y="1936800"/>
            <a:ext cx="8713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命的意义在于奉献，而不在于索取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苏联）高尔基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3" name="Picture 4" descr="图片2"/>
          <p:cNvPicPr/>
          <p:nvPr/>
        </p:nvPicPr>
        <p:blipFill>
          <a:blip r:embed="rId1"/>
          <a:stretch/>
        </p:blipFill>
        <p:spPr>
          <a:xfrm>
            <a:off x="1440" y="495360"/>
            <a:ext cx="9141120" cy="5867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1260985_143753636118_2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梁邦彦 - 風の誓い - 单曲.mp3" descr=""/>
          <p:cNvPicPr/>
          <p:nvPr/>
        </p:nvPicPr>
        <p:blipFill>
          <a:blip r:embed="rId3"/>
          <a:stretch/>
        </p:blipFill>
        <p:spPr>
          <a:xfrm>
            <a:off x="8304120" y="5946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.0)">
                                      <p:cBhvr>
                                        <p:cTn id="198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17" name="Picture 2" descr="0201002130111599557209234895_000"/>
          <p:cNvPicPr/>
          <p:nvPr/>
        </p:nvPicPr>
        <p:blipFill>
          <a:blip r:embed="rId1"/>
          <a:stretch/>
        </p:blipFill>
        <p:spPr>
          <a:xfrm>
            <a:off x="0" y="0"/>
            <a:ext cx="9939240" cy="74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2008225111226669_2"/>
          <p:cNvPicPr/>
          <p:nvPr/>
        </p:nvPicPr>
        <p:blipFill>
          <a:blip r:embed="rId1"/>
          <a:stretch/>
        </p:blipFill>
        <p:spPr>
          <a:xfrm>
            <a:off x="0" y="-255600"/>
            <a:ext cx="9502920" cy="71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2010062020360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457200" y="5769000"/>
            <a:ext cx="832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洪水淹没了村庄和田野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天空之城.mp3" descr=""/>
          <p:cNvPicPr/>
          <p:nvPr/>
        </p:nvPicPr>
        <p:blipFill>
          <a:blip r:embed="rId2"/>
          <a:stretch/>
        </p:blipFill>
        <p:spPr>
          <a:xfrm>
            <a:off x="8232840" y="6173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-25560" y="-15840"/>
            <a:ext cx="9207720" cy="69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363600" y="1822320"/>
            <a:ext cx="818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禹因此成为人们世世代代敬仰和爱戴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英雄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大禹治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174600" y="2797200"/>
            <a:ext cx="1386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治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水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189000" y="0"/>
            <a:ext cx="158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大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禹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0" y="0"/>
            <a:ext cx="28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推荐故事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27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282600" y="3468600"/>
            <a:ext cx="84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44520" y="1546200"/>
            <a:ext cx="846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改变了父亲的做法，带领人们开凿了龙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挖通了九条河，垒起堤坝，把洪水引到东边的大海里去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993600" y="576432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49200" y="2139840"/>
            <a:ext cx="13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开凿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524400" y="215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挖通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7126200" y="2151000"/>
            <a:ext cx="14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垒起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1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6760" y="5300640"/>
            <a:ext cx="797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31840" y="59878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4920" y="56386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房屋倒塌了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6600"/>
                </a:solidFill>
                <a:latin typeface="Arial"/>
              </a:rPr>
              <a:t>冲倒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887400"/>
            <a:ext cx="9144000" cy="7732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4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33300"/>
                </a:solidFill>
                <a:latin typeface="Arial"/>
              </a:rPr>
              <a:t>淹没</a:t>
            </a:r>
            <a:endParaRPr b="0" lang="en-US" sz="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104"/>
          <p:cNvPicPr/>
          <p:nvPr/>
        </p:nvPicPr>
        <p:blipFill>
          <a:blip r:embed="rId1"/>
          <a:stretch/>
        </p:blipFill>
        <p:spPr>
          <a:xfrm>
            <a:off x="0" y="0"/>
            <a:ext cx="9144000" cy="7893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928880" y="6156360"/>
            <a:ext cx="669744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268200" y="130500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很久很久以前，洪水淹没了村庄和田野，房屋倒塌了，牲畜被冲走了，庄稼也被冲毁了，人们只好四处逃荒。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2352600" y="4262400"/>
            <a:ext cx="391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排比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2421000"/>
            <a:ext cx="13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房屋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351400" y="2394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牲畜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41200" y="3321000"/>
            <a:ext cx="152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庄稼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162000" y="1022400"/>
            <a:ext cx="8310600" cy="33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用自己喜欢的方式读课文，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字音、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通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句子。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2905200"/>
            <a:ext cx="8547120" cy="31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Calibri"/>
                <a:ea typeface="Times New Roman"/>
              </a:rPr>
              <a:t>       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1376280" y="2889360"/>
            <a:ext cx="193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堵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塞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4565520" y="2887560"/>
            <a:ext cx="20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处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5240" y="3870360"/>
            <a:ext cx="2730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5:16:00Z</dcterms:created>
  <dc:creator>alex.min</dc:creator>
  <dc:description/>
  <dc:language>en-US</dc:language>
  <cp:lastModifiedBy>User</cp:lastModifiedBy>
  <dcterms:modified xsi:type="dcterms:W3CDTF">2016-05-19T16:03:55Z</dcterms:modified>
  <cp:revision>369</cp:revision>
  <dc:subject/>
  <dc:title>幻灯片 1</dc:title>
</cp:coreProperties>
</file>