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F70-CBC6-4889-8F45-2FCABD31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AEE-27A1-4A69-B1E9-1026BBCB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E85-543A-4F3E-88F2-62615CEE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D1A-B0B0-4471-A01E-D5D8FF7C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3410-E685-4ABA-9066-9B10512E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C32-9E29-4CE3-9403-766E3CD7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6403-25CB-4FCD-BF76-A50985F3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728-1494-4A8A-AE9B-FA5483E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E7E5-F741-4DF1-A913-288843E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7B26-CB9D-4D6C-8D58-0689C631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862E-5C5A-4C2C-A769-657C71B9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256-FED4-4657-8030-DB36B3F0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6F3B-2703-4CA9-A8C6-3CA0CFA9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E528-F39C-45A8-9451-602A45E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E825-0789-45E3-8867-F14FD13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7D08-46CA-4AE5-965B-6D5F5D53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F6E9-50D1-40E2-9C29-CFB8566C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34E-724E-4766-BC17-3807315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E26-4599-4F8B-884D-465FF1F3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634-665E-46EA-AA16-880CAAE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583-A45E-408D-97CF-B0021FC1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1F8-873B-45CB-8433-7A8ECFD0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160-9688-4F9E-A004-F6B29682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F8B-A9CB-4268-8E9E-1C0FA68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1D8B-BF56-418F-9BF9-5E1A9369D47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856A-EBFB-472B-8AD3-10E206E34FA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95360"/>
          <a:ext cx="914400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堵塞   闭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639880" y="3697200"/>
            <a:ext cx="62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ài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塞外    要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59120" y="247500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瓶塞  塞住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2600"/>
            <a:ext cx="894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鲧在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儿子禹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6640" y="2343240"/>
            <a:ext cx="16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207200" y="2984400"/>
            <a:ext cx="17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21654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74600" y="549576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02000" y="246060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堵塞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2246400" y="5405400"/>
            <a:ext cx="36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疏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743360" y="5457960"/>
            <a:ext cx="33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堵为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89000" y="579240"/>
            <a:ext cx="93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默读课文第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治水艰辛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你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57320" y="4262400"/>
            <a:ext cx="30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……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406680" y="189540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常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359080" y="2540160"/>
            <a:ext cx="19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52960" y="31161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常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在草丘山冈，天蒙蒙亮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发了。他的脚长年泡在泥水中，脚跟都烂了，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12920" y="4446720"/>
            <a:ext cx="305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507960"/>
          <a:ext cx="91440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79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95600" y="504180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棠外附小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727920"/>
            <a:ext cx="9144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自学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课文第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为了治水而让你感动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自己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6000" y="200160"/>
            <a:ext cx="8618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956120" y="255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18400" y="2412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492280" y="9144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321080" y="15858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93800" y="26496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三十岁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95200" y="348300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在家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仅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住了四天，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告别了妻子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36600" y="48402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曾经三次路过家门，  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132600" y="5769000"/>
            <a:ext cx="22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22200" y="23004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9600" y="5079960"/>
            <a:ext cx="839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——————————— ——————————————————————————————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0" y="484200"/>
            <a:ext cx="8674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小组交流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这几个句子连成一段含有排比修辞手法的话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49200" y="11970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76200" y="435600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课了，同学们有的在踢球；有的在跳绳；有的在踢毽子；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68200" y="189000"/>
            <a:ext cx="44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以致用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437000" y="56926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01600" y="282600"/>
            <a:ext cx="839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是小作家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22200" y="974880"/>
            <a:ext cx="83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排比的修辞手法自己写一段话吗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0" y="2340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年四季多么美，你看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春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夏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秋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冬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396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物园的动物可真多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38200" y="5056200"/>
            <a:ext cx="474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……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241200" y="1638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治水，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岁才结婚，在家仅仅住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就告别了妻子。禹治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曾经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路过家门，却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255600" y="1936800"/>
            <a:ext cx="8713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命的意义在于奉献，而不在于索取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联）高尔基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4" descr="图片2"/>
          <p:cNvPicPr/>
          <p:nvPr/>
        </p:nvPicPr>
        <p:blipFill>
          <a:blip r:embed="rId1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1260985_143753636118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梁邦彦 - 風の誓い - 单曲.mp3" descr=""/>
          <p:cNvPicPr/>
          <p:nvPr/>
        </p:nvPicPr>
        <p:blipFill>
          <a:blip r:embed="rId3"/>
          <a:stretch/>
        </p:blipFill>
        <p:spPr>
          <a:xfrm>
            <a:off x="8304120" y="5946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.0)">
                                      <p:cBhvr>
                                        <p:cTn id="198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Picture 2" descr="0201002130111599557209234895_000"/>
          <p:cNvPicPr/>
          <p:nvPr/>
        </p:nvPicPr>
        <p:blipFill>
          <a:blip r:embed="rId1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2008225111226669_2"/>
          <p:cNvPicPr/>
          <p:nvPr/>
        </p:nvPicPr>
        <p:blipFill>
          <a:blip r:embed="rId1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01006202036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天空之城.mp3" descr=""/>
          <p:cNvPicPr/>
          <p:nvPr/>
        </p:nvPicPr>
        <p:blipFill>
          <a:blip r:embed="rId2"/>
          <a:stretch/>
        </p:blipFill>
        <p:spPr>
          <a:xfrm>
            <a:off x="8232840" y="6173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大禹治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0"/>
            <a:ext cx="28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荐故事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44520" y="15462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49200" y="213984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凿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524400" y="215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7126200" y="215100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4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28880" y="6156360"/>
            <a:ext cx="66974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68200" y="13050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久很久以前，洪水淹没了村庄和田野，房屋倒塌了，牲畜被冲走了，庄稼也被冲毁了，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2600" y="4262400"/>
            <a:ext cx="39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2421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351400" y="2394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牲畜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1200" y="332100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62000" y="1022400"/>
            <a:ext cx="83106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自己喜欢的方式读课文，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音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76280" y="288936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65520" y="28875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User</cp:lastModifiedBy>
  <dcterms:modified xsi:type="dcterms:W3CDTF">2016-05-19T16:03:55Z</dcterms:modified>
  <cp:revision>369</cp:revision>
  <dc:subject/>
  <dc:title>幻灯片 1</dc:title>
</cp:coreProperties>
</file>