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A5A1-86EC-46D6-A63F-6030CEB2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B68-F304-4B66-B66F-B5332BFF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1E75-81E7-42AD-9357-9E58654C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4D7-E55C-448F-8328-66DB57E1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A99E-692B-4CA5-AF5F-8C26C117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EA95-6365-4B63-A152-8E48238F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9D67-F75F-4564-A0F7-816C9037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F8E-5AEB-4136-9094-A3990FD0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5C69-9A45-486E-BA0B-FDB03CCF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EEE-938B-446F-8418-67BC3CFF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0B8-33E9-47A2-9536-AC4DC7D2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A00A-0C97-4140-999E-A1B74F27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6592-E235-42C5-B63E-9881CAFB7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987640" y="249228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简单电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9"/>
          <p:cNvSpPr/>
          <p:nvPr/>
        </p:nvSpPr>
        <p:spPr>
          <a:xfrm>
            <a:off x="3164400" y="33264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更多的小灯泡亮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)MX1G87OFEXUKLC{4T~7J9I"/>
          <p:cNvPicPr/>
          <p:nvPr/>
        </p:nvPicPr>
        <p:blipFill>
          <a:blip r:embed="rId1"/>
          <a:stretch/>
        </p:blipFill>
        <p:spPr>
          <a:xfrm>
            <a:off x="250920" y="1125360"/>
            <a:ext cx="3924360" cy="2408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FNE5(A6KF~7{O$IIZJU@NF1"/>
          <p:cNvPicPr/>
          <p:nvPr/>
        </p:nvPicPr>
        <p:blipFill>
          <a:blip r:embed="rId2"/>
          <a:stretch/>
        </p:blipFill>
        <p:spPr>
          <a:xfrm>
            <a:off x="4788000" y="1125360"/>
            <a:ext cx="3995640" cy="23814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2"/>
          <p:cNvSpPr/>
          <p:nvPr/>
        </p:nvSpPr>
        <p:spPr>
          <a:xfrm>
            <a:off x="1884240" y="369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6497280" y="37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2624400" y="4434480"/>
            <a:ext cx="3731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觉得哪种方法更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不同的方法都能使小灯泡同时发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指出电在电路中是怎样流动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117160" y="3068640"/>
            <a:ext cx="479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更多的小灯泡和电池，能让它们同时亮起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比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电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干导线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教室的电灯是串联还是并联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050920" y="1484280"/>
            <a:ext cx="456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拓展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083680" y="332280"/>
            <a:ext cx="4935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连接比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组一节干电池、一根导线和一个小灯泡，把小灯泡点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D06N1]{D]XHZOMN$M0(CB0Q"/>
          <p:cNvPicPr/>
          <p:nvPr/>
        </p:nvPicPr>
        <p:blipFill>
          <a:blip r:embed="rId1"/>
          <a:stretch/>
        </p:blipFill>
        <p:spPr>
          <a:xfrm>
            <a:off x="1116000" y="1916280"/>
            <a:ext cx="691344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2268360" y="40464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手按着来点亮小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松手小灯泡就不亮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很不方便的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1"/>
          <p:cNvGrpSpPr/>
          <p:nvPr/>
        </p:nvGrpSpPr>
        <p:grpSpPr>
          <a:xfrm>
            <a:off x="2197080" y="3357000"/>
            <a:ext cx="4628880" cy="521280"/>
            <a:chOff x="2197080" y="3357000"/>
            <a:chExt cx="4628880" cy="521280"/>
          </a:xfrm>
        </p:grpSpPr>
        <p:sp>
          <p:nvSpPr>
            <p:cNvPr id="47" name="Rectangle 6"/>
            <p:cNvSpPr/>
            <p:nvPr/>
          </p:nvSpPr>
          <p:spPr>
            <a:xfrm>
              <a:off x="5912280" y="335700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灯座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2197080" y="3357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电池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20"/>
          <p:cNvGrpSpPr/>
          <p:nvPr/>
        </p:nvGrpSpPr>
        <p:grpSpPr>
          <a:xfrm>
            <a:off x="1403280" y="3933720"/>
            <a:ext cx="5904000" cy="2095560"/>
            <a:chOff x="1403280" y="3933720"/>
            <a:chExt cx="5904000" cy="2095560"/>
          </a:xfrm>
        </p:grpSpPr>
        <p:pic>
          <p:nvPicPr>
            <p:cNvPr id="50" name="Picture 16" descr="TOL~C5{CV9`9C`99BXIETSD"/>
            <p:cNvPicPr/>
            <p:nvPr/>
          </p:nvPicPr>
          <p:blipFill>
            <a:blip r:embed="rId1"/>
            <a:stretch/>
          </p:blipFill>
          <p:spPr>
            <a:xfrm>
              <a:off x="1403280" y="3933720"/>
              <a:ext cx="27352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9" descr="[`BL{6F95Z091D4D6_Z4Y$0"/>
            <p:cNvPicPr/>
            <p:nvPr/>
          </p:nvPicPr>
          <p:blipFill>
            <a:blip r:embed="rId2"/>
            <a:stretch/>
          </p:blipFill>
          <p:spPr>
            <a:xfrm>
              <a:off x="5435640" y="4294080"/>
              <a:ext cx="1871640" cy="15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AutoShape 23"/>
          <p:cNvSpPr/>
          <p:nvPr/>
        </p:nvSpPr>
        <p:spPr>
          <a:xfrm>
            <a:off x="2268360" y="2060640"/>
            <a:ext cx="4464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给大家介绍两个好工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TOL~C5{CV9`9C`99BXIETSD"/>
          <p:cNvPicPr/>
          <p:nvPr/>
        </p:nvPicPr>
        <p:blipFill>
          <a:blip r:embed="rId1"/>
          <a:stretch/>
        </p:blipFill>
        <p:spPr>
          <a:xfrm>
            <a:off x="900000" y="189000"/>
            <a:ext cx="2735280" cy="2095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[`BL{6F95Z091D4D6_Z4Y$0"/>
          <p:cNvPicPr/>
          <p:nvPr/>
        </p:nvPicPr>
        <p:blipFill>
          <a:blip r:embed="rId2"/>
          <a:stretch/>
        </p:blipFill>
        <p:spPr>
          <a:xfrm>
            <a:off x="1042920" y="2349360"/>
            <a:ext cx="2376720" cy="1911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4067280" y="263484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灯座安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小灯泡安装在小灯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，再在两端连接上导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4067280" y="47628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电池盒安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电池盒的两端各连接好一根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线，把电池安装在电池盒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980360" y="4867200"/>
            <a:ext cx="34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安装电池的时候有什么要注意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灯泡是怎么装到小灯座上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导线怎么连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632040" y="2595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小灯泡亮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14280" y="1052640"/>
            <a:ext cx="35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材料：灯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灯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导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1258920" y="1628640"/>
            <a:ext cx="7056360" cy="2568600"/>
            <a:chOff x="1258920" y="1628640"/>
            <a:chExt cx="7056360" cy="2568600"/>
          </a:xfrm>
        </p:grpSpPr>
        <p:grpSp>
          <p:nvGrpSpPr>
            <p:cNvPr id="61" name="Group 8"/>
            <p:cNvGrpSpPr/>
            <p:nvPr/>
          </p:nvGrpSpPr>
          <p:grpSpPr>
            <a:xfrm>
              <a:off x="1258920" y="2349360"/>
              <a:ext cx="7056360" cy="1847880"/>
              <a:chOff x="1258920" y="2349360"/>
              <a:chExt cx="7056360" cy="1847880"/>
            </a:xfrm>
          </p:grpSpPr>
          <p:pic>
            <p:nvPicPr>
              <p:cNvPr id="62" name="Picture 5" descr="OX%4S)XA[]2]8$DF$8W~CZE"/>
              <p:cNvPicPr/>
              <p:nvPr/>
            </p:nvPicPr>
            <p:blipFill>
              <a:blip r:embed="rId1"/>
              <a:stretch/>
            </p:blipFill>
            <p:spPr>
              <a:xfrm>
                <a:off x="1258920" y="2349360"/>
                <a:ext cx="3384360" cy="180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7" descr="NQ6@@T$ZASM{0[8RNBZ`SWG"/>
              <p:cNvPicPr/>
              <p:nvPr/>
            </p:nvPicPr>
            <p:blipFill>
              <a:blip r:embed="rId2"/>
              <a:stretch/>
            </p:blipFill>
            <p:spPr>
              <a:xfrm>
                <a:off x="5003640" y="2349360"/>
                <a:ext cx="3311640" cy="1847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" name="Rectangle 10"/>
            <p:cNvSpPr/>
            <p:nvPr/>
          </p:nvSpPr>
          <p:spPr>
            <a:xfrm>
              <a:off x="3419640" y="1628640"/>
              <a:ext cx="1944360" cy="50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实物连接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6"/>
          <p:cNvSpPr/>
          <p:nvPr/>
        </p:nvSpPr>
        <p:spPr>
          <a:xfrm>
            <a:off x="2340000" y="5373720"/>
            <a:ext cx="194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简单电路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8" descr="C2K`F60R]5DU4CS5(0U3Z5W"/>
          <p:cNvPicPr/>
          <p:nvPr/>
        </p:nvPicPr>
        <p:blipFill>
          <a:blip r:embed="rId3"/>
          <a:stretch/>
        </p:blipFill>
        <p:spPr>
          <a:xfrm>
            <a:off x="4716360" y="4581360"/>
            <a:ext cx="259236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电流和电路 - 雪见草 - ♀青鸟飞鱼♂"/>
          <p:cNvPicPr/>
          <p:nvPr/>
        </p:nvPicPr>
        <p:blipFill>
          <a:blip r:embed="rId1"/>
          <a:stretch/>
        </p:blipFill>
        <p:spPr>
          <a:xfrm>
            <a:off x="878040" y="1438200"/>
            <a:ext cx="1533240" cy="766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电流和电路 - 雪见草 - ♀青鸟飞鱼♂"/>
          <p:cNvPicPr/>
          <p:nvPr/>
        </p:nvPicPr>
        <p:blipFill>
          <a:blip r:embed="rId2"/>
          <a:stretch/>
        </p:blipFill>
        <p:spPr>
          <a:xfrm>
            <a:off x="755640" y="3632040"/>
            <a:ext cx="1727280" cy="66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电流和电路 - 雪见草 - ♀青鸟飞鱼♂"/>
          <p:cNvPicPr/>
          <p:nvPr/>
        </p:nvPicPr>
        <p:blipFill>
          <a:blip r:embed="rId3"/>
          <a:stretch/>
        </p:blipFill>
        <p:spPr>
          <a:xfrm>
            <a:off x="826920" y="4530600"/>
            <a:ext cx="1656000" cy="77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电流和电路 - 雪见草 - ♀青鸟飞鱼♂"/>
          <p:cNvPicPr/>
          <p:nvPr/>
        </p:nvPicPr>
        <p:blipFill>
          <a:blip r:embed="rId4"/>
          <a:stretch/>
        </p:blipFill>
        <p:spPr>
          <a:xfrm>
            <a:off x="757080" y="2625840"/>
            <a:ext cx="1727280" cy="65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电流和电路 - 雪见草 - ♀青鸟飞鱼♂"/>
          <p:cNvPicPr/>
          <p:nvPr/>
        </p:nvPicPr>
        <p:blipFill>
          <a:blip r:embed="rId5"/>
          <a:stretch/>
        </p:blipFill>
        <p:spPr>
          <a:xfrm>
            <a:off x="900000" y="5618160"/>
            <a:ext cx="1440000" cy="8352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4428360" y="486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闭合的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428360" y="2708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断开的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4212720" y="377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4250880" y="587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4212720" y="1525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灯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900000" y="260280"/>
            <a:ext cx="4465800" cy="790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常用电路元件的电路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2411280" y="1773360"/>
            <a:ext cx="1513080" cy="22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V="1">
            <a:off x="2556000" y="1844640"/>
            <a:ext cx="1368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V="1">
            <a:off x="2627280" y="2923920"/>
            <a:ext cx="1295280" cy="21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2627280" y="4149720"/>
            <a:ext cx="1297080" cy="107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2411280" y="6093000"/>
            <a:ext cx="1513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8"/>
          <p:cNvGrpSpPr/>
          <p:nvPr/>
        </p:nvGrpSpPr>
        <p:grpSpPr>
          <a:xfrm>
            <a:off x="6227640" y="1268280"/>
            <a:ext cx="2592360" cy="4465440"/>
            <a:chOff x="6227640" y="1268280"/>
            <a:chExt cx="2592360" cy="4465440"/>
          </a:xfrm>
        </p:grpSpPr>
        <p:pic>
          <p:nvPicPr>
            <p:cNvPr id="84" name="Picture 23" descr="C2K`F60R]5DU4CS5(0U3Z5W"/>
            <p:cNvPicPr/>
            <p:nvPr/>
          </p:nvPicPr>
          <p:blipFill>
            <a:blip r:embed="rId6"/>
            <a:stretch/>
          </p:blipFill>
          <p:spPr>
            <a:xfrm>
              <a:off x="6227640" y="1268280"/>
              <a:ext cx="2592360" cy="192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35"/>
            <p:cNvGrpSpPr/>
            <p:nvPr/>
          </p:nvGrpSpPr>
          <p:grpSpPr>
            <a:xfrm>
              <a:off x="6659640" y="4581360"/>
              <a:ext cx="1655280" cy="1152360"/>
              <a:chOff x="6659640" y="4581360"/>
              <a:chExt cx="1655280" cy="1152360"/>
            </a:xfrm>
          </p:grpSpPr>
          <p:sp>
            <p:nvSpPr>
              <p:cNvPr id="86" name="Oval 24"/>
              <p:cNvSpPr/>
              <p:nvPr/>
            </p:nvSpPr>
            <p:spPr>
              <a:xfrm>
                <a:off x="7369560" y="4581360"/>
                <a:ext cx="313920" cy="30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25"/>
              <p:cNvSpPr/>
              <p:nvPr/>
            </p:nvSpPr>
            <p:spPr>
              <a:xfrm>
                <a:off x="7447320" y="4657680"/>
                <a:ext cx="15804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6"/>
              <p:cNvSpPr/>
              <p:nvPr/>
            </p:nvSpPr>
            <p:spPr>
              <a:xfrm flipV="1">
                <a:off x="7447320" y="4657680"/>
                <a:ext cx="15804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7"/>
              <p:cNvSpPr/>
              <p:nvPr/>
            </p:nvSpPr>
            <p:spPr>
              <a:xfrm flipH="1">
                <a:off x="6659640" y="4733640"/>
                <a:ext cx="70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8"/>
              <p:cNvSpPr/>
              <p:nvPr/>
            </p:nvSpPr>
            <p:spPr>
              <a:xfrm>
                <a:off x="7683480" y="4733640"/>
                <a:ext cx="63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29"/>
              <p:cNvSpPr/>
              <p:nvPr/>
            </p:nvSpPr>
            <p:spPr>
              <a:xfrm>
                <a:off x="6661440" y="4733640"/>
                <a:ext cx="0" cy="76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30"/>
              <p:cNvSpPr/>
              <p:nvPr/>
            </p:nvSpPr>
            <p:spPr>
              <a:xfrm>
                <a:off x="8313480" y="4733640"/>
                <a:ext cx="0" cy="76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31"/>
              <p:cNvSpPr/>
              <p:nvPr/>
            </p:nvSpPr>
            <p:spPr>
              <a:xfrm>
                <a:off x="6661440" y="5503320"/>
                <a:ext cx="62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32"/>
              <p:cNvSpPr/>
              <p:nvPr/>
            </p:nvSpPr>
            <p:spPr>
              <a:xfrm>
                <a:off x="7527240" y="5503320"/>
                <a:ext cx="78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3"/>
              <p:cNvSpPr/>
              <p:nvPr/>
            </p:nvSpPr>
            <p:spPr>
              <a:xfrm>
                <a:off x="7527240" y="5272560"/>
                <a:ext cx="0" cy="46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4"/>
              <p:cNvSpPr/>
              <p:nvPr/>
            </p:nvSpPr>
            <p:spPr>
              <a:xfrm>
                <a:off x="7369560" y="5425200"/>
                <a:ext cx="0" cy="15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AutoShape 37"/>
            <p:cNvSpPr/>
            <p:nvPr/>
          </p:nvSpPr>
          <p:spPr>
            <a:xfrm>
              <a:off x="7451640" y="3573360"/>
              <a:ext cx="216000" cy="576360"/>
            </a:xfrm>
            <a:prstGeom prst="downArrow">
              <a:avLst>
                <a:gd name="adj1" fmla="val 50000"/>
                <a:gd name="adj2" fmla="val 667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203640" y="6922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画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 rot="15931800">
            <a:off x="3967560" y="3169080"/>
            <a:ext cx="317520" cy="262080"/>
          </a:xfrm>
          <a:prstGeom prst="rightArrow">
            <a:avLst>
              <a:gd name="adj1" fmla="val 50000"/>
              <a:gd name="adj2" fmla="val 302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364000" y="2205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样画好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3059280" y="1844640"/>
            <a:ext cx="2159640" cy="1367640"/>
            <a:chOff x="3059280" y="1844640"/>
            <a:chExt cx="2159640" cy="1367640"/>
          </a:xfrm>
        </p:grpSpPr>
        <p:sp>
          <p:nvSpPr>
            <p:cNvPr id="102" name="Line 6"/>
            <p:cNvSpPr/>
            <p:nvPr/>
          </p:nvSpPr>
          <p:spPr>
            <a:xfrm flipH="1">
              <a:off x="3068280" y="3033000"/>
              <a:ext cx="209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4437360" y="1871280"/>
              <a:ext cx="770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5208120" y="2464200"/>
              <a:ext cx="0" cy="555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9"/>
            <p:cNvGrpSpPr/>
            <p:nvPr/>
          </p:nvGrpSpPr>
          <p:grpSpPr>
            <a:xfrm>
              <a:off x="3059280" y="1844640"/>
              <a:ext cx="2159640" cy="1367640"/>
              <a:chOff x="3059280" y="1844640"/>
              <a:chExt cx="2159640" cy="1367640"/>
            </a:xfrm>
          </p:grpSpPr>
          <p:sp>
            <p:nvSpPr>
              <p:cNvPr id="106" name="Line 10"/>
              <p:cNvSpPr/>
              <p:nvPr/>
            </p:nvSpPr>
            <p:spPr>
              <a:xfrm flipV="1">
                <a:off x="3072600" y="1844640"/>
                <a:ext cx="0" cy="118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1"/>
              <p:cNvSpPr/>
              <p:nvPr/>
            </p:nvSpPr>
            <p:spPr>
              <a:xfrm>
                <a:off x="3059280" y="1860120"/>
                <a:ext cx="16250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12"/>
              <p:cNvGrpSpPr/>
              <p:nvPr/>
            </p:nvGrpSpPr>
            <p:grpSpPr>
              <a:xfrm>
                <a:off x="3283560" y="2841840"/>
                <a:ext cx="326880" cy="209520"/>
                <a:chOff x="3283560" y="2841840"/>
                <a:chExt cx="326880" cy="209520"/>
              </a:xfrm>
            </p:grpSpPr>
            <p:sp>
              <p:nvSpPr>
                <p:cNvPr id="109" name="Oval 13"/>
                <p:cNvSpPr/>
                <p:nvPr/>
              </p:nvSpPr>
              <p:spPr>
                <a:xfrm>
                  <a:off x="3283560" y="2985840"/>
                  <a:ext cx="77760" cy="6552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4"/>
                <p:cNvSpPr/>
                <p:nvPr/>
              </p:nvSpPr>
              <p:spPr>
                <a:xfrm flipH="1">
                  <a:off x="3297960" y="2841840"/>
                  <a:ext cx="312480" cy="152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Line 15"/>
              <p:cNvSpPr/>
              <p:nvPr/>
            </p:nvSpPr>
            <p:spPr>
              <a:xfrm>
                <a:off x="5217480" y="1871280"/>
                <a:ext cx="0" cy="600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6"/>
              <p:cNvSpPr/>
              <p:nvPr/>
            </p:nvSpPr>
            <p:spPr>
              <a:xfrm>
                <a:off x="4988520" y="3021840"/>
                <a:ext cx="230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Group 17"/>
              <p:cNvGrpSpPr/>
              <p:nvPr/>
            </p:nvGrpSpPr>
            <p:grpSpPr>
              <a:xfrm>
                <a:off x="3837600" y="2795760"/>
                <a:ext cx="389160" cy="223560"/>
                <a:chOff x="3837600" y="2795760"/>
                <a:chExt cx="389160" cy="223560"/>
              </a:xfrm>
            </p:grpSpPr>
            <p:sp>
              <p:nvSpPr>
                <p:cNvPr id="114" name="Line 18"/>
                <p:cNvSpPr/>
                <p:nvPr/>
              </p:nvSpPr>
              <p:spPr>
                <a:xfrm flipV="1">
                  <a:off x="3934800" y="2909520"/>
                  <a:ext cx="0" cy="1054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9"/>
                <p:cNvSpPr/>
                <p:nvPr/>
              </p:nvSpPr>
              <p:spPr>
                <a:xfrm flipV="1">
                  <a:off x="4134960" y="2913480"/>
                  <a:ext cx="0" cy="1058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Group 20"/>
                <p:cNvGrpSpPr/>
                <p:nvPr/>
              </p:nvGrpSpPr>
              <p:grpSpPr>
                <a:xfrm>
                  <a:off x="3837600" y="2795760"/>
                  <a:ext cx="389160" cy="102600"/>
                  <a:chOff x="3837600" y="2795760"/>
                  <a:chExt cx="389160" cy="102600"/>
                </a:xfrm>
              </p:grpSpPr>
              <p:sp>
                <p:nvSpPr>
                  <p:cNvPr id="117" name="Line 21"/>
                  <p:cNvSpPr/>
                  <p:nvPr/>
                </p:nvSpPr>
                <p:spPr>
                  <a:xfrm>
                    <a:off x="3837600" y="2898360"/>
                    <a:ext cx="3765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22"/>
                  <p:cNvSpPr/>
                  <p:nvPr/>
                </p:nvSpPr>
                <p:spPr>
                  <a:xfrm rot="16200000">
                    <a:off x="3981600" y="2651760"/>
                    <a:ext cx="101160" cy="3891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40">
                        <a:moveTo>
                          <a:pt x="0" y="0"/>
                        </a:moveTo>
                        <a:cubicBezTo>
                          <a:pt x="9" y="3"/>
                          <a:pt x="20" y="2"/>
                          <a:pt x="26" y="8"/>
                        </a:cubicBezTo>
                        <a:cubicBezTo>
                          <a:pt x="41" y="23"/>
                          <a:pt x="60" y="60"/>
                          <a:pt x="60" y="60"/>
                        </a:cubicBezTo>
                        <a:cubicBezTo>
                          <a:pt x="74" y="113"/>
                          <a:pt x="70" y="76"/>
                          <a:pt x="60" y="137"/>
                        </a:cubicBezTo>
                        <a:cubicBezTo>
                          <a:pt x="51" y="193"/>
                          <a:pt x="65" y="240"/>
                          <a:pt x="0" y="240"/>
                        </a:cubicBezTo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9" name="Line 23"/>
              <p:cNvSpPr/>
              <p:nvPr/>
            </p:nvSpPr>
            <p:spPr>
              <a:xfrm>
                <a:off x="3566880" y="3007440"/>
                <a:ext cx="352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24"/>
              <p:cNvSpPr/>
              <p:nvPr/>
            </p:nvSpPr>
            <p:spPr>
              <a:xfrm>
                <a:off x="4155120" y="3041640"/>
                <a:ext cx="639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5"/>
              <p:cNvSpPr/>
              <p:nvPr/>
            </p:nvSpPr>
            <p:spPr>
              <a:xfrm>
                <a:off x="4977360" y="2870640"/>
                <a:ext cx="0" cy="34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26"/>
              <p:cNvSpPr/>
              <p:nvPr/>
            </p:nvSpPr>
            <p:spPr>
              <a:xfrm>
                <a:off x="4794840" y="2955960"/>
                <a:ext cx="0" cy="171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27"/>
          <p:cNvGrpSpPr/>
          <p:nvPr/>
        </p:nvGrpSpPr>
        <p:grpSpPr>
          <a:xfrm>
            <a:off x="3276720" y="3573360"/>
            <a:ext cx="2268000" cy="1656000"/>
            <a:chOff x="3276720" y="3573360"/>
            <a:chExt cx="2268000" cy="1656000"/>
          </a:xfrm>
        </p:grpSpPr>
        <p:pic>
          <p:nvPicPr>
            <p:cNvPr id="124" name="Picture 28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221720" y="3605760"/>
              <a:ext cx="413640" cy="68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" name="Group 29"/>
            <p:cNvGrpSpPr/>
            <p:nvPr/>
          </p:nvGrpSpPr>
          <p:grpSpPr>
            <a:xfrm>
              <a:off x="3768120" y="4997160"/>
              <a:ext cx="644760" cy="211320"/>
              <a:chOff x="3768120" y="4997160"/>
              <a:chExt cx="644760" cy="211320"/>
            </a:xfrm>
          </p:grpSpPr>
          <p:pic>
            <p:nvPicPr>
              <p:cNvPr id="126" name="Picture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3768120" y="4997160"/>
                <a:ext cx="342000" cy="2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Picture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4070880" y="4997160"/>
                <a:ext cx="342000" cy="21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" name="Picture 32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4726080" y="4782600"/>
              <a:ext cx="73080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Freeform 33"/>
            <p:cNvSpPr/>
            <p:nvPr/>
          </p:nvSpPr>
          <p:spPr>
            <a:xfrm>
              <a:off x="4398120" y="5068440"/>
              <a:ext cx="428400" cy="160920"/>
            </a:xfrm>
            <a:custGeom>
              <a:avLst/>
              <a:gdLst/>
              <a:ahLst/>
              <a:rect l="l" t="t" r="r" b="b"/>
              <a:pathLst>
                <a:path w="768" h="168">
                  <a:moveTo>
                    <a:pt x="0" y="0"/>
                  </a:moveTo>
                  <a:cubicBezTo>
                    <a:pt x="44" y="60"/>
                    <a:pt x="88" y="120"/>
                    <a:pt x="192" y="144"/>
                  </a:cubicBezTo>
                  <a:cubicBezTo>
                    <a:pt x="296" y="168"/>
                    <a:pt x="528" y="160"/>
                    <a:pt x="624" y="144"/>
                  </a:cubicBezTo>
                  <a:cubicBezTo>
                    <a:pt x="720" y="128"/>
                    <a:pt x="736" y="64"/>
                    <a:pt x="768" y="4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4"/>
            <p:cNvSpPr/>
            <p:nvPr/>
          </p:nvSpPr>
          <p:spPr>
            <a:xfrm>
              <a:off x="4549320" y="3638520"/>
              <a:ext cx="995400" cy="1501560"/>
            </a:xfrm>
            <a:custGeom>
              <a:avLst/>
              <a:gdLst/>
              <a:ahLst/>
              <a:rect l="l" t="t" r="r" b="b"/>
              <a:pathLst>
                <a:path w="1896" h="2016">
                  <a:moveTo>
                    <a:pt x="1584" y="2016"/>
                  </a:moveTo>
                  <a:cubicBezTo>
                    <a:pt x="1728" y="1936"/>
                    <a:pt x="1872" y="1856"/>
                    <a:pt x="1872" y="1632"/>
                  </a:cubicBezTo>
                  <a:cubicBezTo>
                    <a:pt x="1872" y="1408"/>
                    <a:pt x="1896" y="944"/>
                    <a:pt x="1584" y="672"/>
                  </a:cubicBezTo>
                  <a:cubicBezTo>
                    <a:pt x="1272" y="400"/>
                    <a:pt x="264" y="112"/>
                    <a:pt x="0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5"/>
            <p:cNvSpPr/>
            <p:nvPr/>
          </p:nvSpPr>
          <p:spPr>
            <a:xfrm>
              <a:off x="3276720" y="3573360"/>
              <a:ext cx="1020600" cy="1531440"/>
            </a:xfrm>
            <a:custGeom>
              <a:avLst/>
              <a:gdLst/>
              <a:ahLst/>
              <a:rect l="l" t="t" r="r" b="b"/>
              <a:pathLst>
                <a:path w="1944" h="2056">
                  <a:moveTo>
                    <a:pt x="1944" y="88"/>
                  </a:moveTo>
                  <a:cubicBezTo>
                    <a:pt x="1772" y="44"/>
                    <a:pt x="1600" y="0"/>
                    <a:pt x="1320" y="136"/>
                  </a:cubicBezTo>
                  <a:cubicBezTo>
                    <a:pt x="1040" y="272"/>
                    <a:pt x="464" y="624"/>
                    <a:pt x="264" y="904"/>
                  </a:cubicBezTo>
                  <a:cubicBezTo>
                    <a:pt x="64" y="1184"/>
                    <a:pt x="0" y="1624"/>
                    <a:pt x="120" y="1816"/>
                  </a:cubicBezTo>
                  <a:cubicBezTo>
                    <a:pt x="240" y="2008"/>
                    <a:pt x="840" y="2016"/>
                    <a:pt x="984" y="2056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36"/>
          <p:cNvGrpSpPr/>
          <p:nvPr/>
        </p:nvGrpSpPr>
        <p:grpSpPr>
          <a:xfrm>
            <a:off x="324000" y="3573360"/>
            <a:ext cx="2157840" cy="1483920"/>
            <a:chOff x="324000" y="3573360"/>
            <a:chExt cx="2157840" cy="1483920"/>
          </a:xfrm>
        </p:grpSpPr>
        <p:sp>
          <p:nvSpPr>
            <p:cNvPr id="133" name="Line 37"/>
            <p:cNvSpPr/>
            <p:nvPr/>
          </p:nvSpPr>
          <p:spPr>
            <a:xfrm flipH="1">
              <a:off x="332640" y="4806720"/>
              <a:ext cx="605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 flipV="1">
              <a:off x="336240" y="3655800"/>
              <a:ext cx="0" cy="115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39"/>
            <p:cNvGrpSpPr/>
            <p:nvPr/>
          </p:nvGrpSpPr>
          <p:grpSpPr>
            <a:xfrm>
              <a:off x="324000" y="3573360"/>
              <a:ext cx="1235520" cy="176400"/>
              <a:chOff x="324000" y="3573360"/>
              <a:chExt cx="1235520" cy="176400"/>
            </a:xfrm>
          </p:grpSpPr>
          <p:sp>
            <p:nvSpPr>
              <p:cNvPr id="136" name="Line 40"/>
              <p:cNvSpPr/>
              <p:nvPr/>
            </p:nvSpPr>
            <p:spPr>
              <a:xfrm>
                <a:off x="324000" y="3730320"/>
                <a:ext cx="984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41"/>
              <p:cNvSpPr/>
              <p:nvPr/>
            </p:nvSpPr>
            <p:spPr>
              <a:xfrm>
                <a:off x="1284480" y="3694680"/>
                <a:ext cx="65160" cy="550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42"/>
              <p:cNvSpPr/>
              <p:nvPr/>
            </p:nvSpPr>
            <p:spPr>
              <a:xfrm flipH="1">
                <a:off x="1296720" y="3573360"/>
                <a:ext cx="262800" cy="128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Line 43"/>
            <p:cNvSpPr/>
            <p:nvPr/>
          </p:nvSpPr>
          <p:spPr>
            <a:xfrm>
              <a:off x="1579320" y="3753720"/>
              <a:ext cx="677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2283840" y="3918240"/>
              <a:ext cx="0" cy="87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 flipV="1">
              <a:off x="1261080" y="4795920"/>
              <a:ext cx="1033200" cy="1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46"/>
            <p:cNvGrpSpPr/>
            <p:nvPr/>
          </p:nvGrpSpPr>
          <p:grpSpPr>
            <a:xfrm>
              <a:off x="2246760" y="3678120"/>
              <a:ext cx="235080" cy="300240"/>
              <a:chOff x="2246760" y="3678120"/>
              <a:chExt cx="235080" cy="300240"/>
            </a:xfrm>
          </p:grpSpPr>
          <p:sp>
            <p:nvSpPr>
              <p:cNvPr id="143" name="Line 47"/>
              <p:cNvSpPr/>
              <p:nvPr/>
            </p:nvSpPr>
            <p:spPr>
              <a:xfrm>
                <a:off x="2246760" y="3753360"/>
                <a:ext cx="113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8"/>
              <p:cNvSpPr/>
              <p:nvPr/>
            </p:nvSpPr>
            <p:spPr>
              <a:xfrm>
                <a:off x="2269440" y="3906000"/>
                <a:ext cx="113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Group 49"/>
              <p:cNvGrpSpPr/>
              <p:nvPr/>
            </p:nvGrpSpPr>
            <p:grpSpPr>
              <a:xfrm>
                <a:off x="2370600" y="3678120"/>
                <a:ext cx="111240" cy="300240"/>
                <a:chOff x="2370600" y="3678120"/>
                <a:chExt cx="111240" cy="300240"/>
              </a:xfrm>
            </p:grpSpPr>
            <p:sp>
              <p:nvSpPr>
                <p:cNvPr id="146" name="Line 50"/>
                <p:cNvSpPr/>
                <p:nvPr/>
              </p:nvSpPr>
              <p:spPr>
                <a:xfrm>
                  <a:off x="2370600" y="3678120"/>
                  <a:ext cx="0" cy="290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51"/>
                <p:cNvSpPr/>
                <p:nvPr/>
              </p:nvSpPr>
              <p:spPr>
                <a:xfrm>
                  <a:off x="2372040" y="3678120"/>
                  <a:ext cx="109800" cy="300240"/>
                </a:xfrm>
                <a:custGeom>
                  <a:avLst/>
                  <a:gdLst/>
                  <a:ahLst/>
                  <a:rect l="l" t="t" r="r" b="b"/>
                  <a:pathLst>
                    <a:path w="74" h="240">
                      <a:moveTo>
                        <a:pt x="0" y="0"/>
                      </a:moveTo>
                      <a:cubicBezTo>
                        <a:pt x="9" y="3"/>
                        <a:pt x="20" y="2"/>
                        <a:pt x="26" y="8"/>
                      </a:cubicBezTo>
                      <a:cubicBezTo>
                        <a:pt x="41" y="23"/>
                        <a:pt x="60" y="60"/>
                        <a:pt x="60" y="60"/>
                      </a:cubicBezTo>
                      <a:cubicBezTo>
                        <a:pt x="74" y="113"/>
                        <a:pt x="70" y="76"/>
                        <a:pt x="60" y="137"/>
                      </a:cubicBezTo>
                      <a:cubicBezTo>
                        <a:pt x="51" y="193"/>
                        <a:pt x="65" y="240"/>
                        <a:pt x="0" y="240"/>
                      </a:cubicBezTo>
                    </a:path>
                  </a:pathLst>
                </a:custGeom>
                <a:noFill/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Line 52"/>
            <p:cNvSpPr/>
            <p:nvPr/>
          </p:nvSpPr>
          <p:spPr>
            <a:xfrm>
              <a:off x="1005480" y="4645440"/>
              <a:ext cx="0" cy="32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1176120" y="4562640"/>
              <a:ext cx="0" cy="49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AutoShape 54"/>
          <p:cNvSpPr/>
          <p:nvPr/>
        </p:nvSpPr>
        <p:spPr>
          <a:xfrm rot="10495200">
            <a:off x="2484000" y="4365360"/>
            <a:ext cx="317520" cy="261720"/>
          </a:xfrm>
          <a:prstGeom prst="rightArrow">
            <a:avLst>
              <a:gd name="adj1" fmla="val 50000"/>
              <a:gd name="adj2" fmla="val 303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5"/>
          <p:cNvSpPr/>
          <p:nvPr/>
        </p:nvSpPr>
        <p:spPr>
          <a:xfrm>
            <a:off x="250920" y="530064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样画怎么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56"/>
          <p:cNvGrpSpPr/>
          <p:nvPr/>
        </p:nvGrpSpPr>
        <p:grpSpPr>
          <a:xfrm>
            <a:off x="6156360" y="3141720"/>
            <a:ext cx="2735280" cy="2068920"/>
            <a:chOff x="6156360" y="3141720"/>
            <a:chExt cx="2735280" cy="2068920"/>
          </a:xfrm>
        </p:grpSpPr>
        <p:sp>
          <p:nvSpPr>
            <p:cNvPr id="153" name="Line 57"/>
            <p:cNvSpPr/>
            <p:nvPr/>
          </p:nvSpPr>
          <p:spPr>
            <a:xfrm flipH="1">
              <a:off x="6612120" y="4883760"/>
              <a:ext cx="626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58"/>
            <p:cNvGrpSpPr/>
            <p:nvPr/>
          </p:nvGrpSpPr>
          <p:grpSpPr>
            <a:xfrm>
              <a:off x="6156360" y="3141720"/>
              <a:ext cx="2735280" cy="2068920"/>
              <a:chOff x="6156360" y="3141720"/>
              <a:chExt cx="2735280" cy="2068920"/>
            </a:xfrm>
          </p:grpSpPr>
          <p:grpSp>
            <p:nvGrpSpPr>
              <p:cNvPr id="155" name="Group 59"/>
              <p:cNvGrpSpPr/>
              <p:nvPr/>
            </p:nvGrpSpPr>
            <p:grpSpPr>
              <a:xfrm>
                <a:off x="7680960" y="3141720"/>
                <a:ext cx="309240" cy="268920"/>
                <a:chOff x="7680960" y="3141720"/>
                <a:chExt cx="309240" cy="268920"/>
              </a:xfrm>
            </p:grpSpPr>
            <p:sp>
              <p:nvSpPr>
                <p:cNvPr id="156" name="Oval 60"/>
                <p:cNvSpPr/>
                <p:nvPr/>
              </p:nvSpPr>
              <p:spPr>
                <a:xfrm>
                  <a:off x="7680960" y="3326400"/>
                  <a:ext cx="73800" cy="8424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61"/>
                <p:cNvSpPr/>
                <p:nvPr/>
              </p:nvSpPr>
              <p:spPr>
                <a:xfrm flipH="1">
                  <a:off x="7693920" y="3141720"/>
                  <a:ext cx="296280" cy="1951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Line 62"/>
              <p:cNvSpPr/>
              <p:nvPr/>
            </p:nvSpPr>
            <p:spPr>
              <a:xfrm>
                <a:off x="7903800" y="3395880"/>
                <a:ext cx="728280" cy="1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Group 63"/>
              <p:cNvGrpSpPr/>
              <p:nvPr/>
            </p:nvGrpSpPr>
            <p:grpSpPr>
              <a:xfrm>
                <a:off x="8641080" y="3835800"/>
                <a:ext cx="250560" cy="421560"/>
                <a:chOff x="8641080" y="3835800"/>
                <a:chExt cx="250560" cy="421560"/>
              </a:xfrm>
            </p:grpSpPr>
            <p:sp>
              <p:nvSpPr>
                <p:cNvPr id="160" name="Line 64"/>
                <p:cNvSpPr/>
                <p:nvPr/>
              </p:nvSpPr>
              <p:spPr>
                <a:xfrm>
                  <a:off x="8645760" y="3940920"/>
                  <a:ext cx="1184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65"/>
                <p:cNvSpPr/>
                <p:nvPr/>
              </p:nvSpPr>
              <p:spPr>
                <a:xfrm>
                  <a:off x="8641080" y="4157640"/>
                  <a:ext cx="1188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Group 66"/>
                <p:cNvGrpSpPr/>
                <p:nvPr/>
              </p:nvGrpSpPr>
              <p:grpSpPr>
                <a:xfrm>
                  <a:off x="8776440" y="3835800"/>
                  <a:ext cx="115200" cy="421560"/>
                  <a:chOff x="8776440" y="3835800"/>
                  <a:chExt cx="115200" cy="421560"/>
                </a:xfrm>
              </p:grpSpPr>
              <p:sp>
                <p:nvSpPr>
                  <p:cNvPr id="163" name="Line 67"/>
                  <p:cNvSpPr/>
                  <p:nvPr/>
                </p:nvSpPr>
                <p:spPr>
                  <a:xfrm>
                    <a:off x="8776440" y="3835800"/>
                    <a:ext cx="0" cy="4078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68"/>
                  <p:cNvSpPr/>
                  <p:nvPr/>
                </p:nvSpPr>
                <p:spPr>
                  <a:xfrm>
                    <a:off x="8777880" y="3835800"/>
                    <a:ext cx="113760" cy="4215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40">
                        <a:moveTo>
                          <a:pt x="0" y="0"/>
                        </a:moveTo>
                        <a:cubicBezTo>
                          <a:pt x="9" y="3"/>
                          <a:pt x="20" y="2"/>
                          <a:pt x="26" y="8"/>
                        </a:cubicBezTo>
                        <a:cubicBezTo>
                          <a:pt x="41" y="23"/>
                          <a:pt x="60" y="60"/>
                          <a:pt x="60" y="60"/>
                        </a:cubicBezTo>
                        <a:cubicBezTo>
                          <a:pt x="74" y="113"/>
                          <a:pt x="70" y="76"/>
                          <a:pt x="60" y="137"/>
                        </a:cubicBezTo>
                        <a:cubicBezTo>
                          <a:pt x="51" y="193"/>
                          <a:pt x="65" y="240"/>
                          <a:pt x="0" y="240"/>
                        </a:cubicBezTo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5" name="Freeform 69"/>
              <p:cNvSpPr/>
              <p:nvPr/>
            </p:nvSpPr>
            <p:spPr>
              <a:xfrm>
                <a:off x="6156360" y="3395880"/>
                <a:ext cx="1524600" cy="1524240"/>
              </a:xfrm>
              <a:custGeom>
                <a:avLst/>
                <a:gdLst/>
                <a:ahLst/>
                <a:rect l="l" t="t" r="r" b="b"/>
                <a:pathLst>
                  <a:path w="992" h="864">
                    <a:moveTo>
                      <a:pt x="320" y="864"/>
                    </a:moveTo>
                    <a:cubicBezTo>
                      <a:pt x="192" y="732"/>
                      <a:pt x="64" y="600"/>
                      <a:pt x="32" y="480"/>
                    </a:cubicBezTo>
                    <a:cubicBezTo>
                      <a:pt x="0" y="360"/>
                      <a:pt x="64" y="184"/>
                      <a:pt x="128" y="144"/>
                    </a:cubicBezTo>
                    <a:cubicBezTo>
                      <a:pt x="192" y="104"/>
                      <a:pt x="328" y="200"/>
                      <a:pt x="416" y="240"/>
                    </a:cubicBezTo>
                    <a:cubicBezTo>
                      <a:pt x="504" y="280"/>
                      <a:pt x="600" y="400"/>
                      <a:pt x="656" y="384"/>
                    </a:cubicBezTo>
                    <a:cubicBezTo>
                      <a:pt x="712" y="368"/>
                      <a:pt x="720" y="192"/>
                      <a:pt x="752" y="144"/>
                    </a:cubicBezTo>
                    <a:cubicBezTo>
                      <a:pt x="784" y="96"/>
                      <a:pt x="808" y="120"/>
                      <a:pt x="848" y="96"/>
                    </a:cubicBezTo>
                    <a:cubicBezTo>
                      <a:pt x="888" y="72"/>
                      <a:pt x="940" y="36"/>
                      <a:pt x="992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70"/>
              <p:cNvSpPr/>
              <p:nvPr/>
            </p:nvSpPr>
            <p:spPr>
              <a:xfrm>
                <a:off x="7439040" y="4156920"/>
                <a:ext cx="1424880" cy="743400"/>
              </a:xfrm>
              <a:custGeom>
                <a:avLst/>
                <a:gdLst/>
                <a:ahLst/>
                <a:rect l="l" t="t" r="r" b="b"/>
                <a:pathLst>
                  <a:path w="672" h="416">
                    <a:moveTo>
                      <a:pt x="0" y="384"/>
                    </a:moveTo>
                    <a:cubicBezTo>
                      <a:pt x="240" y="400"/>
                      <a:pt x="480" y="416"/>
                      <a:pt x="576" y="384"/>
                    </a:cubicBezTo>
                    <a:cubicBezTo>
                      <a:pt x="672" y="352"/>
                      <a:pt x="584" y="256"/>
                      <a:pt x="576" y="192"/>
                    </a:cubicBezTo>
                    <a:cubicBezTo>
                      <a:pt x="568" y="128"/>
                      <a:pt x="548" y="64"/>
                      <a:pt x="528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1"/>
              <p:cNvSpPr/>
              <p:nvPr/>
            </p:nvSpPr>
            <p:spPr>
              <a:xfrm>
                <a:off x="8557560" y="3309840"/>
                <a:ext cx="83520" cy="678960"/>
              </a:xfrm>
              <a:custGeom>
                <a:avLst/>
                <a:gdLst/>
                <a:ahLst/>
                <a:rect l="l" t="t" r="r" b="b"/>
                <a:pathLst>
                  <a:path w="48" h="336">
                    <a:moveTo>
                      <a:pt x="0" y="0"/>
                    </a:moveTo>
                    <a:cubicBezTo>
                      <a:pt x="0" y="0"/>
                      <a:pt x="24" y="168"/>
                      <a:pt x="48" y="33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72"/>
              <p:cNvSpPr/>
              <p:nvPr/>
            </p:nvSpPr>
            <p:spPr>
              <a:xfrm>
                <a:off x="7267680" y="4797000"/>
                <a:ext cx="1800" cy="310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73"/>
              <p:cNvSpPr/>
              <p:nvPr/>
            </p:nvSpPr>
            <p:spPr>
              <a:xfrm>
                <a:off x="7439040" y="4693680"/>
                <a:ext cx="1440" cy="516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AutoShape 74"/>
          <p:cNvSpPr/>
          <p:nvPr/>
        </p:nvSpPr>
        <p:spPr>
          <a:xfrm>
            <a:off x="5580000" y="4076640"/>
            <a:ext cx="317520" cy="262080"/>
          </a:xfrm>
          <a:prstGeom prst="rightArrow">
            <a:avLst>
              <a:gd name="adj1" fmla="val 50000"/>
              <a:gd name="adj2" fmla="val 302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5"/>
          <p:cNvSpPr/>
          <p:nvPr/>
        </p:nvSpPr>
        <p:spPr>
          <a:xfrm>
            <a:off x="6732720" y="5373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画如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692360" y="33336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画电路图的基本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763640" y="1197000"/>
            <a:ext cx="640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件位置安排要适当，分布要均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件不要画在拐角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个电路图最好呈长方形，有棱有角，导线要横平竖直。（尺规作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3"/>
          <p:cNvGrpSpPr/>
          <p:nvPr/>
        </p:nvGrpSpPr>
        <p:grpSpPr>
          <a:xfrm>
            <a:off x="684360" y="4221000"/>
            <a:ext cx="2520720" cy="1656000"/>
            <a:chOff x="684360" y="4221000"/>
            <a:chExt cx="2520720" cy="1656000"/>
          </a:xfrm>
        </p:grpSpPr>
        <p:pic>
          <p:nvPicPr>
            <p:cNvPr id="175" name="Picture 24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734480" y="4253400"/>
              <a:ext cx="459720" cy="68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25"/>
            <p:cNvGrpSpPr/>
            <p:nvPr/>
          </p:nvGrpSpPr>
          <p:grpSpPr>
            <a:xfrm>
              <a:off x="1230480" y="5644800"/>
              <a:ext cx="716400" cy="211320"/>
              <a:chOff x="1230480" y="5644800"/>
              <a:chExt cx="716400" cy="211320"/>
            </a:xfrm>
          </p:grpSpPr>
          <p:pic>
            <p:nvPicPr>
              <p:cNvPr id="177" name="Pictur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230480" y="5644800"/>
                <a:ext cx="380160" cy="2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2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6720" y="5644800"/>
                <a:ext cx="380160" cy="21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9" name="Picture 28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2294640" y="5430240"/>
              <a:ext cx="8121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Freeform 29"/>
            <p:cNvSpPr/>
            <p:nvPr/>
          </p:nvSpPr>
          <p:spPr>
            <a:xfrm>
              <a:off x="1930680" y="5716080"/>
              <a:ext cx="475920" cy="160920"/>
            </a:xfrm>
            <a:custGeom>
              <a:avLst/>
              <a:gdLst/>
              <a:ahLst/>
              <a:rect l="l" t="t" r="r" b="b"/>
              <a:pathLst>
                <a:path w="768" h="168">
                  <a:moveTo>
                    <a:pt x="0" y="0"/>
                  </a:moveTo>
                  <a:cubicBezTo>
                    <a:pt x="44" y="60"/>
                    <a:pt x="88" y="120"/>
                    <a:pt x="192" y="144"/>
                  </a:cubicBezTo>
                  <a:cubicBezTo>
                    <a:pt x="296" y="168"/>
                    <a:pt x="528" y="160"/>
                    <a:pt x="624" y="144"/>
                  </a:cubicBezTo>
                  <a:cubicBezTo>
                    <a:pt x="720" y="128"/>
                    <a:pt x="736" y="64"/>
                    <a:pt x="768" y="4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0"/>
            <p:cNvSpPr/>
            <p:nvPr/>
          </p:nvSpPr>
          <p:spPr>
            <a:xfrm>
              <a:off x="2098800" y="4286160"/>
              <a:ext cx="1106280" cy="1501560"/>
            </a:xfrm>
            <a:custGeom>
              <a:avLst/>
              <a:gdLst/>
              <a:ahLst/>
              <a:rect l="l" t="t" r="r" b="b"/>
              <a:pathLst>
                <a:path w="1896" h="2016">
                  <a:moveTo>
                    <a:pt x="1584" y="2016"/>
                  </a:moveTo>
                  <a:cubicBezTo>
                    <a:pt x="1728" y="1936"/>
                    <a:pt x="1872" y="1856"/>
                    <a:pt x="1872" y="1632"/>
                  </a:cubicBezTo>
                  <a:cubicBezTo>
                    <a:pt x="1872" y="1408"/>
                    <a:pt x="1896" y="944"/>
                    <a:pt x="1584" y="672"/>
                  </a:cubicBezTo>
                  <a:cubicBezTo>
                    <a:pt x="1272" y="400"/>
                    <a:pt x="264" y="112"/>
                    <a:pt x="0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1"/>
            <p:cNvSpPr/>
            <p:nvPr/>
          </p:nvSpPr>
          <p:spPr>
            <a:xfrm>
              <a:off x="684360" y="4221000"/>
              <a:ext cx="1134360" cy="1531440"/>
            </a:xfrm>
            <a:custGeom>
              <a:avLst/>
              <a:gdLst/>
              <a:ahLst/>
              <a:rect l="l" t="t" r="r" b="b"/>
              <a:pathLst>
                <a:path w="1944" h="2056">
                  <a:moveTo>
                    <a:pt x="1944" y="88"/>
                  </a:moveTo>
                  <a:cubicBezTo>
                    <a:pt x="1772" y="44"/>
                    <a:pt x="1600" y="0"/>
                    <a:pt x="1320" y="136"/>
                  </a:cubicBezTo>
                  <a:cubicBezTo>
                    <a:pt x="1040" y="272"/>
                    <a:pt x="464" y="624"/>
                    <a:pt x="264" y="904"/>
                  </a:cubicBezTo>
                  <a:cubicBezTo>
                    <a:pt x="64" y="1184"/>
                    <a:pt x="0" y="1624"/>
                    <a:pt x="120" y="1816"/>
                  </a:cubicBezTo>
                  <a:cubicBezTo>
                    <a:pt x="240" y="2008"/>
                    <a:pt x="840" y="2016"/>
                    <a:pt x="984" y="2056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50"/>
          <p:cNvGrpSpPr/>
          <p:nvPr/>
        </p:nvGrpSpPr>
        <p:grpSpPr>
          <a:xfrm>
            <a:off x="4788000" y="3933720"/>
            <a:ext cx="3097080" cy="2087640"/>
            <a:chOff x="4788000" y="3933720"/>
            <a:chExt cx="3097080" cy="2087640"/>
          </a:xfrm>
        </p:grpSpPr>
        <p:grpSp>
          <p:nvGrpSpPr>
            <p:cNvPr id="184" name="Group 47"/>
            <p:cNvGrpSpPr/>
            <p:nvPr/>
          </p:nvGrpSpPr>
          <p:grpSpPr>
            <a:xfrm>
              <a:off x="4788000" y="4221000"/>
              <a:ext cx="3097080" cy="1800360"/>
              <a:chOff x="4788000" y="4221000"/>
              <a:chExt cx="3097080" cy="1800360"/>
            </a:xfrm>
          </p:grpSpPr>
          <p:sp>
            <p:nvSpPr>
              <p:cNvPr id="185" name="Line 32"/>
              <p:cNvSpPr/>
              <p:nvPr/>
            </p:nvSpPr>
            <p:spPr>
              <a:xfrm>
                <a:off x="4788000" y="5805360"/>
                <a:ext cx="72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33"/>
              <p:cNvSpPr/>
              <p:nvPr/>
            </p:nvSpPr>
            <p:spPr>
              <a:xfrm>
                <a:off x="5651640" y="5805360"/>
                <a:ext cx="72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34"/>
              <p:cNvSpPr/>
              <p:nvPr/>
            </p:nvSpPr>
            <p:spPr>
              <a:xfrm>
                <a:off x="5651640" y="558972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35"/>
              <p:cNvSpPr/>
              <p:nvPr/>
            </p:nvSpPr>
            <p:spPr>
              <a:xfrm>
                <a:off x="5508720" y="56610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36"/>
              <p:cNvSpPr/>
              <p:nvPr/>
            </p:nvSpPr>
            <p:spPr>
              <a:xfrm flipV="1">
                <a:off x="6372360" y="5517720"/>
                <a:ext cx="36036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37"/>
              <p:cNvSpPr/>
              <p:nvPr/>
            </p:nvSpPr>
            <p:spPr>
              <a:xfrm>
                <a:off x="6732720" y="5805360"/>
                <a:ext cx="115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38"/>
              <p:cNvSpPr/>
              <p:nvPr/>
            </p:nvSpPr>
            <p:spPr>
              <a:xfrm>
                <a:off x="4788000" y="4510080"/>
                <a:ext cx="144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39"/>
              <p:cNvSpPr/>
              <p:nvPr/>
            </p:nvSpPr>
            <p:spPr>
              <a:xfrm>
                <a:off x="7885080" y="451008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40"/>
              <p:cNvSpPr/>
              <p:nvPr/>
            </p:nvSpPr>
            <p:spPr>
              <a:xfrm flipV="1">
                <a:off x="4788000" y="451008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41"/>
              <p:cNvSpPr/>
              <p:nvPr/>
            </p:nvSpPr>
            <p:spPr>
              <a:xfrm>
                <a:off x="6516720" y="4510080"/>
                <a:ext cx="136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44"/>
              <p:cNvSpPr/>
              <p:nvPr/>
            </p:nvSpPr>
            <p:spPr>
              <a:xfrm>
                <a:off x="6227640" y="42210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45"/>
              <p:cNvSpPr/>
              <p:nvPr/>
            </p:nvSpPr>
            <p:spPr>
              <a:xfrm>
                <a:off x="6516720" y="42210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Picture 49" descr="2$LFY8E}M(Y53H[TRJ448`C"/>
            <p:cNvPicPr/>
            <p:nvPr/>
          </p:nvPicPr>
          <p:blipFill>
            <a:blip r:embed="rId6"/>
            <a:stretch/>
          </p:blipFill>
          <p:spPr>
            <a:xfrm>
              <a:off x="6084720" y="3933720"/>
              <a:ext cx="57168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3164400" y="105156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更多的小灯泡亮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202480" y="206064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材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灯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导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283280" y="32824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组实践，想办法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小灯泡都亮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画出简单电路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试试还有没有其他不同的连接方法，如有同样画出电路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1:04Z</dcterms:modified>
  <cp:revision>18</cp:revision>
  <dc:subject/>
  <dc:title>幻灯片 1</dc:title>
</cp:coreProperties>
</file>