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76A-2571-47EF-8C37-49E20B35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F38-5000-4620-81AF-C136CBCE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78E2-EE5D-440D-8725-F5D5A926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B97-7838-474D-804C-E546066A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B7A-BDAA-49EF-BBA2-7DAD05D3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D3E-9705-48BD-BD16-7B099B92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854-34F1-4FFC-AB76-0DCE5166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0B1-1E8D-4050-A37C-8008E6D4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5F0-C9FF-48C9-96B6-579394AB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B8C-8EF8-46C7-997D-FEFEB050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5F8-E9EA-42DA-B1E5-28151BE4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A39-5E3B-4AD4-ABF0-CA196F62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F6FB-DF8F-4E5B-8FAC-3410F9477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40000" y="2276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导体与绝缘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Q6@@T$ZASM{0[8RNBZ`SWG"/>
          <p:cNvPicPr/>
          <p:nvPr/>
        </p:nvPicPr>
        <p:blipFill>
          <a:blip r:embed="rId1"/>
          <a:stretch/>
        </p:blipFill>
        <p:spPr>
          <a:xfrm>
            <a:off x="1979640" y="404640"/>
            <a:ext cx="5111640" cy="320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1042920" y="3858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电路连接，说说电流在电路中是怎么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将电路中的导线剪断，会出现什么情况，为什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重新接亮小灯泡，看看小灯泡会不会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金属头和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金属头接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13395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金属头接在一起，小灯泡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把外面的塑料皮接触在一起或把金属头和塑料皮接触在一起，小灯泡就不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到底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铜丝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塑料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绝缘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8%LA8NJR}JRI0CB908A[$Q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356000" y="141300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预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橡皮能否通过电流使小灯泡发光，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检测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检测头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检验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端，观察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复检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并将检测时小灯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记录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647080" y="5493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电路检测器”检测橡皮是导体还是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87160" y="56300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橡皮是绝缘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11960" y="4039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421000"/>
          <a:ext cx="9109080" cy="386244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82800"/>
                <a:gridCol w="755640"/>
                <a:gridCol w="982800"/>
                <a:gridCol w="757080"/>
                <a:gridCol w="1057320"/>
                <a:gridCol w="9810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绝缘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纸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73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0Z1R%G@N~[IYKSR([8S8M8B"/>
          <p:cNvPicPr/>
          <p:nvPr/>
        </p:nvPicPr>
        <p:blipFill>
          <a:blip r:embed="rId1"/>
          <a:stretch/>
        </p:blipFill>
        <p:spPr>
          <a:xfrm>
            <a:off x="1835280" y="2637000"/>
            <a:ext cx="547668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~RS0I9PO61I9J[ESW]@$UQ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未命名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38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140328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电器设备哪些使用了绝缘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@4%~QTXTM$$POQQGKC}~KV2"/>
          <p:cNvPicPr/>
          <p:nvPr/>
        </p:nvPicPr>
        <p:blipFill>
          <a:blip r:embed="rId1"/>
          <a:stretch/>
        </p:blipFill>
        <p:spPr>
          <a:xfrm>
            <a:off x="1187280" y="1844640"/>
            <a:ext cx="682488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5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该怎样正确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346280" y="479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好保护电器设备上的绝缘体部分，注意安全用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2:34Z</dcterms:modified>
  <cp:revision>9</cp:revision>
  <dc:subject/>
  <dc:title>幻灯片 1</dc:title>
</cp:coreProperties>
</file>