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6.wmf" ContentType="image/x-wmf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A662-D001-47CB-8FD2-84390E3E0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442A-646F-4607-BC78-7E68E9A7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5442-77B2-4EC3-845A-490EF95AC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04E0-712B-4557-BF0A-C92E8E8EF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FFBE-FB80-4113-A57B-C9D63A1BC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7DBB-F2F0-46A4-8B5E-8C6320CA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A881-EFF9-479D-821C-B3B708C1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9A40-C40B-4D87-B0F1-3CA18E17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35E9-1671-4E67-A8F6-F02845CD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DEB9-11D5-49B1-923A-ED8E5B03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16CA-BDAB-40CF-9B18-09F1D2EB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66CE-F318-41C1-8192-D53B36F0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AEA2-049B-49AA-9CB4-4328D722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5E04F-F688-4009-97C6-EEAEF739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D2BF-ECBD-48FD-A693-6A2EAE56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9CA3-F5A4-4070-A8F1-C5E90AD13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82F8-C8E3-4598-8279-6C11979CE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B0EFB-6540-4FB5-8EF6-B3AB249AC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3EA94-642C-4C99-A828-6EA85616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3BF63-21B4-407A-8B9E-C7F75523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F0759-B092-4827-B7BF-348298B9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19F2B-C396-459F-A00A-BFF5DAB3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539F-92B2-4677-93EE-920ECD93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C2416-8516-4025-9DD5-89BA635D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BF0D7-A808-4B1E-8CCB-5F43D8C8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23989-58BC-49F3-B84D-DD12AED1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A4476-5404-453E-B85A-316D8959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45826-772F-4F86-A47D-B762E953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7796A-3CE1-488C-ACEA-76D6A59B2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BB58F-2E0D-46E7-AAFB-A77687072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7C18-DF61-4A1A-B246-D9F08B42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9D05-C066-4060-9C06-4E7E97DF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7E0D-FCB5-499A-A778-41F3EDED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DD18-B78E-4F7D-9B54-A7D2756E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0CFD-B1A3-4C90-9029-A494D879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0F1C-93A2-4D88-8D9E-59321617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3F7A-5C79-40BA-A119-CD6C7404BD6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80BE-1540-4C4B-8708-547FBD750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B749-BD59-408E-87E4-3023EE8F3A4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9" descr="无标题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332000" y="2276640"/>
            <a:ext cx="66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生活中的静电现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10"/>
          <p:cNvSpPr txBox="1"/>
          <p:nvPr/>
        </p:nvSpPr>
        <p:spPr>
          <a:xfrm>
            <a:off x="468360" y="549360"/>
            <a:ext cx="46670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教科版四年级科学下册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29" name="Picture 11" descr="官方logo"/>
          <p:cNvPicPr/>
          <p:nvPr/>
        </p:nvPicPr>
        <p:blipFill>
          <a:blip r:embed="rId2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ShockwaveFlash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4"/>
          <p:cNvSpPr txBox="1"/>
          <p:nvPr/>
        </p:nvSpPr>
        <p:spPr>
          <a:xfrm>
            <a:off x="1042920" y="2133720"/>
            <a:ext cx="59770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谢谢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47" name="Picture 5" descr="官方logo"/>
          <p:cNvPicPr/>
          <p:nvPr/>
        </p:nvPicPr>
        <p:blipFill>
          <a:blip r:embed="rId1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2" descr="IMG_46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6691320" y="2205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7656480" y="765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梳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1392120" y="5373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气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7008840" y="59500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毛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4848120" y="59500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丝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1422360" y="9079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玻璃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294000" y="2511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橡胶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5" descr="官方logo"/>
          <p:cNvPicPr/>
          <p:nvPr/>
        </p:nvPicPr>
        <p:blipFill>
          <a:blip r:embed="rId2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0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04_1"/>
          <p:cNvPicPr/>
          <p:nvPr/>
        </p:nvPicPr>
        <p:blipFill>
          <a:blip r:embed="rId2"/>
          <a:stretch/>
        </p:blipFill>
        <p:spPr>
          <a:xfrm>
            <a:off x="0" y="1197000"/>
            <a:ext cx="2843280" cy="39607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3567960" y="260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生活中的静电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250920" y="5445000"/>
            <a:ext cx="92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静电存在于一切物质中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2" descr="IMG_4605"/>
          <p:cNvPicPr/>
          <p:nvPr/>
        </p:nvPicPr>
        <p:blipFill>
          <a:blip r:embed="rId3"/>
          <a:stretch/>
        </p:blipFill>
        <p:spPr>
          <a:xfrm>
            <a:off x="2916360" y="1197000"/>
            <a:ext cx="3095640" cy="3960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IMG_4607"/>
          <p:cNvPicPr/>
          <p:nvPr/>
        </p:nvPicPr>
        <p:blipFill>
          <a:blip r:embed="rId4"/>
          <a:srcRect l="4992" t="0" r="11236" b="0"/>
          <a:stretch/>
        </p:blipFill>
        <p:spPr>
          <a:xfrm>
            <a:off x="6084720" y="1197000"/>
            <a:ext cx="3059280" cy="3960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官方logo"/>
          <p:cNvPicPr/>
          <p:nvPr/>
        </p:nvPicPr>
        <p:blipFill>
          <a:blip r:embed="rId5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040480" y="2819520"/>
            <a:ext cx="530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为什么通常物体不显示带点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官方logo"/>
          <p:cNvPicPr/>
          <p:nvPr/>
        </p:nvPicPr>
        <p:blipFill>
          <a:blip r:embed="rId2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02.mpg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5743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官方logo"/>
          <p:cNvPicPr/>
          <p:nvPr/>
        </p:nvPicPr>
        <p:blipFill>
          <a:blip r:embed="rId2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38845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2" descr="opposites_attract_t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52" name="Group 27"/>
          <p:cNvGrpSpPr/>
          <p:nvPr/>
        </p:nvGrpSpPr>
        <p:grpSpPr>
          <a:xfrm>
            <a:off x="5148360" y="765000"/>
            <a:ext cx="2952360" cy="4895280"/>
            <a:chOff x="5148360" y="765000"/>
            <a:chExt cx="2952360" cy="4895280"/>
          </a:xfrm>
        </p:grpSpPr>
        <p:grpSp>
          <p:nvGrpSpPr>
            <p:cNvPr id="153" name="Group 20"/>
            <p:cNvGrpSpPr/>
            <p:nvPr/>
          </p:nvGrpSpPr>
          <p:grpSpPr>
            <a:xfrm>
              <a:off x="5148360" y="765000"/>
              <a:ext cx="2952360" cy="4895280"/>
              <a:chOff x="5148360" y="765000"/>
              <a:chExt cx="2952360" cy="4895280"/>
            </a:xfrm>
          </p:grpSpPr>
          <p:sp>
            <p:nvSpPr>
              <p:cNvPr id="154" name="Rectangle 14"/>
              <p:cNvSpPr/>
              <p:nvPr/>
            </p:nvSpPr>
            <p:spPr>
              <a:xfrm>
                <a:off x="5148360" y="765000"/>
                <a:ext cx="2952360" cy="18828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15"/>
              <p:cNvSpPr/>
              <p:nvPr/>
            </p:nvSpPr>
            <p:spPr>
              <a:xfrm>
                <a:off x="7389000" y="953280"/>
                <a:ext cx="0" cy="1693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17"/>
              <p:cNvSpPr/>
              <p:nvPr/>
            </p:nvSpPr>
            <p:spPr>
              <a:xfrm>
                <a:off x="7185600" y="2646720"/>
                <a:ext cx="407160" cy="30135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玻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18"/>
              <p:cNvSpPr/>
              <p:nvPr/>
            </p:nvSpPr>
            <p:spPr>
              <a:xfrm>
                <a:off x="5759640" y="953280"/>
                <a:ext cx="0" cy="1693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19"/>
              <p:cNvSpPr/>
              <p:nvPr/>
            </p:nvSpPr>
            <p:spPr>
              <a:xfrm>
                <a:off x="5622840" y="2644920"/>
                <a:ext cx="407160" cy="30135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玻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Oval 25"/>
            <p:cNvSpPr/>
            <p:nvPr/>
          </p:nvSpPr>
          <p:spPr>
            <a:xfrm>
              <a:off x="5651640" y="5229360"/>
              <a:ext cx="36036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66cc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26"/>
            <p:cNvSpPr/>
            <p:nvPr/>
          </p:nvSpPr>
          <p:spPr>
            <a:xfrm>
              <a:off x="7221600" y="5272200"/>
              <a:ext cx="36036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66cc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31"/>
          <p:cNvGrpSpPr/>
          <p:nvPr/>
        </p:nvGrpSpPr>
        <p:grpSpPr>
          <a:xfrm>
            <a:off x="1042920" y="765000"/>
            <a:ext cx="2879280" cy="4897080"/>
            <a:chOff x="1042920" y="765000"/>
            <a:chExt cx="2879280" cy="4897080"/>
          </a:xfrm>
        </p:grpSpPr>
        <p:grpSp>
          <p:nvGrpSpPr>
            <p:cNvPr id="162" name="Group 12"/>
            <p:cNvGrpSpPr/>
            <p:nvPr/>
          </p:nvGrpSpPr>
          <p:grpSpPr>
            <a:xfrm>
              <a:off x="1042920" y="765000"/>
              <a:ext cx="2879280" cy="4897080"/>
              <a:chOff x="1042920" y="765000"/>
              <a:chExt cx="2879280" cy="4897080"/>
            </a:xfrm>
          </p:grpSpPr>
          <p:sp>
            <p:nvSpPr>
              <p:cNvPr id="163" name="Rectangle 4"/>
              <p:cNvSpPr/>
              <p:nvPr/>
            </p:nvSpPr>
            <p:spPr>
              <a:xfrm>
                <a:off x="1042920" y="765000"/>
                <a:ext cx="2879280" cy="18900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6"/>
              <p:cNvSpPr/>
              <p:nvPr/>
            </p:nvSpPr>
            <p:spPr>
              <a:xfrm>
                <a:off x="3228120" y="954000"/>
                <a:ext cx="0" cy="1693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7"/>
              <p:cNvSpPr/>
              <p:nvPr/>
            </p:nvSpPr>
            <p:spPr>
              <a:xfrm>
                <a:off x="1438920" y="2647800"/>
                <a:ext cx="398520" cy="3014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管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0"/>
              <p:cNvSpPr/>
              <p:nvPr/>
            </p:nvSpPr>
            <p:spPr>
              <a:xfrm>
                <a:off x="3029040" y="2647800"/>
                <a:ext cx="398520" cy="3014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管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11"/>
              <p:cNvSpPr/>
              <p:nvPr/>
            </p:nvSpPr>
            <p:spPr>
              <a:xfrm>
                <a:off x="1638720" y="954000"/>
                <a:ext cx="0" cy="1693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Oval 29"/>
            <p:cNvSpPr/>
            <p:nvPr/>
          </p:nvSpPr>
          <p:spPr>
            <a:xfrm>
              <a:off x="1461960" y="5243400"/>
              <a:ext cx="36036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cc"/>
                  </a:solidFill>
                  <a:latin typeface="Arial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30"/>
            <p:cNvSpPr/>
            <p:nvPr/>
          </p:nvSpPr>
          <p:spPr>
            <a:xfrm>
              <a:off x="3044880" y="5229360"/>
              <a:ext cx="36036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cc"/>
                  </a:solidFill>
                  <a:latin typeface="Arial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Picture 34" descr="官方logo"/>
          <p:cNvPicPr/>
          <p:nvPr/>
        </p:nvPicPr>
        <p:blipFill>
          <a:blip r:embed="rId2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8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250920" y="2205000"/>
            <a:ext cx="1090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手拿住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红色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的部位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快速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摩擦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不要再接触摩擦过的部位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物体挂在黑色部位，一个一个完成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先预测，后实验 ，及时记录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964080" y="9493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温馨提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9" descr="官方logo"/>
          <p:cNvPicPr/>
          <p:nvPr/>
        </p:nvPicPr>
        <p:blipFill>
          <a:blip r:embed="rId2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89"/>
          <p:cNvGrpSpPr/>
          <p:nvPr/>
        </p:nvGrpSpPr>
        <p:grpSpPr>
          <a:xfrm>
            <a:off x="1201320" y="3860640"/>
            <a:ext cx="2147760" cy="2742120"/>
            <a:chOff x="1201320" y="3860640"/>
            <a:chExt cx="2147760" cy="2742120"/>
          </a:xfrm>
        </p:grpSpPr>
        <p:grpSp>
          <p:nvGrpSpPr>
            <p:cNvPr id="177" name="Group 88"/>
            <p:cNvGrpSpPr/>
            <p:nvPr/>
          </p:nvGrpSpPr>
          <p:grpSpPr>
            <a:xfrm>
              <a:off x="1201320" y="3860640"/>
              <a:ext cx="2147760" cy="2742120"/>
              <a:chOff x="1201320" y="3860640"/>
              <a:chExt cx="2147760" cy="2742120"/>
            </a:xfrm>
          </p:grpSpPr>
          <p:grpSp>
            <p:nvGrpSpPr>
              <p:cNvPr id="178" name="Group 82"/>
              <p:cNvGrpSpPr/>
              <p:nvPr/>
            </p:nvGrpSpPr>
            <p:grpSpPr>
              <a:xfrm>
                <a:off x="1201320" y="3860640"/>
                <a:ext cx="2147760" cy="2313720"/>
                <a:chOff x="1201320" y="3860640"/>
                <a:chExt cx="2147760" cy="2313720"/>
              </a:xfrm>
            </p:grpSpPr>
            <p:sp>
              <p:nvSpPr>
                <p:cNvPr id="179" name="Rectangle 20"/>
                <p:cNvSpPr/>
                <p:nvPr/>
              </p:nvSpPr>
              <p:spPr>
                <a:xfrm>
                  <a:off x="1477800" y="3860640"/>
                  <a:ext cx="1871280" cy="12204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Line 21"/>
                <p:cNvSpPr/>
                <p:nvPr/>
              </p:nvSpPr>
              <p:spPr>
                <a:xfrm>
                  <a:off x="2485800" y="4005000"/>
                  <a:ext cx="205920" cy="647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Line 22"/>
                <p:cNvSpPr/>
                <p:nvPr/>
              </p:nvSpPr>
              <p:spPr>
                <a:xfrm flipH="1">
                  <a:off x="1900080" y="4005000"/>
                  <a:ext cx="298080" cy="647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AutoShape 23"/>
                <p:cNvSpPr/>
                <p:nvPr/>
              </p:nvSpPr>
              <p:spPr>
                <a:xfrm rot="1267800">
                  <a:off x="1474560" y="4597200"/>
                  <a:ext cx="307800" cy="1574640"/>
                </a:xfrm>
                <a:prstGeom prst="flowChartProcess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玻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AutoShape 24"/>
                <p:cNvSpPr/>
                <p:nvPr/>
              </p:nvSpPr>
              <p:spPr>
                <a:xfrm rot="20477400">
                  <a:off x="2814480" y="4593960"/>
                  <a:ext cx="286920" cy="1513080"/>
                </a:xfrm>
                <a:prstGeom prst="flowChartProcess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玻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Text Box 38"/>
              <p:cNvSpPr/>
              <p:nvPr/>
            </p:nvSpPr>
            <p:spPr>
              <a:xfrm>
                <a:off x="1997640" y="6021360"/>
                <a:ext cx="668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0000"/>
                    </a:solidFill>
                    <a:latin typeface="Arial"/>
                  </a:rPr>
                  <a:t>排斥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Oval 52"/>
              <p:cNvSpPr/>
              <p:nvPr/>
            </p:nvSpPr>
            <p:spPr>
              <a:xfrm rot="1556400">
                <a:off x="1258920" y="5805000"/>
                <a:ext cx="288720" cy="29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99"/>
                    </a:solidFill>
                    <a:latin typeface="Arial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Oval 63"/>
            <p:cNvSpPr/>
            <p:nvPr/>
          </p:nvSpPr>
          <p:spPr>
            <a:xfrm rot="20637000">
              <a:off x="2988720" y="5760720"/>
              <a:ext cx="289080" cy="30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67"/>
          <p:cNvSpPr/>
          <p:nvPr/>
        </p:nvSpPr>
        <p:spPr>
          <a:xfrm>
            <a:off x="1600200" y="5522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87"/>
          <p:cNvGrpSpPr/>
          <p:nvPr/>
        </p:nvGrpSpPr>
        <p:grpSpPr>
          <a:xfrm>
            <a:off x="1140480" y="836640"/>
            <a:ext cx="2185560" cy="2740320"/>
            <a:chOff x="1140480" y="836640"/>
            <a:chExt cx="2185560" cy="2740320"/>
          </a:xfrm>
        </p:grpSpPr>
        <p:grpSp>
          <p:nvGrpSpPr>
            <p:cNvPr id="189" name="Group 81"/>
            <p:cNvGrpSpPr/>
            <p:nvPr/>
          </p:nvGrpSpPr>
          <p:grpSpPr>
            <a:xfrm>
              <a:off x="1145160" y="836640"/>
              <a:ext cx="2180880" cy="2388600"/>
              <a:chOff x="1145160" y="836640"/>
              <a:chExt cx="2180880" cy="2388600"/>
            </a:xfrm>
          </p:grpSpPr>
          <p:sp>
            <p:nvSpPr>
              <p:cNvPr id="190" name="Rectangle 6"/>
              <p:cNvSpPr/>
              <p:nvPr/>
            </p:nvSpPr>
            <p:spPr>
              <a:xfrm>
                <a:off x="1409400" y="836640"/>
                <a:ext cx="1871640" cy="12204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7"/>
              <p:cNvSpPr/>
              <p:nvPr/>
            </p:nvSpPr>
            <p:spPr>
              <a:xfrm>
                <a:off x="2428560" y="981000"/>
                <a:ext cx="204840" cy="647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10"/>
              <p:cNvSpPr/>
              <p:nvPr/>
            </p:nvSpPr>
            <p:spPr>
              <a:xfrm flipH="1">
                <a:off x="1841040" y="981000"/>
                <a:ext cx="300240" cy="647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AutoShape 17"/>
              <p:cNvSpPr/>
              <p:nvPr/>
            </p:nvSpPr>
            <p:spPr>
              <a:xfrm rot="1267800">
                <a:off x="1418760" y="1569960"/>
                <a:ext cx="292320" cy="15732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管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AutoShape 18"/>
              <p:cNvSpPr/>
              <p:nvPr/>
            </p:nvSpPr>
            <p:spPr>
              <a:xfrm rot="20477400">
                <a:off x="2779200" y="1566360"/>
                <a:ext cx="288720" cy="16560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管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Text Box 37"/>
            <p:cNvSpPr/>
            <p:nvPr/>
          </p:nvSpPr>
          <p:spPr>
            <a:xfrm>
              <a:off x="1696680" y="299556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排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83"/>
            <p:cNvGrpSpPr/>
            <p:nvPr/>
          </p:nvGrpSpPr>
          <p:grpSpPr>
            <a:xfrm>
              <a:off x="1140480" y="2745360"/>
              <a:ext cx="381240" cy="378000"/>
              <a:chOff x="1140480" y="2745360"/>
              <a:chExt cx="381240" cy="378000"/>
            </a:xfrm>
          </p:grpSpPr>
          <p:sp>
            <p:nvSpPr>
              <p:cNvPr id="197" name="Oval 51"/>
              <p:cNvSpPr/>
              <p:nvPr/>
            </p:nvSpPr>
            <p:spPr>
              <a:xfrm rot="1556400">
                <a:off x="1187280" y="2793960"/>
                <a:ext cx="287280" cy="280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54"/>
              <p:cNvSpPr/>
              <p:nvPr/>
            </p:nvSpPr>
            <p:spPr>
              <a:xfrm>
                <a:off x="1265040" y="2925720"/>
                <a:ext cx="144360" cy="6984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84"/>
            <p:cNvGrpSpPr/>
            <p:nvPr/>
          </p:nvGrpSpPr>
          <p:grpSpPr>
            <a:xfrm>
              <a:off x="2933280" y="2822760"/>
              <a:ext cx="389880" cy="398160"/>
              <a:chOff x="2933280" y="2822760"/>
              <a:chExt cx="389880" cy="398160"/>
            </a:xfrm>
          </p:grpSpPr>
          <p:sp>
            <p:nvSpPr>
              <p:cNvPr id="200" name="Oval 85"/>
              <p:cNvSpPr/>
              <p:nvPr/>
            </p:nvSpPr>
            <p:spPr>
              <a:xfrm rot="20081400">
                <a:off x="2984400" y="2869200"/>
                <a:ext cx="287280" cy="304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86"/>
              <p:cNvSpPr/>
              <p:nvPr/>
            </p:nvSpPr>
            <p:spPr>
              <a:xfrm flipV="1">
                <a:off x="3079800" y="3002040"/>
                <a:ext cx="149400" cy="6516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2" name="Group 111"/>
          <p:cNvGrpSpPr/>
          <p:nvPr/>
        </p:nvGrpSpPr>
        <p:grpSpPr>
          <a:xfrm>
            <a:off x="6156360" y="1700280"/>
            <a:ext cx="2484000" cy="4322880"/>
            <a:chOff x="6156360" y="1700280"/>
            <a:chExt cx="2484000" cy="4322880"/>
          </a:xfrm>
        </p:grpSpPr>
        <p:grpSp>
          <p:nvGrpSpPr>
            <p:cNvPr id="203" name="Group 42"/>
            <p:cNvGrpSpPr/>
            <p:nvPr/>
          </p:nvGrpSpPr>
          <p:grpSpPr>
            <a:xfrm>
              <a:off x="6156360" y="1700280"/>
              <a:ext cx="2484000" cy="4322880"/>
              <a:chOff x="6156360" y="1700280"/>
              <a:chExt cx="2484000" cy="4322880"/>
            </a:xfrm>
          </p:grpSpPr>
          <p:grpSp>
            <p:nvGrpSpPr>
              <p:cNvPr id="204" name="Group 34"/>
              <p:cNvGrpSpPr/>
              <p:nvPr/>
            </p:nvGrpSpPr>
            <p:grpSpPr>
              <a:xfrm>
                <a:off x="6156360" y="1700280"/>
                <a:ext cx="2484000" cy="3313080"/>
                <a:chOff x="6156360" y="1700280"/>
                <a:chExt cx="2484000" cy="3313080"/>
              </a:xfrm>
            </p:grpSpPr>
            <p:sp>
              <p:nvSpPr>
                <p:cNvPr id="205" name="Rectangle 27"/>
                <p:cNvSpPr/>
                <p:nvPr/>
              </p:nvSpPr>
              <p:spPr>
                <a:xfrm>
                  <a:off x="6156360" y="1700280"/>
                  <a:ext cx="2484000" cy="12852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Line 28"/>
                <p:cNvSpPr/>
                <p:nvPr/>
              </p:nvSpPr>
              <p:spPr>
                <a:xfrm>
                  <a:off x="8042040" y="1828800"/>
                  <a:ext cx="0" cy="114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Rectangle 29"/>
                <p:cNvSpPr/>
                <p:nvPr/>
              </p:nvSpPr>
              <p:spPr>
                <a:xfrm>
                  <a:off x="6497280" y="2973240"/>
                  <a:ext cx="345240" cy="20401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管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31"/>
                <p:cNvSpPr/>
                <p:nvPr/>
              </p:nvSpPr>
              <p:spPr>
                <a:xfrm>
                  <a:off x="6670800" y="1828800"/>
                  <a:ext cx="0" cy="114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AutoShape 32"/>
                <p:cNvSpPr/>
                <p:nvPr/>
              </p:nvSpPr>
              <p:spPr>
                <a:xfrm>
                  <a:off x="7895880" y="2997000"/>
                  <a:ext cx="330120" cy="2016360"/>
                </a:xfrm>
                <a:prstGeom prst="flowChartProcess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玻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0" name="Text Box 39"/>
              <p:cNvSpPr/>
              <p:nvPr/>
            </p:nvSpPr>
            <p:spPr>
              <a:xfrm>
                <a:off x="7139160" y="5014800"/>
                <a:ext cx="6379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000" spc="-1" strike="noStrike">
                    <a:solidFill>
                      <a:srgbClr val="ff0000"/>
                    </a:solidFill>
                    <a:latin typeface="Arial"/>
                  </a:rPr>
                  <a:t>？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90"/>
            <p:cNvGrpSpPr/>
            <p:nvPr/>
          </p:nvGrpSpPr>
          <p:grpSpPr>
            <a:xfrm>
              <a:off x="6512040" y="4577760"/>
              <a:ext cx="313560" cy="387720"/>
              <a:chOff x="6512040" y="4577760"/>
              <a:chExt cx="313560" cy="387720"/>
            </a:xfrm>
          </p:grpSpPr>
          <p:sp>
            <p:nvSpPr>
              <p:cNvPr id="212" name="Oval 91"/>
              <p:cNvSpPr/>
              <p:nvPr/>
            </p:nvSpPr>
            <p:spPr>
              <a:xfrm rot="79800">
                <a:off x="6516360" y="4581000"/>
                <a:ext cx="304560" cy="380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92"/>
              <p:cNvSpPr/>
              <p:nvPr/>
            </p:nvSpPr>
            <p:spPr>
              <a:xfrm>
                <a:off x="6589080" y="4786560"/>
                <a:ext cx="169920" cy="54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Oval 93"/>
            <p:cNvSpPr/>
            <p:nvPr/>
          </p:nvSpPr>
          <p:spPr>
            <a:xfrm>
              <a:off x="7885080" y="4594320"/>
              <a:ext cx="330120" cy="401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12"/>
          <p:cNvGrpSpPr/>
          <p:nvPr/>
        </p:nvGrpSpPr>
        <p:grpSpPr>
          <a:xfrm>
            <a:off x="6156360" y="1700280"/>
            <a:ext cx="2484360" cy="3962520"/>
            <a:chOff x="6156360" y="1700280"/>
            <a:chExt cx="2484360" cy="3962520"/>
          </a:xfrm>
        </p:grpSpPr>
        <p:grpSp>
          <p:nvGrpSpPr>
            <p:cNvPr id="216" name="Group 95"/>
            <p:cNvGrpSpPr/>
            <p:nvPr/>
          </p:nvGrpSpPr>
          <p:grpSpPr>
            <a:xfrm>
              <a:off x="6156360" y="1700280"/>
              <a:ext cx="2484360" cy="3962520"/>
              <a:chOff x="6156360" y="1700280"/>
              <a:chExt cx="2484360" cy="3962520"/>
            </a:xfrm>
          </p:grpSpPr>
          <p:grpSp>
            <p:nvGrpSpPr>
              <p:cNvPr id="217" name="Group 79"/>
              <p:cNvGrpSpPr/>
              <p:nvPr/>
            </p:nvGrpSpPr>
            <p:grpSpPr>
              <a:xfrm>
                <a:off x="6156360" y="1700280"/>
                <a:ext cx="2484360" cy="3962520"/>
                <a:chOff x="6156360" y="1700280"/>
                <a:chExt cx="2484360" cy="3962520"/>
              </a:xfrm>
            </p:grpSpPr>
            <p:grpSp>
              <p:nvGrpSpPr>
                <p:cNvPr id="218" name="Group 43"/>
                <p:cNvGrpSpPr/>
                <p:nvPr/>
              </p:nvGrpSpPr>
              <p:grpSpPr>
                <a:xfrm>
                  <a:off x="6156360" y="1700280"/>
                  <a:ext cx="2484360" cy="3277440"/>
                  <a:chOff x="6156360" y="1700280"/>
                  <a:chExt cx="2484360" cy="3277440"/>
                </a:xfrm>
              </p:grpSpPr>
              <p:sp>
                <p:nvSpPr>
                  <p:cNvPr id="219" name="Rectangle 44"/>
                  <p:cNvSpPr/>
                  <p:nvPr/>
                </p:nvSpPr>
                <p:spPr>
                  <a:xfrm>
                    <a:off x="6156360" y="1700280"/>
                    <a:ext cx="2484360" cy="128520"/>
                  </a:xfrm>
                  <a:prstGeom prst="rect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45"/>
                  <p:cNvSpPr/>
                  <p:nvPr/>
                </p:nvSpPr>
                <p:spPr>
                  <a:xfrm flipH="1">
                    <a:off x="7954920" y="1842840"/>
                    <a:ext cx="360000" cy="11523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Rectangle 46"/>
                  <p:cNvSpPr/>
                  <p:nvPr/>
                </p:nvSpPr>
                <p:spPr>
                  <a:xfrm rot="20920800">
                    <a:off x="6803640" y="2923920"/>
                    <a:ext cx="344160" cy="203976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吸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管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47"/>
                  <p:cNvSpPr/>
                  <p:nvPr/>
                </p:nvSpPr>
                <p:spPr>
                  <a:xfrm>
                    <a:off x="6441840" y="1841400"/>
                    <a:ext cx="361800" cy="10821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AutoShape 48"/>
                  <p:cNvSpPr/>
                  <p:nvPr/>
                </p:nvSpPr>
                <p:spPr>
                  <a:xfrm rot="658800">
                    <a:off x="7596000" y="2923560"/>
                    <a:ext cx="329760" cy="2016000"/>
                  </a:xfrm>
                  <a:prstGeom prst="flowChartProcess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玻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璃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丝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Text Box 49"/>
                <p:cNvSpPr/>
                <p:nvPr/>
              </p:nvSpPr>
              <p:spPr>
                <a:xfrm>
                  <a:off x="7010640" y="4959360"/>
                  <a:ext cx="7902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000" spc="-1" strike="noStrike">
                      <a:solidFill>
                        <a:srgbClr val="ff0000"/>
                      </a:solidFill>
                      <a:latin typeface="Arial"/>
                    </a:rPr>
                    <a:t>吸引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Group 59"/>
              <p:cNvGrpSpPr/>
              <p:nvPr/>
            </p:nvGrpSpPr>
            <p:grpSpPr>
              <a:xfrm>
                <a:off x="6938280" y="4491720"/>
                <a:ext cx="397440" cy="450000"/>
                <a:chOff x="6938280" y="4491720"/>
                <a:chExt cx="397440" cy="450000"/>
              </a:xfrm>
            </p:grpSpPr>
            <p:sp>
              <p:nvSpPr>
                <p:cNvPr id="226" name="Oval 60"/>
                <p:cNvSpPr/>
                <p:nvPr/>
              </p:nvSpPr>
              <p:spPr>
                <a:xfrm rot="20637000">
                  <a:off x="6984720" y="4526280"/>
                  <a:ext cx="304200" cy="380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61"/>
                <p:cNvSpPr/>
                <p:nvPr/>
              </p:nvSpPr>
              <p:spPr>
                <a:xfrm flipV="1">
                  <a:off x="7065360" y="4708800"/>
                  <a:ext cx="163800" cy="457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8" name="Oval 110"/>
            <p:cNvSpPr/>
            <p:nvPr/>
          </p:nvSpPr>
          <p:spPr>
            <a:xfrm rot="960000">
              <a:off x="7451280" y="4508280"/>
              <a:ext cx="330120" cy="401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 Box 113"/>
          <p:cNvSpPr/>
          <p:nvPr/>
        </p:nvSpPr>
        <p:spPr>
          <a:xfrm>
            <a:off x="3440520" y="981000"/>
            <a:ext cx="115524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发现：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同种电荷相互排斥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14"/>
          <p:cNvSpPr/>
          <p:nvPr/>
        </p:nvSpPr>
        <p:spPr>
          <a:xfrm>
            <a:off x="4720320" y="1716840"/>
            <a:ext cx="667800" cy="50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不同种电荷相互吸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15" descr="官方logo"/>
          <p:cNvPicPr/>
          <p:nvPr/>
        </p:nvPicPr>
        <p:blipFill>
          <a:blip r:embed="rId2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11" descr="555"/>
          <p:cNvPicPr/>
          <p:nvPr/>
        </p:nvPicPr>
        <p:blipFill>
          <a:blip r:embed="rId1"/>
          <a:stretch/>
        </p:blipFill>
        <p:spPr>
          <a:xfrm>
            <a:off x="2771640" y="171360"/>
            <a:ext cx="5472360" cy="410544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18"/>
          <p:cNvSpPr/>
          <p:nvPr/>
        </p:nvSpPr>
        <p:spPr>
          <a:xfrm>
            <a:off x="5618160" y="1197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用电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23"/>
          <p:cNvGrpSpPr/>
          <p:nvPr/>
        </p:nvGrpSpPr>
        <p:grpSpPr>
          <a:xfrm>
            <a:off x="613440" y="2349360"/>
            <a:ext cx="9359280" cy="4432320"/>
            <a:chOff x="613440" y="2349360"/>
            <a:chExt cx="9359280" cy="4432320"/>
          </a:xfrm>
        </p:grpSpPr>
        <p:grpSp>
          <p:nvGrpSpPr>
            <p:cNvPr id="235" name="Group 13"/>
            <p:cNvGrpSpPr/>
            <p:nvPr/>
          </p:nvGrpSpPr>
          <p:grpSpPr>
            <a:xfrm>
              <a:off x="957240" y="2349360"/>
              <a:ext cx="9015480" cy="4432320"/>
              <a:chOff x="957240" y="2349360"/>
              <a:chExt cx="9015480" cy="4432320"/>
            </a:xfrm>
          </p:grpSpPr>
          <p:pic>
            <p:nvPicPr>
              <p:cNvPr id="236" name="Picture 10" descr="444"/>
              <p:cNvPicPr/>
              <p:nvPr/>
            </p:nvPicPr>
            <p:blipFill>
              <a:blip r:embed="rId2"/>
              <a:stretch/>
            </p:blipFill>
            <p:spPr>
              <a:xfrm>
                <a:off x="4270320" y="2504880"/>
                <a:ext cx="5702400" cy="427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Picture 12" descr="333"/>
              <p:cNvPicPr/>
              <p:nvPr/>
            </p:nvPicPr>
            <p:blipFill>
              <a:blip r:embed="rId3"/>
              <a:stretch/>
            </p:blipFill>
            <p:spPr>
              <a:xfrm>
                <a:off x="957240" y="2349360"/>
                <a:ext cx="5775480" cy="4332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8" name="Text Box 19"/>
            <p:cNvSpPr/>
            <p:nvPr/>
          </p:nvSpPr>
          <p:spPr>
            <a:xfrm>
              <a:off x="613440" y="2947320"/>
              <a:ext cx="78984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导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20"/>
            <p:cNvSpPr/>
            <p:nvPr/>
          </p:nvSpPr>
          <p:spPr>
            <a:xfrm>
              <a:off x="7239600" y="3009240"/>
              <a:ext cx="78984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导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22"/>
          <p:cNvGrpSpPr/>
          <p:nvPr/>
        </p:nvGrpSpPr>
        <p:grpSpPr>
          <a:xfrm>
            <a:off x="3265560" y="5013360"/>
            <a:ext cx="5410080" cy="4057560"/>
            <a:chOff x="3265560" y="5013360"/>
            <a:chExt cx="5410080" cy="4057560"/>
          </a:xfrm>
        </p:grpSpPr>
        <p:pic>
          <p:nvPicPr>
            <p:cNvPr id="241" name="Picture 7" descr="22"/>
            <p:cNvPicPr/>
            <p:nvPr/>
          </p:nvPicPr>
          <p:blipFill>
            <a:blip r:embed="rId4"/>
            <a:stretch/>
          </p:blipFill>
          <p:spPr>
            <a:xfrm>
              <a:off x="3265560" y="5013360"/>
              <a:ext cx="5410080" cy="40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21"/>
            <p:cNvSpPr/>
            <p:nvPr/>
          </p:nvSpPr>
          <p:spPr>
            <a:xfrm>
              <a:off x="4029480" y="6040440"/>
              <a:ext cx="118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电   源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3" name="Picture 25" descr="官方logo"/>
          <p:cNvPicPr/>
          <p:nvPr/>
        </p:nvPicPr>
        <p:blipFill>
          <a:blip r:embed="rId5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22:21Z</dcterms:created>
  <dc:creator/>
  <dc:description/>
  <dc:language>en-US</dc:language>
  <cp:lastModifiedBy>Administrator</cp:lastModifiedBy>
  <dcterms:modified xsi:type="dcterms:W3CDTF">2016-02-24T04:55:43Z</dcterms:modified>
  <cp:revision>27</cp:revision>
  <dc:subject/>
  <dc:title>PowerPoint 演示文稿</dc:title>
</cp:coreProperties>
</file>