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210B-3859-4562-8693-EAD57A990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4168-A3D0-452F-AD53-1DE7C0949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496-CE0E-4D15-A5D0-6EE025DF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A9A-945A-4872-BD8E-352CC5FC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519-8AB9-49F1-AF03-9D7C01B3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7CF-39B1-4A55-9BB7-6348285D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0EC-CFC1-4BAA-8F9F-77ED80F1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002-1E35-4192-AEC9-A8418273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6DD-8EE2-4A09-8F3C-FDA5A89E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C32-EBF1-4C1D-8DB1-80079614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A9F-2D17-4891-AA3D-6BA4D514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E99-D195-499D-AD27-F474647D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24A-AD32-4D3A-A88A-6A0FDB1F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037-69AB-4609-A778-51BE5449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A018-1809-4746-A1AC-A5D6E81FF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一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电路出故障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95280" y="76500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检测之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排除故障，让电路中的小灯泡亮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严重警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能用电路检测器检测家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20V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电器电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404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图中，用电路检测器检测小灯泡的连接方式，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85S1KM953_EJ2IA`G5G{Y@A"/>
          <p:cNvPicPr/>
          <p:nvPr/>
        </p:nvPicPr>
        <p:blipFill>
          <a:blip r:embed="rId1"/>
          <a:stretch/>
        </p:blipFill>
        <p:spPr>
          <a:xfrm>
            <a:off x="250920" y="1628640"/>
            <a:ext cx="8208720" cy="2270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79280" y="4365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两种说法，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制作的电路检测器，可以检测任何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制作的电路检测器，不能检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0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家用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204720" y="83592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508000" y="429984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9280" y="430200"/>
            <a:ext cx="86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用电路检测器检测故障电路时，下列做法不妥当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检查电池、导线、灯座、灯泡等元件是否连接上，再使用电路检测器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前，先把故障电路中的干电池从电池盒中取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电路中的灯泡、干电池、导线等元件逐个拆除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700000" y="91548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流从电池的一端经导线流出，通过小灯泡，回到电池的另一端，形成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完整的回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就会发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NQ6@@T$ZASM{0[8RNBZ`SWG"/>
          <p:cNvPicPr/>
          <p:nvPr/>
        </p:nvPicPr>
        <p:blipFill>
          <a:blip r:embed="rId1"/>
          <a:stretch/>
        </p:blipFill>
        <p:spPr>
          <a:xfrm>
            <a:off x="4284720" y="3141720"/>
            <a:ext cx="4319640" cy="2706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971640" y="2492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单电路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541440" y="3429000"/>
            <a:ext cx="3420720" cy="2520360"/>
            <a:chOff x="541440" y="3429000"/>
            <a:chExt cx="3420720" cy="2520360"/>
          </a:xfrm>
        </p:grpSpPr>
        <p:grpSp>
          <p:nvGrpSpPr>
            <p:cNvPr id="54" name="Group 6"/>
            <p:cNvGrpSpPr/>
            <p:nvPr/>
          </p:nvGrpSpPr>
          <p:grpSpPr>
            <a:xfrm>
              <a:off x="1811520" y="3429000"/>
              <a:ext cx="696600" cy="703800"/>
              <a:chOff x="1811520" y="3429000"/>
              <a:chExt cx="696600" cy="703800"/>
            </a:xfrm>
          </p:grpSpPr>
          <p:sp>
            <p:nvSpPr>
              <p:cNvPr id="55" name="Oval 7"/>
              <p:cNvSpPr/>
              <p:nvPr/>
            </p:nvSpPr>
            <p:spPr>
              <a:xfrm>
                <a:off x="1811520" y="3429000"/>
                <a:ext cx="696600" cy="70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"/>
              <p:cNvSpPr/>
              <p:nvPr/>
            </p:nvSpPr>
            <p:spPr>
              <a:xfrm>
                <a:off x="1983600" y="3604320"/>
                <a:ext cx="35172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 flipV="1">
                <a:off x="1983600" y="3603960"/>
                <a:ext cx="35172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10"/>
            <p:cNvSpPr/>
            <p:nvPr/>
          </p:nvSpPr>
          <p:spPr>
            <a:xfrm flipH="1">
              <a:off x="541440" y="3831120"/>
              <a:ext cx="1270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2496240" y="3831120"/>
              <a:ext cx="1465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543240" y="3831120"/>
              <a:ext cx="0" cy="168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3960360" y="3862440"/>
              <a:ext cx="0" cy="168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543240" y="5545080"/>
              <a:ext cx="134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2203200" y="5545080"/>
              <a:ext cx="175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2203200" y="5142600"/>
              <a:ext cx="0" cy="806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910880" y="5344920"/>
              <a:ext cx="0" cy="4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1765440" y="3429000"/>
            <a:ext cx="791280" cy="720000"/>
            <a:chOff x="1765440" y="3429000"/>
            <a:chExt cx="791280" cy="720000"/>
          </a:xfrm>
        </p:grpSpPr>
        <p:sp>
          <p:nvSpPr>
            <p:cNvPr id="67" name="Oval 20"/>
            <p:cNvSpPr/>
            <p:nvPr/>
          </p:nvSpPr>
          <p:spPr>
            <a:xfrm>
              <a:off x="1765440" y="3429000"/>
              <a:ext cx="791280" cy="720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>
              <a:off x="1960920" y="3608280"/>
              <a:ext cx="39960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 flipV="1">
              <a:off x="1960920" y="3608280"/>
              <a:ext cx="39960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24"/>
          <p:cNvSpPr/>
          <p:nvPr/>
        </p:nvSpPr>
        <p:spPr>
          <a:xfrm rot="5400000">
            <a:off x="2161440" y="5409360"/>
            <a:ext cx="287280" cy="216000"/>
          </a:xfrm>
          <a:prstGeom prst="triangle">
            <a:avLst>
              <a:gd name="adj" fmla="val 55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7380360" y="3933720"/>
            <a:ext cx="1152360" cy="1150920"/>
          </a:xfrm>
          <a:prstGeom prst="ellipse">
            <a:avLst/>
          </a:prstGeom>
          <a:noFill/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3876E-007 L 0.17378 0.00624 L 0.16927 -0.24792 L -0.20313 -0.24168 L -0.20625 0.00416 L -0.02934 0.00416 E">
                                      <p:cBhvr>
                                        <p:cTn id="1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164360" cy="4221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1042920" y="4724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灯泡不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5076720" y="2421000"/>
            <a:ext cx="1152720" cy="1150920"/>
          </a:xfrm>
          <a:prstGeom prst="ellipse">
            <a:avLst/>
          </a:prstGeom>
          <a:noFill/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971640" y="5734080"/>
            <a:ext cx="72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什么地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出故障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5435640" y="4724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出故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3780000" y="5084640"/>
            <a:ext cx="1512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造成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发光的原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猜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4920" y="1414440"/>
            <a:ext cx="86407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灯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电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断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灯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池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4319640" y="1125360"/>
            <a:ext cx="4859280" cy="3583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4356000" y="5516640"/>
            <a:ext cx="4248360" cy="642600"/>
          </a:xfrm>
          <a:prstGeom prst="rect">
            <a:avLst/>
          </a:prstGeom>
          <a:noFill/>
          <a:ln cap="rnd" w="507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底是什么原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468360" y="907920"/>
            <a:ext cx="827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检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检查电路中的连接是否完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替换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另外的灯泡、电池、导线等来替换电路中的材料，看看小灯泡是否能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检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电路检测器检测电路中的故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0"/>
            <a:ext cx="442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出故障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24000" y="4653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拆下灯座上的一根导线头，再连上一根导线，这就是我们的“电路检测器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1401d"/>
          <p:cNvPicPr/>
          <p:nvPr/>
        </p:nvPicPr>
        <p:blipFill>
          <a:blip r:embed="rId1"/>
          <a:srcRect l="12001" t="14669" r="13000" b="14669"/>
          <a:stretch/>
        </p:blipFill>
        <p:spPr>
          <a:xfrm>
            <a:off x="5556240" y="1484280"/>
            <a:ext cx="333684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NQ6@@T$ZASM{0[8RNBZ`SWG"/>
          <p:cNvPicPr/>
          <p:nvPr/>
        </p:nvPicPr>
        <p:blipFill>
          <a:blip r:embed="rId2"/>
          <a:stretch/>
        </p:blipFill>
        <p:spPr>
          <a:xfrm>
            <a:off x="324000" y="1484280"/>
            <a:ext cx="3489120" cy="2363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9"/>
          <p:cNvSpPr/>
          <p:nvPr/>
        </p:nvSpPr>
        <p:spPr>
          <a:xfrm>
            <a:off x="4114800" y="2467080"/>
            <a:ext cx="1136520" cy="409320"/>
          </a:xfrm>
          <a:custGeom>
            <a:avLst/>
            <a:gdLst>
              <a:gd name="textAreaLeft" fmla="*/ 177480 w 1136520"/>
              <a:gd name="textAreaRight" fmla="*/ 994680 w 1136520"/>
              <a:gd name="textAreaTop" fmla="*/ 102240 h 409320"/>
              <a:gd name="textAreaBottom" fmla="*/ 307080 h 409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1835280" y="2565360"/>
            <a:ext cx="1152360" cy="1150920"/>
          </a:xfrm>
          <a:prstGeom prst="ellipse">
            <a:avLst/>
          </a:prstGeom>
          <a:noFill/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067280" y="1989000"/>
            <a:ext cx="4032000" cy="255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395280" y="112536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个检测头连接电路元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2664000" cy="1783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OYFFKCLY)JHLWTE_Y)QMKC6"/>
          <p:cNvPicPr/>
          <p:nvPr/>
        </p:nvPicPr>
        <p:blipFill>
          <a:blip r:embed="rId3"/>
          <a:stretch/>
        </p:blipFill>
        <p:spPr>
          <a:xfrm>
            <a:off x="539640" y="4581360"/>
            <a:ext cx="2664000" cy="1760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5"/>
          <p:cNvSpPr/>
          <p:nvPr/>
        </p:nvSpPr>
        <p:spPr>
          <a:xfrm>
            <a:off x="3924360" y="4724280"/>
            <a:ext cx="456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故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故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24000" y="260280"/>
            <a:ext cx="84978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检测器的检测步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前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切断电路电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电路检测器的两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检测头相互碰一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看看灯泡是否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需检测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电路元件两个连接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检测头连接，看灯泡是不是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次检测（重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步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940360" y="620640"/>
            <a:ext cx="26640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66840" y="1657440"/>
          <a:ext cx="8381880" cy="4940280"/>
        </p:xfrm>
        <a:graphic>
          <a:graphicData uri="http://schemas.openxmlformats.org/drawingml/2006/table">
            <a:tbl>
              <a:tblPr/>
              <a:tblGrid>
                <a:gridCol w="1295280"/>
                <a:gridCol w="1100160"/>
                <a:gridCol w="1198440"/>
                <a:gridCol w="1193760"/>
                <a:gridCol w="1198800"/>
                <a:gridCol w="1197000"/>
                <a:gridCol w="119844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被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物体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检测表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没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泡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其他原因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们的发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          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故障了，灯泡不亮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9" name="Text Box 68"/>
          <p:cNvSpPr/>
          <p:nvPr/>
        </p:nvSpPr>
        <p:spPr>
          <a:xfrm>
            <a:off x="539640" y="404640"/>
            <a:ext cx="8077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 们 的 检 测 记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用“√”在相应的地方表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0:10Z</dcterms:modified>
  <cp:revision>132</cp:revision>
  <dc:subject/>
  <dc:title>幻灯片 1</dc:title>
</cp:coreProperties>
</file>