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bomb.wav" ContentType="audio/x-wav"/>
  <Override PartName="/ppt/media/image7.jpeg" ContentType="image/jpeg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66A-75BF-451F-9E5D-749175B2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B33-8AA3-42FC-8630-DD466F88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696-0621-43E1-9A41-649829C6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7DA-FBEB-4126-8B5D-D014F5A4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83D-34A5-427F-B3DF-264851D2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6BF-D9B1-4405-A038-218534B9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3A6-767B-4708-AE39-EAD857AC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867-A480-4C9A-89CD-D35AB903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8D2-27CC-49CE-AE39-64FB9F47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4DE-6413-4482-A79E-36DD8F91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72A-2E5B-4868-9A73-26C8728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A0B-C363-4DEC-ACE3-832E0DFF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5B25-AEA8-4793-A563-A02F1B654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979640" y="24922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点亮小灯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图片1"/>
          <p:cNvPicPr/>
          <p:nvPr/>
        </p:nvPicPr>
        <p:blipFill>
          <a:blip r:embed="rId1"/>
          <a:stretch/>
        </p:blipFill>
        <p:spPr>
          <a:xfrm>
            <a:off x="5796000" y="1484280"/>
            <a:ext cx="2652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403280" y="3141720"/>
            <a:ext cx="2341800" cy="31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4681440" cy="292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4716360" y="3340080"/>
            <a:ext cx="3673440" cy="3544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2528280" y="19162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102840" y="501336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487560" y="496872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-29880" y="1150920"/>
            <a:ext cx="12776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这些小灯泡能发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2700360" y="19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708360" y="429264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2916360" y="112536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132000" y="6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V="1">
            <a:off x="2771640" y="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987640" y="188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3132000" y="981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 flipH="1" flipV="1">
            <a:off x="197964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 flipH="1" flipV="1">
            <a:off x="2123640" y="3068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 flipH="1" flipV="1">
            <a:off x="248400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 flipV="1">
            <a:off x="277164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2916360" y="314136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3059280" y="3429000"/>
            <a:ext cx="217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6443640" y="54738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7308720" y="518472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219564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>
            <a:off x="2700360" y="4149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419640" y="148428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2" descr=""/>
          <p:cNvPicPr/>
          <p:nvPr/>
        </p:nvPicPr>
        <p:blipFill>
          <a:blip r:embed="rId4"/>
          <a:stretch/>
        </p:blipFill>
        <p:spPr>
          <a:xfrm>
            <a:off x="5003640" y="189000"/>
            <a:ext cx="2546640" cy="3117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3"/>
          <p:cNvSpPr/>
          <p:nvPr/>
        </p:nvSpPr>
        <p:spPr>
          <a:xfrm>
            <a:off x="6630480" y="14860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6299280" y="2205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7236000" y="191772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1116000" y="907920"/>
            <a:ext cx="691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路中发生断线使电流不能导通的现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25462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3673440" cy="354492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6"/>
          <p:cNvGrpSpPr/>
          <p:nvPr/>
        </p:nvGrpSpPr>
        <p:grpSpPr>
          <a:xfrm>
            <a:off x="4590720" y="3453120"/>
            <a:ext cx="2412000" cy="2401200"/>
            <a:chOff x="4590720" y="3453120"/>
            <a:chExt cx="2412000" cy="2401200"/>
          </a:xfrm>
        </p:grpSpPr>
        <p:sp>
          <p:nvSpPr>
            <p:cNvPr id="142" name="Rectangle 7"/>
            <p:cNvSpPr/>
            <p:nvPr/>
          </p:nvSpPr>
          <p:spPr>
            <a:xfrm rot="2421600">
              <a:off x="4284720" y="4553280"/>
              <a:ext cx="3024000" cy="16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7659000">
              <a:off x="4314600" y="4555440"/>
              <a:ext cx="2881440" cy="196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9"/>
          <p:cNvSpPr/>
          <p:nvPr/>
        </p:nvSpPr>
        <p:spPr>
          <a:xfrm>
            <a:off x="1187280" y="476280"/>
            <a:ext cx="691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导线直接把干电池的正负极连接起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现象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短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短路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和导线在一瞬间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发热发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仅小灯泡不能发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也很快就会被破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826920" y="2852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电厂发出的、通过导线送到各家各户的电是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20V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交流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这是足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引发触电事故、致人死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电，所以我们不能直接用家里、学校里的插座中的电做实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900000" y="1052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们能不能直接用家里、学校插座中的电做实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" action="ppaction://hlinkshowjump?jump=previousslide"/>
          </p:cNvPr>
          <p:cNvSpPr/>
          <p:nvPr/>
        </p:nvSpPr>
        <p:spPr>
          <a:xfrm>
            <a:off x="6443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03280" y="907920"/>
            <a:ext cx="604836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你能同时点亮两个小灯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1122480" cy="186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1130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灯泡1"/>
          <p:cNvPicPr/>
          <p:nvPr/>
        </p:nvPicPr>
        <p:blipFill>
          <a:blip r:embed="rId1"/>
          <a:stretch/>
        </p:blipFill>
        <p:spPr>
          <a:xfrm>
            <a:off x="900000" y="836640"/>
            <a:ext cx="76201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304920" y="609480"/>
            <a:ext cx="3187440" cy="658800"/>
            <a:chOff x="304920" y="609480"/>
            <a:chExt cx="3187440" cy="658800"/>
          </a:xfrm>
        </p:grpSpPr>
        <p:sp>
          <p:nvSpPr>
            <p:cNvPr id="46" name="Line 4"/>
            <p:cNvSpPr/>
            <p:nvPr/>
          </p:nvSpPr>
          <p:spPr>
            <a:xfrm>
              <a:off x="1547640" y="981000"/>
              <a:ext cx="194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5"/>
            <p:cNvSpPr/>
            <p:nvPr/>
          </p:nvSpPr>
          <p:spPr>
            <a:xfrm>
              <a:off x="304920" y="6094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玻璃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6"/>
          <p:cNvGrpSpPr/>
          <p:nvPr/>
        </p:nvGrpSpPr>
        <p:grpSpPr>
          <a:xfrm>
            <a:off x="4427280" y="3573360"/>
            <a:ext cx="4286520" cy="2160720"/>
            <a:chOff x="4427280" y="3573360"/>
            <a:chExt cx="4286520" cy="2160720"/>
          </a:xfrm>
        </p:grpSpPr>
        <p:sp>
          <p:nvSpPr>
            <p:cNvPr id="49" name="Line 7"/>
            <p:cNvSpPr/>
            <p:nvPr/>
          </p:nvSpPr>
          <p:spPr>
            <a:xfrm>
              <a:off x="4859280" y="3573360"/>
              <a:ext cx="1927440" cy="12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8"/>
            <p:cNvSpPr/>
            <p:nvPr/>
          </p:nvSpPr>
          <p:spPr>
            <a:xfrm flipH="1">
              <a:off x="4427280" y="4797360"/>
              <a:ext cx="2376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6732720" y="4437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连接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4356000" y="765000"/>
            <a:ext cx="3637080" cy="1295280"/>
            <a:chOff x="4356000" y="765000"/>
            <a:chExt cx="3637080" cy="1295280"/>
          </a:xfrm>
        </p:grpSpPr>
        <p:sp>
          <p:nvSpPr>
            <p:cNvPr id="53" name="Line 11"/>
            <p:cNvSpPr/>
            <p:nvPr/>
          </p:nvSpPr>
          <p:spPr>
            <a:xfrm flipV="1">
              <a:off x="4356000" y="1066320"/>
              <a:ext cx="1739880" cy="9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6012000" y="765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灯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179280" y="2708280"/>
            <a:ext cx="4248360" cy="725760"/>
            <a:chOff x="179280" y="2708280"/>
            <a:chExt cx="4248360" cy="725760"/>
          </a:xfrm>
        </p:grpSpPr>
        <p:sp>
          <p:nvSpPr>
            <p:cNvPr id="56" name="Line 14"/>
            <p:cNvSpPr/>
            <p:nvPr/>
          </p:nvSpPr>
          <p:spPr>
            <a:xfrm flipH="1">
              <a:off x="1476000" y="2708280"/>
              <a:ext cx="2303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5"/>
            <p:cNvSpPr/>
            <p:nvPr/>
          </p:nvSpPr>
          <p:spPr>
            <a:xfrm>
              <a:off x="179280" y="285264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金属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H="1">
              <a:off x="1476360" y="2924280"/>
              <a:ext cx="2951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"/>
          <p:cNvSpPr/>
          <p:nvPr/>
        </p:nvSpPr>
        <p:spPr>
          <a:xfrm>
            <a:off x="3419640" y="1125360"/>
            <a:ext cx="1655640" cy="72108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492360" y="1844640"/>
            <a:ext cx="165600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3348000" y="2708280"/>
            <a:ext cx="165564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3492360" y="4149720"/>
            <a:ext cx="1582920" cy="144000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98492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灯泡1"/>
          <p:cNvPicPr/>
          <p:nvPr/>
        </p:nvPicPr>
        <p:blipFill>
          <a:blip r:embed="rId1"/>
          <a:stretch/>
        </p:blipFill>
        <p:spPr>
          <a:xfrm>
            <a:off x="898560" y="83340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灯泡"/>
          <p:cNvPicPr/>
          <p:nvPr/>
        </p:nvPicPr>
        <p:blipFill>
          <a:blip r:embed="rId2"/>
          <a:stretch/>
        </p:blipFill>
        <p:spPr>
          <a:xfrm>
            <a:off x="900000" y="836640"/>
            <a:ext cx="7618680" cy="571356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1547640" y="981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4356000" y="1066320"/>
            <a:ext cx="1739880" cy="9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H="1">
            <a:off x="1476000" y="2708280"/>
            <a:ext cx="2303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04920" y="609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玻璃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79280" y="28526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属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6012000" y="765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灯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1476360" y="2924280"/>
            <a:ext cx="2951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4876920" y="3581280"/>
            <a:ext cx="192708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 flipH="1">
            <a:off x="4427280" y="4797360"/>
            <a:ext cx="2376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732720" y="4437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接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"/>
          <p:cNvPicPr/>
          <p:nvPr/>
        </p:nvPicPr>
        <p:blipFill>
          <a:blip r:embed="rId1"/>
          <a:stretch/>
        </p:blipFill>
        <p:spPr>
          <a:xfrm>
            <a:off x="1116000" y="1700280"/>
            <a:ext cx="2552760" cy="3581280"/>
          </a:xfrm>
          <a:prstGeom prst="rect">
            <a:avLst/>
          </a:prstGeom>
          <a:ln w="0">
            <a:noFill/>
          </a:ln>
        </p:spPr>
      </p:pic>
      <p:sp>
        <p:nvSpPr>
          <p:cNvPr id="81" name="Line 3"/>
          <p:cNvSpPr/>
          <p:nvPr/>
        </p:nvSpPr>
        <p:spPr>
          <a:xfrm flipV="1">
            <a:off x="2411280" y="1341000"/>
            <a:ext cx="1079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2411280" y="5157720"/>
            <a:ext cx="136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290840" y="735120"/>
            <a:ext cx="32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帽，正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87400" y="5148360"/>
            <a:ext cx="31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锌壳，负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791010936962"/>
          <p:cNvPicPr/>
          <p:nvPr/>
        </p:nvPicPr>
        <p:blipFill>
          <a:blip r:embed="rId1"/>
          <a:stretch/>
        </p:blipFill>
        <p:spPr>
          <a:xfrm>
            <a:off x="2195640" y="692280"/>
            <a:ext cx="4646520" cy="3233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484360" y="522936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外面：绝缘的橡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里面：导电金属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导线"/>
          <p:cNvPicPr/>
          <p:nvPr/>
        </p:nvPicPr>
        <p:blipFill>
          <a:blip r:embed="rId2">
            <a:lum contrast="58000"/>
          </a:blip>
          <a:stretch/>
        </p:blipFill>
        <p:spPr>
          <a:xfrm>
            <a:off x="755640" y="4149720"/>
            <a:ext cx="73152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200810151845461845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685400">
            <a:off x="1042560" y="2205000"/>
            <a:ext cx="3529080" cy="320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 rot="20182800">
            <a:off x="5940360" y="2997000"/>
            <a:ext cx="1295640" cy="214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导线"/>
          <p:cNvPicPr/>
          <p:nvPr/>
        </p:nvPicPr>
        <p:blipFill>
          <a:blip r:embed="rId4">
            <a:lum contrast="58000"/>
          </a:blip>
          <a:stretch/>
        </p:blipFill>
        <p:spPr>
          <a:xfrm>
            <a:off x="826920" y="5661000"/>
            <a:ext cx="7315200" cy="638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6734160" y="2538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9800" y="3114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285800" y="4843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1908000" y="83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042920" y="2133720"/>
            <a:ext cx="748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灯泡、导线、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人小组合作尝试实验操作，注意观察，记住线路的连接和小灯泡是否发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考：小灯泡发亮与否和什么有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908000" y="90792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479680" cy="4484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2008101518454618459"/>
          <p:cNvPicPr/>
          <p:nvPr/>
        </p:nvPicPr>
        <p:blipFill>
          <a:blip r:embed="rId2"/>
          <a:stretch/>
        </p:blipFill>
        <p:spPr>
          <a:xfrm rot="21169800">
            <a:off x="5292720" y="1450800"/>
            <a:ext cx="3602160" cy="3273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4"/>
          <p:cNvSpPr/>
          <p:nvPr/>
        </p:nvSpPr>
        <p:spPr>
          <a:xfrm>
            <a:off x="2340000" y="4653000"/>
            <a:ext cx="4968720" cy="1655640"/>
          </a:xfrm>
          <a:custGeom>
            <a:avLst/>
            <a:gdLst/>
            <a:ahLst/>
            <a:rect l="l" t="t" r="r" b="b"/>
            <a:pathLst>
              <a:path w="2994" h="892">
                <a:moveTo>
                  <a:pt x="2994" y="0"/>
                </a:moveTo>
                <a:cubicBezTo>
                  <a:pt x="2721" y="325"/>
                  <a:pt x="2449" y="650"/>
                  <a:pt x="1950" y="771"/>
                </a:cubicBezTo>
                <a:cubicBezTo>
                  <a:pt x="1451" y="892"/>
                  <a:pt x="325" y="733"/>
                  <a:pt x="0" y="72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83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164360" y="4653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2843280" y="1628640"/>
            <a:ext cx="3889440" cy="2448000"/>
          </a:xfrm>
          <a:custGeom>
            <a:avLst/>
            <a:gdLst/>
            <a:ahLst/>
            <a:rect l="l" t="t" r="r" b="b"/>
            <a:pathLst>
              <a:path w="2417" h="1529">
                <a:moveTo>
                  <a:pt x="0" y="1529"/>
                </a:moveTo>
                <a:cubicBezTo>
                  <a:pt x="166" y="1337"/>
                  <a:pt x="637" y="623"/>
                  <a:pt x="998" y="378"/>
                </a:cubicBezTo>
                <a:cubicBezTo>
                  <a:pt x="1359" y="133"/>
                  <a:pt x="1937" y="120"/>
                  <a:pt x="2168" y="60"/>
                </a:cubicBezTo>
                <a:cubicBezTo>
                  <a:pt x="2399" y="0"/>
                  <a:pt x="2417" y="4"/>
                  <a:pt x="2385" y="2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6732720" y="155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134160" y="69228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电流的流动路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6647E-006 C -0.04115 0.01364 -0.18038 0.03144 -0.24722 0.08208 C -0.31407 0.13271 -0.36268 0.25063 -0.40122 0.30404 C -0.43976 0.35745 -0.46684 0.40254 -0.479 0.40323 C -0.49115 0.40393 -0.47535 0.34196 -0.47431 0.3082 C -0.47327 0.27445 -0.47222 0.22219 -0.47275 0.20046 C -0.47327 0.17872 -0.47396 0.1845 -0.47743 0.17711 C -0.48091 0.16971 -0.48872 0.15352 -0.49323 0.15606 C -0.49775 0.15861 -0.49983 0.19121 -0.50434 0.1919 C -0.50886 0.1926 -0.51615 0.16023 -0.52032 0.16023 C -0.52448 0.16023 -0.52535 0.18728 -0.52986 0.1919 C -0.53438 0.19653 -0.54618 0.14589 -0.54722 0.18774 C -0.54827 0.22959 -0.54375 0.39028 -0.53611 0.44346 C -0.52847 0.49664 -0.50591 0.48994 -0.50122 0.50682 C -0.49653 0.52369 -0.51528 0.52277 -0.50764 0.54497 C -0.5 0.56716 -0.52032 0.62335 -0.45521 0.64 C -0.39028 0.65664 -0.20261 0.67722 -0.11736 0.64416 C -0.03177 0.61156 0.02118 0.48531 0.05746 0.44346 E">
                                      <p:cBhvr>
                                        <p:cTn id="5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037320" y="549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简便画法：电流的流动路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FOfficeDoc1"/>
          <p:cNvGraphicFramePr/>
          <p:nvPr/>
        </p:nvGraphicFramePr>
        <p:xfrm>
          <a:off x="1547640" y="1773360"/>
          <a:ext cx="590580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773360"/>
                    <a:ext cx="590580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0:38Z</dcterms:modified>
  <cp:revision>11</cp:revision>
  <dc:subject/>
  <dc:title>幻灯片 1</dc:title>
</cp:coreProperties>
</file>