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17B-564A-4305-8B62-36338D26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143-DCA7-45C3-99F4-BDDB25EF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37C-5F78-4C09-B5B5-FE2919BC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210-6F56-4406-8554-17F98EA5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F48A-BA7C-48FB-9D16-2E99EB51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5C82-3A9E-4439-81AE-1BEC9BF7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7234-5F00-476A-B321-8255BC89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F985-23A0-403C-9848-A1787C8E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11CA-2AA8-4134-B153-1EAAA672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6B9D-C33B-4370-9339-4046179C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C918-C196-47E6-B716-EA31B987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D32-3707-47BB-8146-7E6B4954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6E39-3DBC-4A5C-821A-ED87D65D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F238-B019-4D9F-85C6-E43858D2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00E5-FAB0-4FB1-B381-2AAC188C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77B2-00AC-46F1-859E-657A13E9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0514-33F5-4C93-80C4-A796965F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9B4F-6FC6-4485-8206-22CD33BF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FFF97-3521-4963-9CA3-8F194E48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BF8D1-A888-4EA2-A466-28FC0BB9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38B27-C570-469D-83A1-43D0142A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568A9-BA06-4169-8F23-DBC591B0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A7A-4D2E-48D1-91B8-A2C4BA44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C78CC-CAE5-4E79-8FD0-7E6EC735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C77D1-9B66-463F-88E7-02FD14A3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F13A6-1596-4172-B4CD-004554CF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F7AF9-80CE-42D6-ADA2-EC51CE8E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AB3F5-39B0-414A-B0F3-CC5DE960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FF735-C93C-41EF-8508-5FE46E14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8EA5F-CB04-464C-8C46-3F51009A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6D1-DF14-4110-94D2-7AC99723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4B5-534C-4CD9-8071-9D0DC523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6EC-C444-452B-A8F8-1F524F0C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779-6D13-4AD2-BFE2-FDA28EF3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9FF2-CCB7-415B-8826-52A51E9E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657-AC23-4F6F-84DB-167A8A35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BBD3-A36D-459F-BEE2-6E13E9BF22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3C5D-49BF-4DCD-A3C4-625151F64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315F-798E-4D68-B402-2269BF0405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无标题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332000" y="227664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生活中的静电现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468360" y="549360"/>
            <a:ext cx="4667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教科版四年级科学下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9" name="Picture 11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1042920" y="2133720"/>
            <a:ext cx="5977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47" name="Picture 5" descr="官方logo"/>
          <p:cNvPicPr/>
          <p:nvPr/>
        </p:nvPicPr>
        <p:blipFill>
          <a:blip r:embed="rId1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IMG_46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6691320" y="220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7656480" y="76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梳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392120" y="537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气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7008840" y="595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毛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4848120" y="595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丝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1422360" y="907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玻璃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294000" y="251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橡胶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04_1"/>
          <p:cNvPicPr/>
          <p:nvPr/>
        </p:nvPicPr>
        <p:blipFill>
          <a:blip r:embed="rId2"/>
          <a:stretch/>
        </p:blipFill>
        <p:spPr>
          <a:xfrm>
            <a:off x="0" y="1197000"/>
            <a:ext cx="2843280" cy="3960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567960" y="260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活中的静电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250920" y="5445000"/>
            <a:ext cx="92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静电存在于一切物质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IMG_4605"/>
          <p:cNvPicPr/>
          <p:nvPr/>
        </p:nvPicPr>
        <p:blipFill>
          <a:blip r:embed="rId3"/>
          <a:stretch/>
        </p:blipFill>
        <p:spPr>
          <a:xfrm>
            <a:off x="2916360" y="1197000"/>
            <a:ext cx="3095640" cy="3960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IMG_4607"/>
          <p:cNvPicPr/>
          <p:nvPr/>
        </p:nvPicPr>
        <p:blipFill>
          <a:blip r:embed="rId4"/>
          <a:srcRect l="4992" t="0" r="11236" b="0"/>
          <a:stretch/>
        </p:blipFill>
        <p:spPr>
          <a:xfrm>
            <a:off x="6084720" y="1197000"/>
            <a:ext cx="3059280" cy="3960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官方logo"/>
          <p:cNvPicPr/>
          <p:nvPr/>
        </p:nvPicPr>
        <p:blipFill>
          <a:blip r:embed="rId5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040480" y="281952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什么通常物体不显示带点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02.mpg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743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8845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2" descr="opposites_attract_t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52" name="Group 27"/>
          <p:cNvGrpSpPr/>
          <p:nvPr/>
        </p:nvGrpSpPr>
        <p:grpSpPr>
          <a:xfrm>
            <a:off x="5148360" y="765000"/>
            <a:ext cx="2952360" cy="4895280"/>
            <a:chOff x="5148360" y="765000"/>
            <a:chExt cx="2952360" cy="4895280"/>
          </a:xfrm>
        </p:grpSpPr>
        <p:grpSp>
          <p:nvGrpSpPr>
            <p:cNvPr id="153" name="Group 20"/>
            <p:cNvGrpSpPr/>
            <p:nvPr/>
          </p:nvGrpSpPr>
          <p:grpSpPr>
            <a:xfrm>
              <a:off x="5148360" y="765000"/>
              <a:ext cx="2952360" cy="4895280"/>
              <a:chOff x="5148360" y="765000"/>
              <a:chExt cx="2952360" cy="4895280"/>
            </a:xfrm>
          </p:grpSpPr>
          <p:sp>
            <p:nvSpPr>
              <p:cNvPr id="154" name="Rectangle 14"/>
              <p:cNvSpPr/>
              <p:nvPr/>
            </p:nvSpPr>
            <p:spPr>
              <a:xfrm>
                <a:off x="5148360" y="765000"/>
                <a:ext cx="2952360" cy="188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5"/>
              <p:cNvSpPr/>
              <p:nvPr/>
            </p:nvSpPr>
            <p:spPr>
              <a:xfrm>
                <a:off x="7389000" y="95328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7"/>
              <p:cNvSpPr/>
              <p:nvPr/>
            </p:nvSpPr>
            <p:spPr>
              <a:xfrm>
                <a:off x="7185600" y="2646720"/>
                <a:ext cx="407160" cy="3013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8"/>
              <p:cNvSpPr/>
              <p:nvPr/>
            </p:nvSpPr>
            <p:spPr>
              <a:xfrm>
                <a:off x="5759640" y="95328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9"/>
              <p:cNvSpPr/>
              <p:nvPr/>
            </p:nvSpPr>
            <p:spPr>
              <a:xfrm>
                <a:off x="5622840" y="2644920"/>
                <a:ext cx="407160" cy="3013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Oval 25"/>
            <p:cNvSpPr/>
            <p:nvPr/>
          </p:nvSpPr>
          <p:spPr>
            <a:xfrm>
              <a:off x="5651640" y="5229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cc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6"/>
            <p:cNvSpPr/>
            <p:nvPr/>
          </p:nvSpPr>
          <p:spPr>
            <a:xfrm>
              <a:off x="7221600" y="52722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cc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31"/>
          <p:cNvGrpSpPr/>
          <p:nvPr/>
        </p:nvGrpSpPr>
        <p:grpSpPr>
          <a:xfrm>
            <a:off x="1042920" y="765000"/>
            <a:ext cx="2879280" cy="4897080"/>
            <a:chOff x="1042920" y="765000"/>
            <a:chExt cx="2879280" cy="4897080"/>
          </a:xfrm>
        </p:grpSpPr>
        <p:grpSp>
          <p:nvGrpSpPr>
            <p:cNvPr id="162" name="Group 12"/>
            <p:cNvGrpSpPr/>
            <p:nvPr/>
          </p:nvGrpSpPr>
          <p:grpSpPr>
            <a:xfrm>
              <a:off x="1042920" y="765000"/>
              <a:ext cx="2879280" cy="4897080"/>
              <a:chOff x="1042920" y="765000"/>
              <a:chExt cx="2879280" cy="4897080"/>
            </a:xfrm>
          </p:grpSpPr>
          <p:sp>
            <p:nvSpPr>
              <p:cNvPr id="163" name="Rectangle 4"/>
              <p:cNvSpPr/>
              <p:nvPr/>
            </p:nvSpPr>
            <p:spPr>
              <a:xfrm>
                <a:off x="1042920" y="765000"/>
                <a:ext cx="2879280" cy="18900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6"/>
              <p:cNvSpPr/>
              <p:nvPr/>
            </p:nvSpPr>
            <p:spPr>
              <a:xfrm>
                <a:off x="3228120" y="95400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7"/>
              <p:cNvSpPr/>
              <p:nvPr/>
            </p:nvSpPr>
            <p:spPr>
              <a:xfrm>
                <a:off x="1438920" y="2647800"/>
                <a:ext cx="398520" cy="3014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0"/>
              <p:cNvSpPr/>
              <p:nvPr/>
            </p:nvSpPr>
            <p:spPr>
              <a:xfrm>
                <a:off x="3029040" y="2647800"/>
                <a:ext cx="398520" cy="3014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1"/>
              <p:cNvSpPr/>
              <p:nvPr/>
            </p:nvSpPr>
            <p:spPr>
              <a:xfrm>
                <a:off x="1638720" y="95400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Oval 29"/>
            <p:cNvSpPr/>
            <p:nvPr/>
          </p:nvSpPr>
          <p:spPr>
            <a:xfrm>
              <a:off x="1461960" y="52434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cc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30"/>
            <p:cNvSpPr/>
            <p:nvPr/>
          </p:nvSpPr>
          <p:spPr>
            <a:xfrm>
              <a:off x="3044880" y="5229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cc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34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50920" y="2205000"/>
            <a:ext cx="109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手拿住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红色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的部位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快速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摩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不要再接触摩擦过的部位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物体挂在黑色部位，一个一个完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先预测，后实验 ，及时记录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64080" y="949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温馨提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89"/>
          <p:cNvGrpSpPr/>
          <p:nvPr/>
        </p:nvGrpSpPr>
        <p:grpSpPr>
          <a:xfrm>
            <a:off x="1201320" y="3860640"/>
            <a:ext cx="2147760" cy="2742120"/>
            <a:chOff x="1201320" y="3860640"/>
            <a:chExt cx="2147760" cy="2742120"/>
          </a:xfrm>
        </p:grpSpPr>
        <p:grpSp>
          <p:nvGrpSpPr>
            <p:cNvPr id="177" name="Group 88"/>
            <p:cNvGrpSpPr/>
            <p:nvPr/>
          </p:nvGrpSpPr>
          <p:grpSpPr>
            <a:xfrm>
              <a:off x="1201320" y="3860640"/>
              <a:ext cx="2147760" cy="2742120"/>
              <a:chOff x="1201320" y="3860640"/>
              <a:chExt cx="2147760" cy="2742120"/>
            </a:xfrm>
          </p:grpSpPr>
          <p:grpSp>
            <p:nvGrpSpPr>
              <p:cNvPr id="178" name="Group 82"/>
              <p:cNvGrpSpPr/>
              <p:nvPr/>
            </p:nvGrpSpPr>
            <p:grpSpPr>
              <a:xfrm>
                <a:off x="1201320" y="3860640"/>
                <a:ext cx="2147760" cy="2313720"/>
                <a:chOff x="1201320" y="3860640"/>
                <a:chExt cx="2147760" cy="2313720"/>
              </a:xfrm>
            </p:grpSpPr>
            <p:sp>
              <p:nvSpPr>
                <p:cNvPr id="179" name="Rectangle 20"/>
                <p:cNvSpPr/>
                <p:nvPr/>
              </p:nvSpPr>
              <p:spPr>
                <a:xfrm>
                  <a:off x="1477800" y="3860640"/>
                  <a:ext cx="1871280" cy="1220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1"/>
                <p:cNvSpPr/>
                <p:nvPr/>
              </p:nvSpPr>
              <p:spPr>
                <a:xfrm>
                  <a:off x="2485800" y="4005000"/>
                  <a:ext cx="205920" cy="647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22"/>
                <p:cNvSpPr/>
                <p:nvPr/>
              </p:nvSpPr>
              <p:spPr>
                <a:xfrm flipH="1">
                  <a:off x="1900080" y="4005000"/>
                  <a:ext cx="298080" cy="647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AutoShape 23"/>
                <p:cNvSpPr/>
                <p:nvPr/>
              </p:nvSpPr>
              <p:spPr>
                <a:xfrm rot="1267800">
                  <a:off x="1474560" y="4597200"/>
                  <a:ext cx="307800" cy="157464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24"/>
                <p:cNvSpPr/>
                <p:nvPr/>
              </p:nvSpPr>
              <p:spPr>
                <a:xfrm rot="20477400">
                  <a:off x="2814480" y="4593960"/>
                  <a:ext cx="286920" cy="151308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Text Box 38"/>
              <p:cNvSpPr/>
              <p:nvPr/>
            </p:nvSpPr>
            <p:spPr>
              <a:xfrm>
                <a:off x="1997640" y="602136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Arial"/>
                  </a:rPr>
                  <a:t>排斥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52"/>
              <p:cNvSpPr/>
              <p:nvPr/>
            </p:nvSpPr>
            <p:spPr>
              <a:xfrm rot="1556400">
                <a:off x="1258920" y="5805000"/>
                <a:ext cx="288720" cy="29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Oval 63"/>
            <p:cNvSpPr/>
            <p:nvPr/>
          </p:nvSpPr>
          <p:spPr>
            <a:xfrm rot="20637000">
              <a:off x="2988720" y="5760720"/>
              <a:ext cx="289080" cy="30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67"/>
          <p:cNvSpPr/>
          <p:nvPr/>
        </p:nvSpPr>
        <p:spPr>
          <a:xfrm>
            <a:off x="160020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7"/>
          <p:cNvGrpSpPr/>
          <p:nvPr/>
        </p:nvGrpSpPr>
        <p:grpSpPr>
          <a:xfrm>
            <a:off x="1140480" y="836640"/>
            <a:ext cx="2185560" cy="2740320"/>
            <a:chOff x="1140480" y="836640"/>
            <a:chExt cx="2185560" cy="2740320"/>
          </a:xfrm>
        </p:grpSpPr>
        <p:grpSp>
          <p:nvGrpSpPr>
            <p:cNvPr id="189" name="Group 81"/>
            <p:cNvGrpSpPr/>
            <p:nvPr/>
          </p:nvGrpSpPr>
          <p:grpSpPr>
            <a:xfrm>
              <a:off x="1145160" y="836640"/>
              <a:ext cx="2180880" cy="2388600"/>
              <a:chOff x="1145160" y="836640"/>
              <a:chExt cx="2180880" cy="2388600"/>
            </a:xfrm>
          </p:grpSpPr>
          <p:sp>
            <p:nvSpPr>
              <p:cNvPr id="190" name="Rectangle 6"/>
              <p:cNvSpPr/>
              <p:nvPr/>
            </p:nvSpPr>
            <p:spPr>
              <a:xfrm>
                <a:off x="1409400" y="836640"/>
                <a:ext cx="1871640" cy="12204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2428560" y="981000"/>
                <a:ext cx="204840" cy="64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0"/>
              <p:cNvSpPr/>
              <p:nvPr/>
            </p:nvSpPr>
            <p:spPr>
              <a:xfrm flipH="1">
                <a:off x="1841040" y="981000"/>
                <a:ext cx="300240" cy="64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17"/>
              <p:cNvSpPr/>
              <p:nvPr/>
            </p:nvSpPr>
            <p:spPr>
              <a:xfrm rot="1267800">
                <a:off x="1418760" y="1569960"/>
                <a:ext cx="292320" cy="15732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18"/>
              <p:cNvSpPr/>
              <p:nvPr/>
            </p:nvSpPr>
            <p:spPr>
              <a:xfrm rot="20477400">
                <a:off x="2779200" y="1566360"/>
                <a:ext cx="288720" cy="1656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37"/>
            <p:cNvSpPr/>
            <p:nvPr/>
          </p:nvSpPr>
          <p:spPr>
            <a:xfrm>
              <a:off x="1696680" y="29955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排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83"/>
            <p:cNvGrpSpPr/>
            <p:nvPr/>
          </p:nvGrpSpPr>
          <p:grpSpPr>
            <a:xfrm>
              <a:off x="1140480" y="2745360"/>
              <a:ext cx="381240" cy="378000"/>
              <a:chOff x="1140480" y="2745360"/>
              <a:chExt cx="381240" cy="378000"/>
            </a:xfrm>
          </p:grpSpPr>
          <p:sp>
            <p:nvSpPr>
              <p:cNvPr id="197" name="Oval 51"/>
              <p:cNvSpPr/>
              <p:nvPr/>
            </p:nvSpPr>
            <p:spPr>
              <a:xfrm rot="1556400">
                <a:off x="1187280" y="2793960"/>
                <a:ext cx="287280" cy="280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1265040" y="2925720"/>
                <a:ext cx="144360" cy="698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84"/>
            <p:cNvGrpSpPr/>
            <p:nvPr/>
          </p:nvGrpSpPr>
          <p:grpSpPr>
            <a:xfrm>
              <a:off x="2933280" y="2822760"/>
              <a:ext cx="389880" cy="398160"/>
              <a:chOff x="2933280" y="2822760"/>
              <a:chExt cx="389880" cy="398160"/>
            </a:xfrm>
          </p:grpSpPr>
          <p:sp>
            <p:nvSpPr>
              <p:cNvPr id="200" name="Oval 85"/>
              <p:cNvSpPr/>
              <p:nvPr/>
            </p:nvSpPr>
            <p:spPr>
              <a:xfrm rot="20081400">
                <a:off x="2984400" y="2869200"/>
                <a:ext cx="28728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86"/>
              <p:cNvSpPr/>
              <p:nvPr/>
            </p:nvSpPr>
            <p:spPr>
              <a:xfrm flipV="1">
                <a:off x="3079800" y="3002040"/>
                <a:ext cx="149400" cy="6516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111"/>
          <p:cNvGrpSpPr/>
          <p:nvPr/>
        </p:nvGrpSpPr>
        <p:grpSpPr>
          <a:xfrm>
            <a:off x="6156360" y="1700280"/>
            <a:ext cx="2484000" cy="4322880"/>
            <a:chOff x="6156360" y="1700280"/>
            <a:chExt cx="2484000" cy="4322880"/>
          </a:xfrm>
        </p:grpSpPr>
        <p:grpSp>
          <p:nvGrpSpPr>
            <p:cNvPr id="203" name="Group 42"/>
            <p:cNvGrpSpPr/>
            <p:nvPr/>
          </p:nvGrpSpPr>
          <p:grpSpPr>
            <a:xfrm>
              <a:off x="6156360" y="1700280"/>
              <a:ext cx="2484000" cy="4322880"/>
              <a:chOff x="6156360" y="1700280"/>
              <a:chExt cx="2484000" cy="4322880"/>
            </a:xfrm>
          </p:grpSpPr>
          <p:grpSp>
            <p:nvGrpSpPr>
              <p:cNvPr id="204" name="Group 34"/>
              <p:cNvGrpSpPr/>
              <p:nvPr/>
            </p:nvGrpSpPr>
            <p:grpSpPr>
              <a:xfrm>
                <a:off x="6156360" y="1700280"/>
                <a:ext cx="2484000" cy="3313080"/>
                <a:chOff x="6156360" y="1700280"/>
                <a:chExt cx="2484000" cy="3313080"/>
              </a:xfrm>
            </p:grpSpPr>
            <p:sp>
              <p:nvSpPr>
                <p:cNvPr id="205" name="Rectangle 27"/>
                <p:cNvSpPr/>
                <p:nvPr/>
              </p:nvSpPr>
              <p:spPr>
                <a:xfrm>
                  <a:off x="6156360" y="1700280"/>
                  <a:ext cx="2484000" cy="12852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28"/>
                <p:cNvSpPr/>
                <p:nvPr/>
              </p:nvSpPr>
              <p:spPr>
                <a:xfrm>
                  <a:off x="8042040" y="1828800"/>
                  <a:ext cx="0" cy="114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29"/>
                <p:cNvSpPr/>
                <p:nvPr/>
              </p:nvSpPr>
              <p:spPr>
                <a:xfrm>
                  <a:off x="6497280" y="2973240"/>
                  <a:ext cx="345240" cy="20401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管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1"/>
                <p:cNvSpPr/>
                <p:nvPr/>
              </p:nvSpPr>
              <p:spPr>
                <a:xfrm>
                  <a:off x="6670800" y="1828800"/>
                  <a:ext cx="0" cy="114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32"/>
                <p:cNvSpPr/>
                <p:nvPr/>
              </p:nvSpPr>
              <p:spPr>
                <a:xfrm>
                  <a:off x="7895880" y="2997000"/>
                  <a:ext cx="330120" cy="201636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39"/>
              <p:cNvSpPr/>
              <p:nvPr/>
            </p:nvSpPr>
            <p:spPr>
              <a:xfrm>
                <a:off x="7139160" y="501480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ff0000"/>
                    </a:solidFill>
                    <a:latin typeface="Arial"/>
                  </a:rPr>
                  <a:t>？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0"/>
            <p:cNvGrpSpPr/>
            <p:nvPr/>
          </p:nvGrpSpPr>
          <p:grpSpPr>
            <a:xfrm>
              <a:off x="6512040" y="4577760"/>
              <a:ext cx="313560" cy="387720"/>
              <a:chOff x="6512040" y="4577760"/>
              <a:chExt cx="313560" cy="387720"/>
            </a:xfrm>
          </p:grpSpPr>
          <p:sp>
            <p:nvSpPr>
              <p:cNvPr id="212" name="Oval 91"/>
              <p:cNvSpPr/>
              <p:nvPr/>
            </p:nvSpPr>
            <p:spPr>
              <a:xfrm rot="79800">
                <a:off x="6516360" y="4581000"/>
                <a:ext cx="304560" cy="380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92"/>
              <p:cNvSpPr/>
              <p:nvPr/>
            </p:nvSpPr>
            <p:spPr>
              <a:xfrm>
                <a:off x="6589080" y="4786560"/>
                <a:ext cx="169920" cy="5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Oval 93"/>
            <p:cNvSpPr/>
            <p:nvPr/>
          </p:nvSpPr>
          <p:spPr>
            <a:xfrm>
              <a:off x="7885080" y="4594320"/>
              <a:ext cx="33012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12"/>
          <p:cNvGrpSpPr/>
          <p:nvPr/>
        </p:nvGrpSpPr>
        <p:grpSpPr>
          <a:xfrm>
            <a:off x="6156360" y="1700280"/>
            <a:ext cx="2484360" cy="3962520"/>
            <a:chOff x="6156360" y="1700280"/>
            <a:chExt cx="2484360" cy="3962520"/>
          </a:xfrm>
        </p:grpSpPr>
        <p:grpSp>
          <p:nvGrpSpPr>
            <p:cNvPr id="216" name="Group 95"/>
            <p:cNvGrpSpPr/>
            <p:nvPr/>
          </p:nvGrpSpPr>
          <p:grpSpPr>
            <a:xfrm>
              <a:off x="6156360" y="1700280"/>
              <a:ext cx="2484360" cy="3962520"/>
              <a:chOff x="6156360" y="1700280"/>
              <a:chExt cx="2484360" cy="3962520"/>
            </a:xfrm>
          </p:grpSpPr>
          <p:grpSp>
            <p:nvGrpSpPr>
              <p:cNvPr id="217" name="Group 79"/>
              <p:cNvGrpSpPr/>
              <p:nvPr/>
            </p:nvGrpSpPr>
            <p:grpSpPr>
              <a:xfrm>
                <a:off x="6156360" y="1700280"/>
                <a:ext cx="2484360" cy="3962520"/>
                <a:chOff x="6156360" y="1700280"/>
                <a:chExt cx="2484360" cy="3962520"/>
              </a:xfrm>
            </p:grpSpPr>
            <p:grpSp>
              <p:nvGrpSpPr>
                <p:cNvPr id="218" name="Group 43"/>
                <p:cNvGrpSpPr/>
                <p:nvPr/>
              </p:nvGrpSpPr>
              <p:grpSpPr>
                <a:xfrm>
                  <a:off x="6156360" y="1700280"/>
                  <a:ext cx="2484360" cy="3277440"/>
                  <a:chOff x="6156360" y="1700280"/>
                  <a:chExt cx="2484360" cy="3277440"/>
                </a:xfrm>
              </p:grpSpPr>
              <p:sp>
                <p:nvSpPr>
                  <p:cNvPr id="219" name="Rectangle 44"/>
                  <p:cNvSpPr/>
                  <p:nvPr/>
                </p:nvSpPr>
                <p:spPr>
                  <a:xfrm>
                    <a:off x="6156360" y="1700280"/>
                    <a:ext cx="2484360" cy="128520"/>
                  </a:xfrm>
                  <a:prstGeom prst="rect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45"/>
                  <p:cNvSpPr/>
                  <p:nvPr/>
                </p:nvSpPr>
                <p:spPr>
                  <a:xfrm flipH="1">
                    <a:off x="7954920" y="1842840"/>
                    <a:ext cx="360000" cy="1152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Rectangle 46"/>
                  <p:cNvSpPr/>
                  <p:nvPr/>
                </p:nvSpPr>
                <p:spPr>
                  <a:xfrm rot="20920800">
                    <a:off x="6803640" y="2923920"/>
                    <a:ext cx="344160" cy="20397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吸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管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47"/>
                  <p:cNvSpPr/>
                  <p:nvPr/>
                </p:nvSpPr>
                <p:spPr>
                  <a:xfrm>
                    <a:off x="6441840" y="1841400"/>
                    <a:ext cx="361800" cy="10821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48"/>
                  <p:cNvSpPr/>
                  <p:nvPr/>
                </p:nvSpPr>
                <p:spPr>
                  <a:xfrm rot="658800">
                    <a:off x="7596000" y="2923560"/>
                    <a:ext cx="329760" cy="2016000"/>
                  </a:xfrm>
                  <a:prstGeom prst="flowChartProcess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玻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璃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49"/>
                <p:cNvSpPr/>
                <p:nvPr/>
              </p:nvSpPr>
              <p:spPr>
                <a:xfrm>
                  <a:off x="7010640" y="4959360"/>
                  <a:ext cx="7902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0000"/>
                      </a:solidFill>
                      <a:latin typeface="Arial"/>
                    </a:rPr>
                    <a:t>吸引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59"/>
              <p:cNvGrpSpPr/>
              <p:nvPr/>
            </p:nvGrpSpPr>
            <p:grpSpPr>
              <a:xfrm>
                <a:off x="6938280" y="4491720"/>
                <a:ext cx="397440" cy="450000"/>
                <a:chOff x="6938280" y="4491720"/>
                <a:chExt cx="397440" cy="450000"/>
              </a:xfrm>
            </p:grpSpPr>
            <p:sp>
              <p:nvSpPr>
                <p:cNvPr id="226" name="Oval 60"/>
                <p:cNvSpPr/>
                <p:nvPr/>
              </p:nvSpPr>
              <p:spPr>
                <a:xfrm rot="20637000">
                  <a:off x="6984720" y="4526280"/>
                  <a:ext cx="304200" cy="380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1"/>
                <p:cNvSpPr/>
                <p:nvPr/>
              </p:nvSpPr>
              <p:spPr>
                <a:xfrm flipV="1">
                  <a:off x="7065360" y="4708800"/>
                  <a:ext cx="163800" cy="45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Oval 110"/>
            <p:cNvSpPr/>
            <p:nvPr/>
          </p:nvSpPr>
          <p:spPr>
            <a:xfrm rot="960000">
              <a:off x="7451280" y="4508280"/>
              <a:ext cx="33012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113"/>
          <p:cNvSpPr/>
          <p:nvPr/>
        </p:nvSpPr>
        <p:spPr>
          <a:xfrm>
            <a:off x="3440520" y="981000"/>
            <a:ext cx="115524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同种电荷相互排斥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4"/>
          <p:cNvSpPr/>
          <p:nvPr/>
        </p:nvSpPr>
        <p:spPr>
          <a:xfrm>
            <a:off x="4720320" y="1716840"/>
            <a:ext cx="66780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不同种电荷相互吸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15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1" descr="555"/>
          <p:cNvPicPr/>
          <p:nvPr/>
        </p:nvPicPr>
        <p:blipFill>
          <a:blip r:embed="rId1"/>
          <a:stretch/>
        </p:blipFill>
        <p:spPr>
          <a:xfrm>
            <a:off x="2771640" y="171360"/>
            <a:ext cx="5472360" cy="41054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8"/>
          <p:cNvSpPr/>
          <p:nvPr/>
        </p:nvSpPr>
        <p:spPr>
          <a:xfrm>
            <a:off x="5618160" y="119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电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3"/>
          <p:cNvGrpSpPr/>
          <p:nvPr/>
        </p:nvGrpSpPr>
        <p:grpSpPr>
          <a:xfrm>
            <a:off x="613440" y="2349360"/>
            <a:ext cx="9359280" cy="4432320"/>
            <a:chOff x="613440" y="2349360"/>
            <a:chExt cx="9359280" cy="4432320"/>
          </a:xfrm>
        </p:grpSpPr>
        <p:grpSp>
          <p:nvGrpSpPr>
            <p:cNvPr id="235" name="Group 13"/>
            <p:cNvGrpSpPr/>
            <p:nvPr/>
          </p:nvGrpSpPr>
          <p:grpSpPr>
            <a:xfrm>
              <a:off x="957240" y="2349360"/>
              <a:ext cx="9015480" cy="4432320"/>
              <a:chOff x="957240" y="2349360"/>
              <a:chExt cx="9015480" cy="4432320"/>
            </a:xfrm>
          </p:grpSpPr>
          <p:pic>
            <p:nvPicPr>
              <p:cNvPr id="236" name="Picture 10" descr="444"/>
              <p:cNvPicPr/>
              <p:nvPr/>
            </p:nvPicPr>
            <p:blipFill>
              <a:blip r:embed="rId2"/>
              <a:stretch/>
            </p:blipFill>
            <p:spPr>
              <a:xfrm>
                <a:off x="4270320" y="2504880"/>
                <a:ext cx="5702400" cy="427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12" descr="333"/>
              <p:cNvPicPr/>
              <p:nvPr/>
            </p:nvPicPr>
            <p:blipFill>
              <a:blip r:embed="rId3"/>
              <a:stretch/>
            </p:blipFill>
            <p:spPr>
              <a:xfrm>
                <a:off x="957240" y="2349360"/>
                <a:ext cx="5775480" cy="4332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8" name="Text Box 19"/>
            <p:cNvSpPr/>
            <p:nvPr/>
          </p:nvSpPr>
          <p:spPr>
            <a:xfrm>
              <a:off x="613440" y="2947320"/>
              <a:ext cx="78984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导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0"/>
            <p:cNvSpPr/>
            <p:nvPr/>
          </p:nvSpPr>
          <p:spPr>
            <a:xfrm>
              <a:off x="7239600" y="3009240"/>
              <a:ext cx="78984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导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2"/>
          <p:cNvGrpSpPr/>
          <p:nvPr/>
        </p:nvGrpSpPr>
        <p:grpSpPr>
          <a:xfrm>
            <a:off x="3265560" y="5013360"/>
            <a:ext cx="5410080" cy="4057560"/>
            <a:chOff x="3265560" y="5013360"/>
            <a:chExt cx="5410080" cy="4057560"/>
          </a:xfrm>
        </p:grpSpPr>
        <p:pic>
          <p:nvPicPr>
            <p:cNvPr id="241" name="Picture 7" descr="22"/>
            <p:cNvPicPr/>
            <p:nvPr/>
          </p:nvPicPr>
          <p:blipFill>
            <a:blip r:embed="rId4"/>
            <a:stretch/>
          </p:blipFill>
          <p:spPr>
            <a:xfrm>
              <a:off x="3265560" y="501336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21"/>
            <p:cNvSpPr/>
            <p:nvPr/>
          </p:nvSpPr>
          <p:spPr>
            <a:xfrm>
              <a:off x="4029480" y="6040440"/>
              <a:ext cx="118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电   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25" descr="官方logo"/>
          <p:cNvPicPr/>
          <p:nvPr/>
        </p:nvPicPr>
        <p:blipFill>
          <a:blip r:embed="rId5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22:21Z</dcterms:created>
  <dc:creator/>
  <dc:description/>
  <dc:language>en-US</dc:language>
  <cp:lastModifiedBy>Administrator</cp:lastModifiedBy>
  <dcterms:modified xsi:type="dcterms:W3CDTF">2016-02-24T04:55:43Z</dcterms:modified>
  <cp:revision>27</cp:revision>
  <dc:subject/>
  <dc:title>PowerPoint 演示文稿</dc:title>
</cp:coreProperties>
</file>