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40F2-C905-438A-BF67-4AFB96EE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3BF7-D3DE-46B6-BAF2-A2D8A618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DF5E-9A40-4A5B-A836-A16B3FF12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158-652C-4954-A385-D045AD03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4BBE7-C34C-4D31-B5DC-2B38A10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89B4-3536-4659-9F3D-0F48F15B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005B7-F85D-431C-A1F4-8C5A0DDED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9702-B730-461C-AF46-142E2239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0516-959E-4B37-9D8B-254D066A6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4454-8D96-4E86-B5CB-21CB2A32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B62E-CD70-4688-9428-30459CFE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DAAC-A061-48E3-8714-939C559F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797E-B2A4-45EF-A9C0-24E86A4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0CCB7-88A6-4097-8011-0A029E91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5A735-DCED-464A-8AE5-71ED15A8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D246-B5F9-49A1-89A7-E0A3CCD7A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FBAD-E75B-4046-B89E-8E3DC13B8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FC7F3-596A-4762-9158-B76994C1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16DB2-F518-4CC6-A1F4-77E2B379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AFEF-C8D5-456E-A821-A2A028B3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0DBE-B49C-4FF6-B880-E72348A0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9ED6C-D100-42BB-93C8-A089672BA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DB84-636F-4A0E-8508-4FC96F56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11A0D-B8BE-4627-A84C-46F84024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C6545-CA32-4261-973E-65F9AD60B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01E54-82D4-4ACD-8669-46EA3E65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BA882-4E7B-403D-9555-79DE3F2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24301-F87D-40F3-BB35-D93F5F38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54A8-5602-444C-A311-EC0564F7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F5CE4-1B4C-4B73-9AEE-CDFE3452D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D042-6848-4CF3-83D9-AA8AD90B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E48B-EF08-420F-820D-F3F7629A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509D-B6BD-4E24-94CB-1CD4AA4D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D60-B3BD-4B2E-9D6A-1B579CFC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ACC-301A-49F0-BA46-37C43509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AEE-F488-4A6F-AAE6-48F0EFB9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1174-77C6-45A3-B1EF-30EC5FD63C6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695F-AC47-41AA-A73F-69CF63210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19E6-048A-40D0-9650-F8A3187AF3F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9" descr="无标题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1332000" y="2276640"/>
            <a:ext cx="66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WordArt 10"/>
          <p:cNvSpPr txBox="1"/>
          <p:nvPr/>
        </p:nvSpPr>
        <p:spPr>
          <a:xfrm>
            <a:off x="468360" y="549360"/>
            <a:ext cx="46670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教科版四年级科学下册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129" name="Picture 11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ShockwaveFlash1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1042920" y="2133720"/>
            <a:ext cx="5977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谢谢！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247" name="Picture 5" descr="官方logo"/>
          <p:cNvPicPr/>
          <p:nvPr/>
        </p:nvPicPr>
        <p:blipFill>
          <a:blip r:embed="rId1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2" descr="IMG_4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6691320" y="2205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7656480" y="76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梳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1392120" y="53737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气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700884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毛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1"/>
          <p:cNvSpPr/>
          <p:nvPr/>
        </p:nvSpPr>
        <p:spPr>
          <a:xfrm>
            <a:off x="4848120" y="59500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丝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1422360" y="907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玻璃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294000" y="251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橡胶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0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04_1"/>
          <p:cNvPicPr/>
          <p:nvPr/>
        </p:nvPicPr>
        <p:blipFill>
          <a:blip r:embed="rId2"/>
          <a:stretch/>
        </p:blipFill>
        <p:spPr>
          <a:xfrm>
            <a:off x="0" y="1197000"/>
            <a:ext cx="2843280" cy="39607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>
            <a:off x="3567960" y="26028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活中的静电现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250920" y="5445000"/>
            <a:ext cx="928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静电存在于一切物质中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IMG_4605"/>
          <p:cNvPicPr/>
          <p:nvPr/>
        </p:nvPicPr>
        <p:blipFill>
          <a:blip r:embed="rId3"/>
          <a:stretch/>
        </p:blipFill>
        <p:spPr>
          <a:xfrm>
            <a:off x="2916360" y="1197000"/>
            <a:ext cx="3095640" cy="3960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IMG_4607"/>
          <p:cNvPicPr/>
          <p:nvPr/>
        </p:nvPicPr>
        <p:blipFill>
          <a:blip r:embed="rId4"/>
          <a:srcRect l="4992" t="0" r="11236" b="0"/>
          <a:stretch/>
        </p:blipFill>
        <p:spPr>
          <a:xfrm>
            <a:off x="6084720" y="1197000"/>
            <a:ext cx="3059280" cy="3960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40480" y="2819520"/>
            <a:ext cx="530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为什么通常物体不显示带点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02.mpg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24720" cy="5743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38845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2" descr="opposites_attract_t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52" name="Group 27"/>
          <p:cNvGrpSpPr/>
          <p:nvPr/>
        </p:nvGrpSpPr>
        <p:grpSpPr>
          <a:xfrm>
            <a:off x="5148360" y="765000"/>
            <a:ext cx="2952360" cy="4895280"/>
            <a:chOff x="5148360" y="765000"/>
            <a:chExt cx="2952360" cy="4895280"/>
          </a:xfrm>
        </p:grpSpPr>
        <p:grpSp>
          <p:nvGrpSpPr>
            <p:cNvPr id="153" name="Group 20"/>
            <p:cNvGrpSpPr/>
            <p:nvPr/>
          </p:nvGrpSpPr>
          <p:grpSpPr>
            <a:xfrm>
              <a:off x="5148360" y="765000"/>
              <a:ext cx="2952360" cy="4895280"/>
              <a:chOff x="5148360" y="765000"/>
              <a:chExt cx="2952360" cy="4895280"/>
            </a:xfrm>
          </p:grpSpPr>
          <p:sp>
            <p:nvSpPr>
              <p:cNvPr id="154" name="Rectangle 14"/>
              <p:cNvSpPr/>
              <p:nvPr/>
            </p:nvSpPr>
            <p:spPr>
              <a:xfrm>
                <a:off x="5148360" y="765000"/>
                <a:ext cx="2952360" cy="18828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15"/>
              <p:cNvSpPr/>
              <p:nvPr/>
            </p:nvSpPr>
            <p:spPr>
              <a:xfrm>
                <a:off x="738900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7"/>
              <p:cNvSpPr/>
              <p:nvPr/>
            </p:nvSpPr>
            <p:spPr>
              <a:xfrm>
                <a:off x="7185600" y="26467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18"/>
              <p:cNvSpPr/>
              <p:nvPr/>
            </p:nvSpPr>
            <p:spPr>
              <a:xfrm>
                <a:off x="5759640" y="95328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9"/>
              <p:cNvSpPr/>
              <p:nvPr/>
            </p:nvSpPr>
            <p:spPr>
              <a:xfrm>
                <a:off x="5622840" y="2644920"/>
                <a:ext cx="407160" cy="3013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玻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璃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丝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9" name="Oval 25"/>
            <p:cNvSpPr/>
            <p:nvPr/>
          </p:nvSpPr>
          <p:spPr>
            <a:xfrm>
              <a:off x="565164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6"/>
            <p:cNvSpPr/>
            <p:nvPr/>
          </p:nvSpPr>
          <p:spPr>
            <a:xfrm>
              <a:off x="7221600" y="52722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66cc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Group 31"/>
          <p:cNvGrpSpPr/>
          <p:nvPr/>
        </p:nvGrpSpPr>
        <p:grpSpPr>
          <a:xfrm>
            <a:off x="1042920" y="765000"/>
            <a:ext cx="2879280" cy="4897080"/>
            <a:chOff x="1042920" y="765000"/>
            <a:chExt cx="2879280" cy="4897080"/>
          </a:xfrm>
        </p:grpSpPr>
        <p:grpSp>
          <p:nvGrpSpPr>
            <p:cNvPr id="162" name="Group 12"/>
            <p:cNvGrpSpPr/>
            <p:nvPr/>
          </p:nvGrpSpPr>
          <p:grpSpPr>
            <a:xfrm>
              <a:off x="1042920" y="765000"/>
              <a:ext cx="2879280" cy="4897080"/>
              <a:chOff x="1042920" y="765000"/>
              <a:chExt cx="2879280" cy="4897080"/>
            </a:xfrm>
          </p:grpSpPr>
          <p:sp>
            <p:nvSpPr>
              <p:cNvPr id="163" name="Rectangle 4"/>
              <p:cNvSpPr/>
              <p:nvPr/>
            </p:nvSpPr>
            <p:spPr>
              <a:xfrm>
                <a:off x="1042920" y="765000"/>
                <a:ext cx="2879280" cy="18900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6"/>
              <p:cNvSpPr/>
              <p:nvPr/>
            </p:nvSpPr>
            <p:spPr>
              <a:xfrm>
                <a:off x="32281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7"/>
              <p:cNvSpPr/>
              <p:nvPr/>
            </p:nvSpPr>
            <p:spPr>
              <a:xfrm>
                <a:off x="143892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0"/>
              <p:cNvSpPr/>
              <p:nvPr/>
            </p:nvSpPr>
            <p:spPr>
              <a:xfrm>
                <a:off x="3029040" y="2647800"/>
                <a:ext cx="398520" cy="30142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11"/>
              <p:cNvSpPr/>
              <p:nvPr/>
            </p:nvSpPr>
            <p:spPr>
              <a:xfrm>
                <a:off x="1638720" y="954000"/>
                <a:ext cx="0" cy="1693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Oval 29"/>
            <p:cNvSpPr/>
            <p:nvPr/>
          </p:nvSpPr>
          <p:spPr>
            <a:xfrm>
              <a:off x="1461960" y="524340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30"/>
            <p:cNvSpPr/>
            <p:nvPr/>
          </p:nvSpPr>
          <p:spPr>
            <a:xfrm>
              <a:off x="3044880" y="5229360"/>
              <a:ext cx="360360" cy="360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66cc"/>
                  </a:solidFill>
                  <a:latin typeface="Arial"/>
                </a:rPr>
                <a:t>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0" name="Picture 34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250920" y="2205000"/>
            <a:ext cx="10909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手拿住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红色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的部位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快速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摩擦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要再接触摩擦过的部位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、物体挂在黑色部位，一个一个完成</a:t>
            </a: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先预测，后实验 ，及时记录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964080" y="9493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</a:rPr>
              <a:t>温馨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9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89"/>
          <p:cNvGrpSpPr/>
          <p:nvPr/>
        </p:nvGrpSpPr>
        <p:grpSpPr>
          <a:xfrm>
            <a:off x="1201320" y="3860640"/>
            <a:ext cx="2147760" cy="2742120"/>
            <a:chOff x="1201320" y="3860640"/>
            <a:chExt cx="2147760" cy="2742120"/>
          </a:xfrm>
        </p:grpSpPr>
        <p:grpSp>
          <p:nvGrpSpPr>
            <p:cNvPr id="177" name="Group 88"/>
            <p:cNvGrpSpPr/>
            <p:nvPr/>
          </p:nvGrpSpPr>
          <p:grpSpPr>
            <a:xfrm>
              <a:off x="1201320" y="3860640"/>
              <a:ext cx="2147760" cy="2742120"/>
              <a:chOff x="1201320" y="3860640"/>
              <a:chExt cx="2147760" cy="2742120"/>
            </a:xfrm>
          </p:grpSpPr>
          <p:grpSp>
            <p:nvGrpSpPr>
              <p:cNvPr id="178" name="Group 82"/>
              <p:cNvGrpSpPr/>
              <p:nvPr/>
            </p:nvGrpSpPr>
            <p:grpSpPr>
              <a:xfrm>
                <a:off x="1201320" y="3860640"/>
                <a:ext cx="2147760" cy="2313720"/>
                <a:chOff x="1201320" y="3860640"/>
                <a:chExt cx="2147760" cy="2313720"/>
              </a:xfrm>
            </p:grpSpPr>
            <p:sp>
              <p:nvSpPr>
                <p:cNvPr id="179" name="Rectangle 20"/>
                <p:cNvSpPr/>
                <p:nvPr/>
              </p:nvSpPr>
              <p:spPr>
                <a:xfrm>
                  <a:off x="1477800" y="3860640"/>
                  <a:ext cx="1871280" cy="12204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21"/>
                <p:cNvSpPr/>
                <p:nvPr/>
              </p:nvSpPr>
              <p:spPr>
                <a:xfrm>
                  <a:off x="2485800" y="4005000"/>
                  <a:ext cx="20592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22"/>
                <p:cNvSpPr/>
                <p:nvPr/>
              </p:nvSpPr>
              <p:spPr>
                <a:xfrm flipH="1">
                  <a:off x="1900080" y="4005000"/>
                  <a:ext cx="298080" cy="647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AutoShape 23"/>
                <p:cNvSpPr/>
                <p:nvPr/>
              </p:nvSpPr>
              <p:spPr>
                <a:xfrm rot="1267800">
                  <a:off x="1474560" y="4597200"/>
                  <a:ext cx="307800" cy="157464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AutoShape 24"/>
                <p:cNvSpPr/>
                <p:nvPr/>
              </p:nvSpPr>
              <p:spPr>
                <a:xfrm rot="20477400">
                  <a:off x="2814480" y="4593960"/>
                  <a:ext cx="286920" cy="151308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Text Box 38"/>
              <p:cNvSpPr/>
              <p:nvPr/>
            </p:nvSpPr>
            <p:spPr>
              <a:xfrm>
                <a:off x="1997640" y="6021360"/>
                <a:ext cx="668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ff0000"/>
                    </a:solidFill>
                    <a:latin typeface="Arial"/>
                  </a:rPr>
                  <a:t>排斥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Oval 52"/>
              <p:cNvSpPr/>
              <p:nvPr/>
            </p:nvSpPr>
            <p:spPr>
              <a:xfrm rot="1556400">
                <a:off x="1258920" y="5805000"/>
                <a:ext cx="288720" cy="297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3399"/>
                    </a:solidFill>
                    <a:latin typeface="Arial"/>
                  </a:rPr>
                  <a:t>+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Oval 63"/>
            <p:cNvSpPr/>
            <p:nvPr/>
          </p:nvSpPr>
          <p:spPr>
            <a:xfrm rot="20637000">
              <a:off x="2988720" y="5760720"/>
              <a:ext cx="289080" cy="306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Text Box 67"/>
          <p:cNvSpPr/>
          <p:nvPr/>
        </p:nvSpPr>
        <p:spPr>
          <a:xfrm>
            <a:off x="1600200" y="55227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87"/>
          <p:cNvGrpSpPr/>
          <p:nvPr/>
        </p:nvGrpSpPr>
        <p:grpSpPr>
          <a:xfrm>
            <a:off x="1140480" y="836640"/>
            <a:ext cx="2185560" cy="2740320"/>
            <a:chOff x="1140480" y="836640"/>
            <a:chExt cx="2185560" cy="2740320"/>
          </a:xfrm>
        </p:grpSpPr>
        <p:grpSp>
          <p:nvGrpSpPr>
            <p:cNvPr id="189" name="Group 81"/>
            <p:cNvGrpSpPr/>
            <p:nvPr/>
          </p:nvGrpSpPr>
          <p:grpSpPr>
            <a:xfrm>
              <a:off x="1145160" y="836640"/>
              <a:ext cx="2180880" cy="2388600"/>
              <a:chOff x="1145160" y="836640"/>
              <a:chExt cx="2180880" cy="2388600"/>
            </a:xfrm>
          </p:grpSpPr>
          <p:sp>
            <p:nvSpPr>
              <p:cNvPr id="190" name="Rectangle 6"/>
              <p:cNvSpPr/>
              <p:nvPr/>
            </p:nvSpPr>
            <p:spPr>
              <a:xfrm>
                <a:off x="1409400" y="836640"/>
                <a:ext cx="1871640" cy="122040"/>
              </a:xfrm>
              <a:prstGeom prst="rect">
                <a:avLst/>
              </a:prstGeom>
              <a:solidFill>
                <a:srgbClr val="8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7"/>
              <p:cNvSpPr/>
              <p:nvPr/>
            </p:nvSpPr>
            <p:spPr>
              <a:xfrm>
                <a:off x="2428560" y="981000"/>
                <a:ext cx="2048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10"/>
              <p:cNvSpPr/>
              <p:nvPr/>
            </p:nvSpPr>
            <p:spPr>
              <a:xfrm flipH="1">
                <a:off x="1841040" y="981000"/>
                <a:ext cx="300240" cy="647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AutoShape 17"/>
              <p:cNvSpPr/>
              <p:nvPr/>
            </p:nvSpPr>
            <p:spPr>
              <a:xfrm rot="1267800">
                <a:off x="1418760" y="1569960"/>
                <a:ext cx="292320" cy="15732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18"/>
              <p:cNvSpPr/>
              <p:nvPr/>
            </p:nvSpPr>
            <p:spPr>
              <a:xfrm rot="20477400">
                <a:off x="2779200" y="1566360"/>
                <a:ext cx="288720" cy="1656000"/>
              </a:xfrm>
              <a:prstGeom prst="flowChartProcess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管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7"/>
            <p:cNvSpPr/>
            <p:nvPr/>
          </p:nvSpPr>
          <p:spPr>
            <a:xfrm>
              <a:off x="1696680" y="2995560"/>
              <a:ext cx="100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排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83"/>
            <p:cNvGrpSpPr/>
            <p:nvPr/>
          </p:nvGrpSpPr>
          <p:grpSpPr>
            <a:xfrm>
              <a:off x="1140480" y="2745360"/>
              <a:ext cx="381240" cy="378000"/>
              <a:chOff x="1140480" y="2745360"/>
              <a:chExt cx="381240" cy="378000"/>
            </a:xfrm>
          </p:grpSpPr>
          <p:sp>
            <p:nvSpPr>
              <p:cNvPr id="197" name="Oval 51"/>
              <p:cNvSpPr/>
              <p:nvPr/>
            </p:nvSpPr>
            <p:spPr>
              <a:xfrm rot="1556400">
                <a:off x="1187280" y="2793960"/>
                <a:ext cx="287280" cy="2808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54"/>
              <p:cNvSpPr/>
              <p:nvPr/>
            </p:nvSpPr>
            <p:spPr>
              <a:xfrm>
                <a:off x="1265040" y="2925720"/>
                <a:ext cx="144360" cy="6984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84"/>
            <p:cNvGrpSpPr/>
            <p:nvPr/>
          </p:nvGrpSpPr>
          <p:grpSpPr>
            <a:xfrm>
              <a:off x="2933280" y="2822760"/>
              <a:ext cx="389880" cy="398160"/>
              <a:chOff x="2933280" y="2822760"/>
              <a:chExt cx="389880" cy="398160"/>
            </a:xfrm>
          </p:grpSpPr>
          <p:sp>
            <p:nvSpPr>
              <p:cNvPr id="200" name="Oval 85"/>
              <p:cNvSpPr/>
              <p:nvPr/>
            </p:nvSpPr>
            <p:spPr>
              <a:xfrm rot="20081400">
                <a:off x="2984400" y="2869200"/>
                <a:ext cx="287280" cy="304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86"/>
              <p:cNvSpPr/>
              <p:nvPr/>
            </p:nvSpPr>
            <p:spPr>
              <a:xfrm flipV="1">
                <a:off x="3079800" y="3002040"/>
                <a:ext cx="149400" cy="6516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Group 111"/>
          <p:cNvGrpSpPr/>
          <p:nvPr/>
        </p:nvGrpSpPr>
        <p:grpSpPr>
          <a:xfrm>
            <a:off x="6156360" y="1700280"/>
            <a:ext cx="2484000" cy="4322880"/>
            <a:chOff x="6156360" y="1700280"/>
            <a:chExt cx="2484000" cy="4322880"/>
          </a:xfrm>
        </p:grpSpPr>
        <p:grpSp>
          <p:nvGrpSpPr>
            <p:cNvPr id="203" name="Group 42"/>
            <p:cNvGrpSpPr/>
            <p:nvPr/>
          </p:nvGrpSpPr>
          <p:grpSpPr>
            <a:xfrm>
              <a:off x="6156360" y="1700280"/>
              <a:ext cx="2484000" cy="4322880"/>
              <a:chOff x="6156360" y="1700280"/>
              <a:chExt cx="2484000" cy="4322880"/>
            </a:xfrm>
          </p:grpSpPr>
          <p:grpSp>
            <p:nvGrpSpPr>
              <p:cNvPr id="204" name="Group 34"/>
              <p:cNvGrpSpPr/>
              <p:nvPr/>
            </p:nvGrpSpPr>
            <p:grpSpPr>
              <a:xfrm>
                <a:off x="6156360" y="1700280"/>
                <a:ext cx="2484000" cy="3313080"/>
                <a:chOff x="6156360" y="1700280"/>
                <a:chExt cx="2484000" cy="3313080"/>
              </a:xfrm>
            </p:grpSpPr>
            <p:sp>
              <p:nvSpPr>
                <p:cNvPr id="205" name="Rectangle 27"/>
                <p:cNvSpPr/>
                <p:nvPr/>
              </p:nvSpPr>
              <p:spPr>
                <a:xfrm>
                  <a:off x="6156360" y="1700280"/>
                  <a:ext cx="2484000" cy="128520"/>
                </a:xfrm>
                <a:prstGeom prst="rect">
                  <a:avLst/>
                </a:prstGeom>
                <a:solidFill>
                  <a:srgbClr val="8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28"/>
                <p:cNvSpPr/>
                <p:nvPr/>
              </p:nvSpPr>
              <p:spPr>
                <a:xfrm>
                  <a:off x="804204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29"/>
                <p:cNvSpPr/>
                <p:nvPr/>
              </p:nvSpPr>
              <p:spPr>
                <a:xfrm>
                  <a:off x="6497280" y="2973240"/>
                  <a:ext cx="345240" cy="204012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管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1"/>
                <p:cNvSpPr/>
                <p:nvPr/>
              </p:nvSpPr>
              <p:spPr>
                <a:xfrm>
                  <a:off x="6670800" y="1828800"/>
                  <a:ext cx="0" cy="11444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32"/>
                <p:cNvSpPr/>
                <p:nvPr/>
              </p:nvSpPr>
              <p:spPr>
                <a:xfrm>
                  <a:off x="7895880" y="2997000"/>
                  <a:ext cx="330120" cy="2016360"/>
                </a:xfrm>
                <a:prstGeom prst="flowChartProcess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玻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璃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000000"/>
                      </a:solidFill>
                      <a:latin typeface="Arial"/>
                    </a:rPr>
                    <a:t>丝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39"/>
              <p:cNvSpPr/>
              <p:nvPr/>
            </p:nvSpPr>
            <p:spPr>
              <a:xfrm>
                <a:off x="7139160" y="501480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ff0000"/>
                    </a:solidFill>
                    <a:latin typeface="Arial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90"/>
            <p:cNvGrpSpPr/>
            <p:nvPr/>
          </p:nvGrpSpPr>
          <p:grpSpPr>
            <a:xfrm>
              <a:off x="6512040" y="4577760"/>
              <a:ext cx="313560" cy="387720"/>
              <a:chOff x="6512040" y="4577760"/>
              <a:chExt cx="313560" cy="387720"/>
            </a:xfrm>
          </p:grpSpPr>
          <p:sp>
            <p:nvSpPr>
              <p:cNvPr id="212" name="Oval 91"/>
              <p:cNvSpPr/>
              <p:nvPr/>
            </p:nvSpPr>
            <p:spPr>
              <a:xfrm rot="79800">
                <a:off x="6516360" y="4581000"/>
                <a:ext cx="304560" cy="3808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92"/>
              <p:cNvSpPr/>
              <p:nvPr/>
            </p:nvSpPr>
            <p:spPr>
              <a:xfrm>
                <a:off x="6589080" y="4786560"/>
                <a:ext cx="169920" cy="540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" name="Oval 93"/>
            <p:cNvSpPr/>
            <p:nvPr/>
          </p:nvSpPr>
          <p:spPr>
            <a:xfrm>
              <a:off x="7885080" y="459432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12"/>
          <p:cNvGrpSpPr/>
          <p:nvPr/>
        </p:nvGrpSpPr>
        <p:grpSpPr>
          <a:xfrm>
            <a:off x="6156360" y="1700280"/>
            <a:ext cx="2484360" cy="3962520"/>
            <a:chOff x="6156360" y="1700280"/>
            <a:chExt cx="2484360" cy="3962520"/>
          </a:xfrm>
        </p:grpSpPr>
        <p:grpSp>
          <p:nvGrpSpPr>
            <p:cNvPr id="216" name="Group 95"/>
            <p:cNvGrpSpPr/>
            <p:nvPr/>
          </p:nvGrpSpPr>
          <p:grpSpPr>
            <a:xfrm>
              <a:off x="6156360" y="1700280"/>
              <a:ext cx="2484360" cy="3962520"/>
              <a:chOff x="6156360" y="1700280"/>
              <a:chExt cx="2484360" cy="3962520"/>
            </a:xfrm>
          </p:grpSpPr>
          <p:grpSp>
            <p:nvGrpSpPr>
              <p:cNvPr id="217" name="Group 79"/>
              <p:cNvGrpSpPr/>
              <p:nvPr/>
            </p:nvGrpSpPr>
            <p:grpSpPr>
              <a:xfrm>
                <a:off x="6156360" y="1700280"/>
                <a:ext cx="2484360" cy="3962520"/>
                <a:chOff x="6156360" y="1700280"/>
                <a:chExt cx="2484360" cy="3962520"/>
              </a:xfrm>
            </p:grpSpPr>
            <p:grpSp>
              <p:nvGrpSpPr>
                <p:cNvPr id="218" name="Group 43"/>
                <p:cNvGrpSpPr/>
                <p:nvPr/>
              </p:nvGrpSpPr>
              <p:grpSpPr>
                <a:xfrm>
                  <a:off x="6156360" y="1700280"/>
                  <a:ext cx="2484360" cy="3277440"/>
                  <a:chOff x="6156360" y="1700280"/>
                  <a:chExt cx="2484360" cy="3277440"/>
                </a:xfrm>
              </p:grpSpPr>
              <p:sp>
                <p:nvSpPr>
                  <p:cNvPr id="219" name="Rectangle 44"/>
                  <p:cNvSpPr/>
                  <p:nvPr/>
                </p:nvSpPr>
                <p:spPr>
                  <a:xfrm>
                    <a:off x="6156360" y="1700280"/>
                    <a:ext cx="2484360" cy="128520"/>
                  </a:xfrm>
                  <a:prstGeom prst="rect">
                    <a:avLst/>
                  </a:prstGeom>
                  <a:solidFill>
                    <a:srgbClr val="8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45"/>
                  <p:cNvSpPr/>
                  <p:nvPr/>
                </p:nvSpPr>
                <p:spPr>
                  <a:xfrm flipH="1">
                    <a:off x="7954920" y="1842840"/>
                    <a:ext cx="360000" cy="11523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Rectangle 46"/>
                  <p:cNvSpPr/>
                  <p:nvPr/>
                </p:nvSpPr>
                <p:spPr>
                  <a:xfrm rot="20920800">
                    <a:off x="6803640" y="2923920"/>
                    <a:ext cx="344160" cy="2039760"/>
                  </a:xfrm>
                  <a:prstGeom prst="rect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吸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管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47"/>
                  <p:cNvSpPr/>
                  <p:nvPr/>
                </p:nvSpPr>
                <p:spPr>
                  <a:xfrm>
                    <a:off x="6441840" y="1841400"/>
                    <a:ext cx="361800" cy="10821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48"/>
                  <p:cNvSpPr/>
                  <p:nvPr/>
                </p:nvSpPr>
                <p:spPr>
                  <a:xfrm rot="658800">
                    <a:off x="7596000" y="2923560"/>
                    <a:ext cx="329760" cy="2016000"/>
                  </a:xfrm>
                  <a:prstGeom prst="flowChartProcess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玻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璃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800" spc="-1" strike="noStrike">
                        <a:solidFill>
                          <a:srgbClr val="000000"/>
                        </a:solidFill>
                        <a:latin typeface="Arial"/>
                      </a:rPr>
                      <a:t>丝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Text Box 49"/>
                <p:cNvSpPr/>
                <p:nvPr/>
              </p:nvSpPr>
              <p:spPr>
                <a:xfrm>
                  <a:off x="7010640" y="4959360"/>
                  <a:ext cx="790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4000" spc="-1" strike="noStrike">
                      <a:solidFill>
                        <a:srgbClr val="ff0000"/>
                      </a:solidFill>
                      <a:latin typeface="Arial"/>
                    </a:rPr>
                    <a:t>吸引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5" name="Group 59"/>
              <p:cNvGrpSpPr/>
              <p:nvPr/>
            </p:nvGrpSpPr>
            <p:grpSpPr>
              <a:xfrm>
                <a:off x="6938280" y="4491720"/>
                <a:ext cx="397440" cy="450000"/>
                <a:chOff x="6938280" y="4491720"/>
                <a:chExt cx="397440" cy="450000"/>
              </a:xfrm>
            </p:grpSpPr>
            <p:sp>
              <p:nvSpPr>
                <p:cNvPr id="226" name="Oval 60"/>
                <p:cNvSpPr/>
                <p:nvPr/>
              </p:nvSpPr>
              <p:spPr>
                <a:xfrm rot="20637000">
                  <a:off x="6984720" y="4526280"/>
                  <a:ext cx="304200" cy="38052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1"/>
                <p:cNvSpPr/>
                <p:nvPr/>
              </p:nvSpPr>
              <p:spPr>
                <a:xfrm flipV="1">
                  <a:off x="7065360" y="4708800"/>
                  <a:ext cx="163800" cy="45720"/>
                </a:xfrm>
                <a:prstGeom prst="line">
                  <a:avLst/>
                </a:prstGeom>
                <a:ln w="381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8" name="Oval 110"/>
            <p:cNvSpPr/>
            <p:nvPr/>
          </p:nvSpPr>
          <p:spPr>
            <a:xfrm rot="960000">
              <a:off x="7451280" y="4508280"/>
              <a:ext cx="330120" cy="401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99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 Box 113"/>
          <p:cNvSpPr/>
          <p:nvPr/>
        </p:nvSpPr>
        <p:spPr>
          <a:xfrm>
            <a:off x="3440520" y="981000"/>
            <a:ext cx="115524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：</a:t>
            </a: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同种电荷相互排斥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14"/>
          <p:cNvSpPr/>
          <p:nvPr/>
        </p:nvSpPr>
        <p:spPr>
          <a:xfrm>
            <a:off x="4720320" y="1716840"/>
            <a:ext cx="667800" cy="50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</a:rPr>
              <a:t>不同种电荷相互吸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15" descr="官方logo"/>
          <p:cNvPicPr/>
          <p:nvPr/>
        </p:nvPicPr>
        <p:blipFill>
          <a:blip r:embed="rId2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11" descr="555"/>
          <p:cNvPicPr/>
          <p:nvPr/>
        </p:nvPicPr>
        <p:blipFill>
          <a:blip r:embed="rId1"/>
          <a:stretch/>
        </p:blipFill>
        <p:spPr>
          <a:xfrm>
            <a:off x="2771640" y="171360"/>
            <a:ext cx="5472360" cy="41054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18"/>
          <p:cNvSpPr/>
          <p:nvPr/>
        </p:nvSpPr>
        <p:spPr>
          <a:xfrm>
            <a:off x="5618160" y="119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电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3"/>
          <p:cNvGrpSpPr/>
          <p:nvPr/>
        </p:nvGrpSpPr>
        <p:grpSpPr>
          <a:xfrm>
            <a:off x="613440" y="2349360"/>
            <a:ext cx="9359280" cy="4432320"/>
            <a:chOff x="613440" y="2349360"/>
            <a:chExt cx="9359280" cy="4432320"/>
          </a:xfrm>
        </p:grpSpPr>
        <p:grpSp>
          <p:nvGrpSpPr>
            <p:cNvPr id="235" name="Group 13"/>
            <p:cNvGrpSpPr/>
            <p:nvPr/>
          </p:nvGrpSpPr>
          <p:grpSpPr>
            <a:xfrm>
              <a:off x="957240" y="2349360"/>
              <a:ext cx="9015480" cy="4432320"/>
              <a:chOff x="957240" y="2349360"/>
              <a:chExt cx="9015480" cy="4432320"/>
            </a:xfrm>
          </p:grpSpPr>
          <p:pic>
            <p:nvPicPr>
              <p:cNvPr id="236" name="Picture 10" descr="444"/>
              <p:cNvPicPr/>
              <p:nvPr/>
            </p:nvPicPr>
            <p:blipFill>
              <a:blip r:embed="rId2"/>
              <a:stretch/>
            </p:blipFill>
            <p:spPr>
              <a:xfrm>
                <a:off x="4270320" y="2504880"/>
                <a:ext cx="5702400" cy="4276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7" name="Picture 12" descr="333"/>
              <p:cNvPicPr/>
              <p:nvPr/>
            </p:nvPicPr>
            <p:blipFill>
              <a:blip r:embed="rId3"/>
              <a:stretch/>
            </p:blipFill>
            <p:spPr>
              <a:xfrm>
                <a:off x="957240" y="2349360"/>
                <a:ext cx="5775480" cy="4332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8" name="Text Box 19"/>
            <p:cNvSpPr/>
            <p:nvPr/>
          </p:nvSpPr>
          <p:spPr>
            <a:xfrm>
              <a:off x="613440" y="294732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20"/>
            <p:cNvSpPr/>
            <p:nvPr/>
          </p:nvSpPr>
          <p:spPr>
            <a:xfrm>
              <a:off x="7239600" y="3009240"/>
              <a:ext cx="789840" cy="14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导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22"/>
          <p:cNvGrpSpPr/>
          <p:nvPr/>
        </p:nvGrpSpPr>
        <p:grpSpPr>
          <a:xfrm>
            <a:off x="3265560" y="5013360"/>
            <a:ext cx="5410080" cy="4057560"/>
            <a:chOff x="3265560" y="5013360"/>
            <a:chExt cx="5410080" cy="4057560"/>
          </a:xfrm>
        </p:grpSpPr>
        <p:pic>
          <p:nvPicPr>
            <p:cNvPr id="241" name="Picture 7" descr="22"/>
            <p:cNvPicPr/>
            <p:nvPr/>
          </p:nvPicPr>
          <p:blipFill>
            <a:blip r:embed="rId4"/>
            <a:stretch/>
          </p:blipFill>
          <p:spPr>
            <a:xfrm>
              <a:off x="3265560" y="5013360"/>
              <a:ext cx="54100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21"/>
            <p:cNvSpPr/>
            <p:nvPr/>
          </p:nvSpPr>
          <p:spPr>
            <a:xfrm>
              <a:off x="4029480" y="6040440"/>
              <a:ext cx="11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Arial"/>
                </a:rPr>
                <a:t>电   源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3" name="Picture 25" descr="官方logo"/>
          <p:cNvPicPr/>
          <p:nvPr/>
        </p:nvPicPr>
        <p:blipFill>
          <a:blip r:embed="rId5"/>
          <a:stretch/>
        </p:blipFill>
        <p:spPr>
          <a:xfrm>
            <a:off x="0" y="6218280"/>
            <a:ext cx="1332000" cy="63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22:21Z</dcterms:created>
  <dc:creator/>
  <dc:description/>
  <dc:language>en-US</dc:language>
  <cp:lastModifiedBy>Administrator</cp:lastModifiedBy>
  <dcterms:modified xsi:type="dcterms:W3CDTF">2016-02-24T04:55:43Z</dcterms:modified>
  <cp:revision>27</cp:revision>
  <dc:subject/>
  <dc:title>PowerPoint 演示文稿</dc:title>
</cp:coreProperties>
</file>