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DF64-2202-44EE-AC15-0BDFE5CF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1296-8C37-4DF1-9E5E-CB1DDCC0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82B5-444D-4DF0-898D-EDB14F7C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32AA-A36E-44C2-B1EE-80D66A338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CBBA-5195-4771-9DDE-6BFA342B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7D55-43B4-4BEF-B94C-227C74405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8CCE-29F1-4631-AB35-0E3671A7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A2E7-B4F3-465D-A2AF-71CB13B0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49C7-7E68-4F34-B021-8BFFF37A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6098-25E3-46FF-83B1-76AA9B9C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BD13-BA56-4F36-BF26-1840116E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ED4-1D49-47B8-B009-4CFFD93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59E8B-4822-4790-BEEB-CA494C381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340000" y="2276640"/>
            <a:ext cx="43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导体与绝缘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NQ6@@T$ZASM{0[8RNBZ`SWG"/>
          <p:cNvPicPr/>
          <p:nvPr/>
        </p:nvPicPr>
        <p:blipFill>
          <a:blip r:embed="rId1"/>
          <a:stretch/>
        </p:blipFill>
        <p:spPr>
          <a:xfrm>
            <a:off x="1979640" y="404640"/>
            <a:ext cx="5111640" cy="32036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3"/>
          <p:cNvSpPr/>
          <p:nvPr/>
        </p:nvSpPr>
        <p:spPr>
          <a:xfrm>
            <a:off x="1042920" y="3858120"/>
            <a:ext cx="741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观察电路连接，说说电流在电路中是怎么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将电路中的导线剪断，会出现什么情况，为什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重新接亮小灯泡，看看小灯泡会不会亮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金属头和塑料皮接触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把两个金属头接在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755640" y="1339560"/>
            <a:ext cx="76327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两个金属头接在一起，小灯泡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把外面的塑料皮接触在一起或把金属头和塑料皮接触在一起，小灯泡就不会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到底是为什么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铜丝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导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塑料那样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不容易让电流通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物质叫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绝缘体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U8%LA8NJR}JRI0CB908A[$Q"/>
          <p:cNvPicPr/>
          <p:nvPr/>
        </p:nvPicPr>
        <p:blipFill>
          <a:blip r:embed="rId1"/>
          <a:stretch/>
        </p:blipFill>
        <p:spPr>
          <a:xfrm>
            <a:off x="539640" y="1413000"/>
            <a:ext cx="3527640" cy="3673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4356000" y="1413000"/>
            <a:ext cx="44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预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橡皮能否通过电流使小灯泡发光，做好记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使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路检测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个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检测头相互接触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检验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用两个检测头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接触橡皮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端，观察小灯泡是否发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重复检测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，并将检测时小灯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情况记录下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647080" y="54936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“电路检测器”检测橡皮是导体还是绝缘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187160" y="5630040"/>
            <a:ext cx="4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论：橡皮是绝缘体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1011960" y="403920"/>
            <a:ext cx="30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物体的导电性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2421000"/>
          <a:ext cx="9109080" cy="3862440"/>
        </p:xfrm>
        <a:graphic>
          <a:graphicData uri="http://schemas.openxmlformats.org/drawingml/2006/table">
            <a:tbl>
              <a:tblPr/>
              <a:tblGrid>
                <a:gridCol w="1324080"/>
                <a:gridCol w="831600"/>
                <a:gridCol w="982800"/>
                <a:gridCol w="755640"/>
                <a:gridCol w="982800"/>
                <a:gridCol w="757080"/>
                <a:gridCol w="1057320"/>
                <a:gridCol w="981000"/>
                <a:gridCol w="1436760"/>
              </a:tblGrid>
              <a:tr h="43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物体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预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检测说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不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导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绝缘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橡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回形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白纸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73"/>
          <p:cNvSpPr/>
          <p:nvPr/>
        </p:nvSpPr>
        <p:spPr>
          <a:xfrm>
            <a:off x="468360" y="134136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的检测记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0Z1R%G@N~[IYKSR([8S8M8B"/>
          <p:cNvPicPr/>
          <p:nvPr/>
        </p:nvPicPr>
        <p:blipFill>
          <a:blip r:embed="rId1"/>
          <a:stretch/>
        </p:blipFill>
        <p:spPr>
          <a:xfrm>
            <a:off x="1835280" y="2637000"/>
            <a:ext cx="5476680" cy="4000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2~RS0I9PO61I9J[ESW]@$UQ"/>
          <p:cNvPicPr/>
          <p:nvPr/>
        </p:nvPicPr>
        <p:blipFill>
          <a:blip r:embed="rId2"/>
          <a:stretch/>
        </p:blipFill>
        <p:spPr>
          <a:xfrm>
            <a:off x="1042920" y="0"/>
            <a:ext cx="741672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未命名"/>
          <p:cNvPicPr/>
          <p:nvPr/>
        </p:nvPicPr>
        <p:blipFill>
          <a:blip r:embed="rId1"/>
          <a:stretch/>
        </p:blipFill>
        <p:spPr>
          <a:xfrm>
            <a:off x="1835280" y="1989000"/>
            <a:ext cx="5256000" cy="387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1"/>
          <p:cNvSpPr/>
          <p:nvPr/>
        </p:nvSpPr>
        <p:spPr>
          <a:xfrm>
            <a:off x="1403280" y="105264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教室里的电器设备哪些使用了绝缘材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@4%~QTXTM$$POQQGKC}~KV2"/>
          <p:cNvPicPr/>
          <p:nvPr/>
        </p:nvPicPr>
        <p:blipFill>
          <a:blip r:embed="rId1"/>
          <a:stretch/>
        </p:blipFill>
        <p:spPr>
          <a:xfrm>
            <a:off x="1187280" y="1844640"/>
            <a:ext cx="6824880" cy="2367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1567440" y="549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应该怎样正确使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346280" y="47966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好好保护电器设备上的绝缘体部分，注意安全用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2:34Z</dcterms:modified>
  <cp:revision>9</cp:revision>
  <dc:subject/>
  <dc:title>幻灯片 1</dc:title>
</cp:coreProperties>
</file>