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180-4892-4CC1-A5B2-4BC27F54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569-0002-4282-BE38-5164EE1E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DEA-098B-4715-8972-82D45799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7F2-96BF-4C11-BD1E-7888A682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152C-B8B0-4F21-B4BD-763CEE57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23A3-F050-4D93-9CF2-F7A65988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4520-62D3-4B3A-8679-A831D18E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DB0B-81C1-4EDD-8C0A-62BB7ED9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C943-0959-429A-8B99-5FAD0A05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AC6D-F02E-4D2C-A992-86F36A1B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DF7-B9EC-48AA-B008-33D27F9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E30-D4F3-4A3A-9A47-64E42DF9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DE5E-3A33-4C0C-8833-4998AA8D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CEAA-61F7-48BC-B678-36ED6D4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1805-4E2E-4FBC-848C-B23C4042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10CD-4754-4546-A7BC-7718901C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E722-3D43-4E3D-9DE9-F4E6329F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4DBE-F1D6-41A0-BF1D-50FF1870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DADB-2ADA-4D31-87B1-8607F26F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358C-C4EC-48C0-B459-4AC901AD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1259-88E2-49FA-8892-472357C6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D204-7440-4FA0-8384-7B6FF92B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05F-8C81-43D1-9B9E-347CAAA9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C9283-72B5-4083-8196-EC89C1D7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BB39-1070-4BCF-A916-B60F1132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FEAD-477D-4481-8E95-85C590CF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9359-9DDB-46D4-914C-9A13E75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B854-8546-4985-8626-DB8FAA09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D573-543A-4FF7-B1D3-303D34D5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FAD3-72EF-4ADA-A8CF-3387B6C4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CAA-6231-4AAB-B347-E6455A1E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AC9-BACB-4192-B82A-AD25FEEE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B17-2131-47CC-BC2F-A85CBE8B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D79-9DC1-4A2F-B51A-436E0459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0E0-BF33-49D9-8DC3-F066A50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92E-1E5E-4729-A2BC-E181A744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CB01-BF36-4072-B041-3A53151DFC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D48B-5530-418A-A604-EA8FB5F76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A85B-6617-457F-8BFF-C490E6C929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无标题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32000" y="227664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468360" y="549360"/>
            <a:ext cx="4667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教科版四年级科学下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9" name="Picture 11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042920" y="2133720"/>
            <a:ext cx="597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7" name="Picture 5" descr="官方logo"/>
          <p:cNvPicPr/>
          <p:nvPr/>
        </p:nvPicPr>
        <p:blipFill>
          <a:blip r:embed="rId1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IMG_4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69132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656480" y="76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39212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00884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84812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丝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422360" y="90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玻璃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294000" y="251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橡胶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04_1"/>
          <p:cNvPicPr/>
          <p:nvPr/>
        </p:nvPicPr>
        <p:blipFill>
          <a:blip r:embed="rId2"/>
          <a:stretch/>
        </p:blipFill>
        <p:spPr>
          <a:xfrm>
            <a:off x="0" y="1197000"/>
            <a:ext cx="2843280" cy="3960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567960" y="26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50920" y="5445000"/>
            <a:ext cx="92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静电存在于一切物质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IMG_4605"/>
          <p:cNvPicPr/>
          <p:nvPr/>
        </p:nvPicPr>
        <p:blipFill>
          <a:blip r:embed="rId3"/>
          <a:stretch/>
        </p:blipFill>
        <p:spPr>
          <a:xfrm>
            <a:off x="2916360" y="1197000"/>
            <a:ext cx="3095640" cy="396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IMG_4607"/>
          <p:cNvPicPr/>
          <p:nvPr/>
        </p:nvPicPr>
        <p:blipFill>
          <a:blip r:embed="rId4"/>
          <a:srcRect l="4992" t="0" r="11236" b="0"/>
          <a:stretch/>
        </p:blipFill>
        <p:spPr>
          <a:xfrm>
            <a:off x="6084720" y="1197000"/>
            <a:ext cx="305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40480" y="28195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通常物体不显示带点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02.mpg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4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884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2" descr="opposites_attract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2" name="Group 27"/>
          <p:cNvGrpSpPr/>
          <p:nvPr/>
        </p:nvGrpSpPr>
        <p:grpSpPr>
          <a:xfrm>
            <a:off x="5148360" y="765000"/>
            <a:ext cx="2952360" cy="4895280"/>
            <a:chOff x="5148360" y="765000"/>
            <a:chExt cx="2952360" cy="4895280"/>
          </a:xfrm>
        </p:grpSpPr>
        <p:grpSp>
          <p:nvGrpSpPr>
            <p:cNvPr id="153" name="Group 20"/>
            <p:cNvGrpSpPr/>
            <p:nvPr/>
          </p:nvGrpSpPr>
          <p:grpSpPr>
            <a:xfrm>
              <a:off x="5148360" y="765000"/>
              <a:ext cx="2952360" cy="4895280"/>
              <a:chOff x="5148360" y="765000"/>
              <a:chExt cx="2952360" cy="4895280"/>
            </a:xfrm>
          </p:grpSpPr>
          <p:sp>
            <p:nvSpPr>
              <p:cNvPr id="154" name="Rectangle 14"/>
              <p:cNvSpPr/>
              <p:nvPr/>
            </p:nvSpPr>
            <p:spPr>
              <a:xfrm>
                <a:off x="5148360" y="765000"/>
                <a:ext cx="2952360" cy="188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"/>
              <p:cNvSpPr/>
              <p:nvPr/>
            </p:nvSpPr>
            <p:spPr>
              <a:xfrm>
                <a:off x="738900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7"/>
              <p:cNvSpPr/>
              <p:nvPr/>
            </p:nvSpPr>
            <p:spPr>
              <a:xfrm>
                <a:off x="7185600" y="26467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75964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9"/>
              <p:cNvSpPr/>
              <p:nvPr/>
            </p:nvSpPr>
            <p:spPr>
              <a:xfrm>
                <a:off x="5622840" y="26449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Oval 25"/>
            <p:cNvSpPr/>
            <p:nvPr/>
          </p:nvSpPr>
          <p:spPr>
            <a:xfrm>
              <a:off x="565164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6"/>
            <p:cNvSpPr/>
            <p:nvPr/>
          </p:nvSpPr>
          <p:spPr>
            <a:xfrm>
              <a:off x="7221600" y="52722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1"/>
          <p:cNvGrpSpPr/>
          <p:nvPr/>
        </p:nvGrpSpPr>
        <p:grpSpPr>
          <a:xfrm>
            <a:off x="1042920" y="765000"/>
            <a:ext cx="2879280" cy="4897080"/>
            <a:chOff x="1042920" y="765000"/>
            <a:chExt cx="2879280" cy="4897080"/>
          </a:xfrm>
        </p:grpSpPr>
        <p:grpSp>
          <p:nvGrpSpPr>
            <p:cNvPr id="162" name="Group 12"/>
            <p:cNvGrpSpPr/>
            <p:nvPr/>
          </p:nvGrpSpPr>
          <p:grpSpPr>
            <a:xfrm>
              <a:off x="1042920" y="765000"/>
              <a:ext cx="2879280" cy="4897080"/>
              <a:chOff x="1042920" y="765000"/>
              <a:chExt cx="2879280" cy="4897080"/>
            </a:xfrm>
          </p:grpSpPr>
          <p:sp>
            <p:nvSpPr>
              <p:cNvPr id="163" name="Rectangle 4"/>
              <p:cNvSpPr/>
              <p:nvPr/>
            </p:nvSpPr>
            <p:spPr>
              <a:xfrm>
                <a:off x="1042920" y="765000"/>
                <a:ext cx="2879280" cy="189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6"/>
              <p:cNvSpPr/>
              <p:nvPr/>
            </p:nvSpPr>
            <p:spPr>
              <a:xfrm>
                <a:off x="32281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43892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0"/>
              <p:cNvSpPr/>
              <p:nvPr/>
            </p:nvSpPr>
            <p:spPr>
              <a:xfrm>
                <a:off x="302904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1"/>
              <p:cNvSpPr/>
              <p:nvPr/>
            </p:nvSpPr>
            <p:spPr>
              <a:xfrm>
                <a:off x="16387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Oval 29"/>
            <p:cNvSpPr/>
            <p:nvPr/>
          </p:nvSpPr>
          <p:spPr>
            <a:xfrm>
              <a:off x="1461960" y="52434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0"/>
            <p:cNvSpPr/>
            <p:nvPr/>
          </p:nvSpPr>
          <p:spPr>
            <a:xfrm>
              <a:off x="304488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34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50920" y="2205000"/>
            <a:ext cx="109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手拿住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红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部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快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摩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要再接触摩擦过的部位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物体挂在黑色部位，一个一个完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先预测，后实验 ，及时记录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64080" y="949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温馨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9"/>
          <p:cNvGrpSpPr/>
          <p:nvPr/>
        </p:nvGrpSpPr>
        <p:grpSpPr>
          <a:xfrm>
            <a:off x="1201320" y="3860640"/>
            <a:ext cx="2147760" cy="2742120"/>
            <a:chOff x="1201320" y="3860640"/>
            <a:chExt cx="2147760" cy="2742120"/>
          </a:xfrm>
        </p:grpSpPr>
        <p:grpSp>
          <p:nvGrpSpPr>
            <p:cNvPr id="177" name="Group 88"/>
            <p:cNvGrpSpPr/>
            <p:nvPr/>
          </p:nvGrpSpPr>
          <p:grpSpPr>
            <a:xfrm>
              <a:off x="1201320" y="3860640"/>
              <a:ext cx="2147760" cy="2742120"/>
              <a:chOff x="1201320" y="3860640"/>
              <a:chExt cx="2147760" cy="2742120"/>
            </a:xfrm>
          </p:grpSpPr>
          <p:grpSp>
            <p:nvGrpSpPr>
              <p:cNvPr id="178" name="Group 82"/>
              <p:cNvGrpSpPr/>
              <p:nvPr/>
            </p:nvGrpSpPr>
            <p:grpSpPr>
              <a:xfrm>
                <a:off x="1201320" y="3860640"/>
                <a:ext cx="2147760" cy="2313720"/>
                <a:chOff x="1201320" y="3860640"/>
                <a:chExt cx="2147760" cy="2313720"/>
              </a:xfrm>
            </p:grpSpPr>
            <p:sp>
              <p:nvSpPr>
                <p:cNvPr id="179" name="Rectangle 20"/>
                <p:cNvSpPr/>
                <p:nvPr/>
              </p:nvSpPr>
              <p:spPr>
                <a:xfrm>
                  <a:off x="1477800" y="3860640"/>
                  <a:ext cx="1871280" cy="1220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1"/>
                <p:cNvSpPr/>
                <p:nvPr/>
              </p:nvSpPr>
              <p:spPr>
                <a:xfrm>
                  <a:off x="2485800" y="4005000"/>
                  <a:ext cx="20592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2"/>
                <p:cNvSpPr/>
                <p:nvPr/>
              </p:nvSpPr>
              <p:spPr>
                <a:xfrm flipH="1">
                  <a:off x="1900080" y="4005000"/>
                  <a:ext cx="29808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23"/>
                <p:cNvSpPr/>
                <p:nvPr/>
              </p:nvSpPr>
              <p:spPr>
                <a:xfrm rot="1267800">
                  <a:off x="1474560" y="4597200"/>
                  <a:ext cx="307800" cy="157464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24"/>
                <p:cNvSpPr/>
                <p:nvPr/>
              </p:nvSpPr>
              <p:spPr>
                <a:xfrm rot="20477400">
                  <a:off x="2814480" y="4593960"/>
                  <a:ext cx="286920" cy="151308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38"/>
              <p:cNvSpPr/>
              <p:nvPr/>
            </p:nvSpPr>
            <p:spPr>
              <a:xfrm>
                <a:off x="1997640" y="6021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</a:rPr>
                  <a:t>排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2"/>
              <p:cNvSpPr/>
              <p:nvPr/>
            </p:nvSpPr>
            <p:spPr>
              <a:xfrm rot="1556400">
                <a:off x="1258920" y="5805000"/>
                <a:ext cx="288720" cy="29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63"/>
            <p:cNvSpPr/>
            <p:nvPr/>
          </p:nvSpPr>
          <p:spPr>
            <a:xfrm rot="20637000">
              <a:off x="2988720" y="5760720"/>
              <a:ext cx="2890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67"/>
          <p:cNvSpPr/>
          <p:nvPr/>
        </p:nvSpPr>
        <p:spPr>
          <a:xfrm>
            <a:off x="160020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7"/>
          <p:cNvGrpSpPr/>
          <p:nvPr/>
        </p:nvGrpSpPr>
        <p:grpSpPr>
          <a:xfrm>
            <a:off x="1140480" y="836640"/>
            <a:ext cx="2185560" cy="2740320"/>
            <a:chOff x="1140480" y="836640"/>
            <a:chExt cx="2185560" cy="2740320"/>
          </a:xfrm>
        </p:grpSpPr>
        <p:grpSp>
          <p:nvGrpSpPr>
            <p:cNvPr id="189" name="Group 81"/>
            <p:cNvGrpSpPr/>
            <p:nvPr/>
          </p:nvGrpSpPr>
          <p:grpSpPr>
            <a:xfrm>
              <a:off x="1145160" y="836640"/>
              <a:ext cx="2180880" cy="2388600"/>
              <a:chOff x="1145160" y="836640"/>
              <a:chExt cx="2180880" cy="23886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409400" y="836640"/>
                <a:ext cx="1871640" cy="1220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428560" y="981000"/>
                <a:ext cx="2048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 flipH="1">
                <a:off x="1841040" y="981000"/>
                <a:ext cx="3002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7"/>
              <p:cNvSpPr/>
              <p:nvPr/>
            </p:nvSpPr>
            <p:spPr>
              <a:xfrm rot="1267800">
                <a:off x="1418760" y="1569960"/>
                <a:ext cx="292320" cy="15732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18"/>
              <p:cNvSpPr/>
              <p:nvPr/>
            </p:nvSpPr>
            <p:spPr>
              <a:xfrm rot="20477400">
                <a:off x="2779200" y="1566360"/>
                <a:ext cx="288720" cy="1656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7"/>
            <p:cNvSpPr/>
            <p:nvPr/>
          </p:nvSpPr>
          <p:spPr>
            <a:xfrm>
              <a:off x="1696680" y="2995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排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83"/>
            <p:cNvGrpSpPr/>
            <p:nvPr/>
          </p:nvGrpSpPr>
          <p:grpSpPr>
            <a:xfrm>
              <a:off x="1140480" y="2745360"/>
              <a:ext cx="381240" cy="378000"/>
              <a:chOff x="1140480" y="2745360"/>
              <a:chExt cx="381240" cy="378000"/>
            </a:xfrm>
          </p:grpSpPr>
          <p:sp>
            <p:nvSpPr>
              <p:cNvPr id="197" name="Oval 51"/>
              <p:cNvSpPr/>
              <p:nvPr/>
            </p:nvSpPr>
            <p:spPr>
              <a:xfrm rot="1556400">
                <a:off x="1187280" y="2793960"/>
                <a:ext cx="287280" cy="280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1265040" y="2925720"/>
                <a:ext cx="144360" cy="69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4"/>
            <p:cNvGrpSpPr/>
            <p:nvPr/>
          </p:nvGrpSpPr>
          <p:grpSpPr>
            <a:xfrm>
              <a:off x="2933280" y="2822760"/>
              <a:ext cx="389880" cy="398160"/>
              <a:chOff x="2933280" y="2822760"/>
              <a:chExt cx="389880" cy="398160"/>
            </a:xfrm>
          </p:grpSpPr>
          <p:sp>
            <p:nvSpPr>
              <p:cNvPr id="200" name="Oval 85"/>
              <p:cNvSpPr/>
              <p:nvPr/>
            </p:nvSpPr>
            <p:spPr>
              <a:xfrm rot="20081400">
                <a:off x="2984400" y="2869200"/>
                <a:ext cx="28728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86"/>
              <p:cNvSpPr/>
              <p:nvPr/>
            </p:nvSpPr>
            <p:spPr>
              <a:xfrm flipV="1">
                <a:off x="3079800" y="3002040"/>
                <a:ext cx="149400" cy="651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11"/>
          <p:cNvGrpSpPr/>
          <p:nvPr/>
        </p:nvGrpSpPr>
        <p:grpSpPr>
          <a:xfrm>
            <a:off x="6156360" y="1700280"/>
            <a:ext cx="2484000" cy="4322880"/>
            <a:chOff x="6156360" y="1700280"/>
            <a:chExt cx="2484000" cy="4322880"/>
          </a:xfrm>
        </p:grpSpPr>
        <p:grpSp>
          <p:nvGrpSpPr>
            <p:cNvPr id="203" name="Group 42"/>
            <p:cNvGrpSpPr/>
            <p:nvPr/>
          </p:nvGrpSpPr>
          <p:grpSpPr>
            <a:xfrm>
              <a:off x="6156360" y="1700280"/>
              <a:ext cx="2484000" cy="4322880"/>
              <a:chOff x="6156360" y="1700280"/>
              <a:chExt cx="2484000" cy="4322880"/>
            </a:xfrm>
          </p:grpSpPr>
          <p:grpSp>
            <p:nvGrpSpPr>
              <p:cNvPr id="204" name="Group 34"/>
              <p:cNvGrpSpPr/>
              <p:nvPr/>
            </p:nvGrpSpPr>
            <p:grpSpPr>
              <a:xfrm>
                <a:off x="6156360" y="1700280"/>
                <a:ext cx="2484000" cy="3313080"/>
                <a:chOff x="6156360" y="1700280"/>
                <a:chExt cx="2484000" cy="3313080"/>
              </a:xfrm>
            </p:grpSpPr>
            <p:sp>
              <p:nvSpPr>
                <p:cNvPr id="205" name="Rectangle 27"/>
                <p:cNvSpPr/>
                <p:nvPr/>
              </p:nvSpPr>
              <p:spPr>
                <a:xfrm>
                  <a:off x="6156360" y="1700280"/>
                  <a:ext cx="2484000" cy="1285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8"/>
                <p:cNvSpPr/>
                <p:nvPr/>
              </p:nvSpPr>
              <p:spPr>
                <a:xfrm>
                  <a:off x="804204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9"/>
                <p:cNvSpPr/>
                <p:nvPr/>
              </p:nvSpPr>
              <p:spPr>
                <a:xfrm>
                  <a:off x="6497280" y="2973240"/>
                  <a:ext cx="345240" cy="20401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1"/>
                <p:cNvSpPr/>
                <p:nvPr/>
              </p:nvSpPr>
              <p:spPr>
                <a:xfrm>
                  <a:off x="667080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32"/>
                <p:cNvSpPr/>
                <p:nvPr/>
              </p:nvSpPr>
              <p:spPr>
                <a:xfrm>
                  <a:off x="7895880" y="2997000"/>
                  <a:ext cx="330120" cy="201636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39"/>
              <p:cNvSpPr/>
              <p:nvPr/>
            </p:nvSpPr>
            <p:spPr>
              <a:xfrm>
                <a:off x="7139160" y="501480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0000"/>
                    </a:solidFill>
                    <a:latin typeface="Arial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0"/>
            <p:cNvGrpSpPr/>
            <p:nvPr/>
          </p:nvGrpSpPr>
          <p:grpSpPr>
            <a:xfrm>
              <a:off x="6512040" y="4577760"/>
              <a:ext cx="313560" cy="387720"/>
              <a:chOff x="6512040" y="4577760"/>
              <a:chExt cx="313560" cy="387720"/>
            </a:xfrm>
          </p:grpSpPr>
          <p:sp>
            <p:nvSpPr>
              <p:cNvPr id="212" name="Oval 91"/>
              <p:cNvSpPr/>
              <p:nvPr/>
            </p:nvSpPr>
            <p:spPr>
              <a:xfrm rot="79800">
                <a:off x="6516360" y="4581000"/>
                <a:ext cx="30456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2"/>
              <p:cNvSpPr/>
              <p:nvPr/>
            </p:nvSpPr>
            <p:spPr>
              <a:xfrm>
                <a:off x="6589080" y="4786560"/>
                <a:ext cx="169920" cy="5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Oval 93"/>
            <p:cNvSpPr/>
            <p:nvPr/>
          </p:nvSpPr>
          <p:spPr>
            <a:xfrm>
              <a:off x="7885080" y="459432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2"/>
          <p:cNvGrpSpPr/>
          <p:nvPr/>
        </p:nvGrpSpPr>
        <p:grpSpPr>
          <a:xfrm>
            <a:off x="6156360" y="1700280"/>
            <a:ext cx="2484360" cy="3962520"/>
            <a:chOff x="6156360" y="1700280"/>
            <a:chExt cx="2484360" cy="3962520"/>
          </a:xfrm>
        </p:grpSpPr>
        <p:grpSp>
          <p:nvGrpSpPr>
            <p:cNvPr id="216" name="Group 95"/>
            <p:cNvGrpSpPr/>
            <p:nvPr/>
          </p:nvGrpSpPr>
          <p:grpSpPr>
            <a:xfrm>
              <a:off x="6156360" y="1700280"/>
              <a:ext cx="2484360" cy="3962520"/>
              <a:chOff x="6156360" y="1700280"/>
              <a:chExt cx="2484360" cy="3962520"/>
            </a:xfrm>
          </p:grpSpPr>
          <p:grpSp>
            <p:nvGrpSpPr>
              <p:cNvPr id="217" name="Group 79"/>
              <p:cNvGrpSpPr/>
              <p:nvPr/>
            </p:nvGrpSpPr>
            <p:grpSpPr>
              <a:xfrm>
                <a:off x="6156360" y="1700280"/>
                <a:ext cx="2484360" cy="3962520"/>
                <a:chOff x="6156360" y="1700280"/>
                <a:chExt cx="2484360" cy="3962520"/>
              </a:xfrm>
            </p:grpSpPr>
            <p:grpSp>
              <p:nvGrpSpPr>
                <p:cNvPr id="218" name="Group 43"/>
                <p:cNvGrpSpPr/>
                <p:nvPr/>
              </p:nvGrpSpPr>
              <p:grpSpPr>
                <a:xfrm>
                  <a:off x="6156360" y="1700280"/>
                  <a:ext cx="2484360" cy="3277440"/>
                  <a:chOff x="6156360" y="1700280"/>
                  <a:chExt cx="2484360" cy="3277440"/>
                </a:xfrm>
              </p:grpSpPr>
              <p:sp>
                <p:nvSpPr>
                  <p:cNvPr id="219" name="Rectangle 44"/>
                  <p:cNvSpPr/>
                  <p:nvPr/>
                </p:nvSpPr>
                <p:spPr>
                  <a:xfrm>
                    <a:off x="6156360" y="1700280"/>
                    <a:ext cx="2484360" cy="12852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954920" y="1842840"/>
                    <a:ext cx="360000" cy="1152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Rectangle 46"/>
                  <p:cNvSpPr/>
                  <p:nvPr/>
                </p:nvSpPr>
                <p:spPr>
                  <a:xfrm rot="20920800">
                    <a:off x="6803640" y="2923920"/>
                    <a:ext cx="344160" cy="20397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管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6441840" y="1841400"/>
                    <a:ext cx="361800" cy="1082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48"/>
                  <p:cNvSpPr/>
                  <p:nvPr/>
                </p:nvSpPr>
                <p:spPr>
                  <a:xfrm rot="658800">
                    <a:off x="7596000" y="2923560"/>
                    <a:ext cx="329760" cy="2016000"/>
                  </a:xfrm>
                  <a:prstGeom prst="flowChartProcess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玻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璃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49"/>
                <p:cNvSpPr/>
                <p:nvPr/>
              </p:nvSpPr>
              <p:spPr>
                <a:xfrm>
                  <a:off x="7010640" y="4959360"/>
                  <a:ext cx="790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0000"/>
                      </a:solidFill>
                      <a:latin typeface="Arial"/>
                    </a:rPr>
                    <a:t>吸引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9"/>
              <p:cNvGrpSpPr/>
              <p:nvPr/>
            </p:nvGrpSpPr>
            <p:grpSpPr>
              <a:xfrm>
                <a:off x="6938280" y="4491720"/>
                <a:ext cx="397440" cy="450000"/>
                <a:chOff x="6938280" y="4491720"/>
                <a:chExt cx="397440" cy="450000"/>
              </a:xfrm>
            </p:grpSpPr>
            <p:sp>
              <p:nvSpPr>
                <p:cNvPr id="226" name="Oval 60"/>
                <p:cNvSpPr/>
                <p:nvPr/>
              </p:nvSpPr>
              <p:spPr>
                <a:xfrm rot="20637000">
                  <a:off x="6984720" y="4526280"/>
                  <a:ext cx="30420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1"/>
                <p:cNvSpPr/>
                <p:nvPr/>
              </p:nvSpPr>
              <p:spPr>
                <a:xfrm flipV="1">
                  <a:off x="7065360" y="4708800"/>
                  <a:ext cx="163800" cy="45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Oval 110"/>
            <p:cNvSpPr/>
            <p:nvPr/>
          </p:nvSpPr>
          <p:spPr>
            <a:xfrm rot="960000">
              <a:off x="7451280" y="450828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13"/>
          <p:cNvSpPr/>
          <p:nvPr/>
        </p:nvSpPr>
        <p:spPr>
          <a:xfrm>
            <a:off x="3440520" y="981000"/>
            <a:ext cx="11552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同种电荷相互排斥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4"/>
          <p:cNvSpPr/>
          <p:nvPr/>
        </p:nvSpPr>
        <p:spPr>
          <a:xfrm>
            <a:off x="4720320" y="171684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同种电荷相互吸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555"/>
          <p:cNvPicPr/>
          <p:nvPr/>
        </p:nvPicPr>
        <p:blipFill>
          <a:blip r:embed="rId1"/>
          <a:stretch/>
        </p:blipFill>
        <p:spPr>
          <a:xfrm>
            <a:off x="2771640" y="17136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8"/>
          <p:cNvSpPr/>
          <p:nvPr/>
        </p:nvSpPr>
        <p:spPr>
          <a:xfrm>
            <a:off x="561816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电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613440" y="2349360"/>
            <a:ext cx="9359280" cy="4432320"/>
            <a:chOff x="613440" y="2349360"/>
            <a:chExt cx="9359280" cy="4432320"/>
          </a:xfrm>
        </p:grpSpPr>
        <p:grpSp>
          <p:nvGrpSpPr>
            <p:cNvPr id="235" name="Group 13"/>
            <p:cNvGrpSpPr/>
            <p:nvPr/>
          </p:nvGrpSpPr>
          <p:grpSpPr>
            <a:xfrm>
              <a:off x="957240" y="2349360"/>
              <a:ext cx="9015480" cy="4432320"/>
              <a:chOff x="957240" y="2349360"/>
              <a:chExt cx="9015480" cy="4432320"/>
            </a:xfrm>
          </p:grpSpPr>
          <p:pic>
            <p:nvPicPr>
              <p:cNvPr id="236" name="Picture 10" descr="444"/>
              <p:cNvPicPr/>
              <p:nvPr/>
            </p:nvPicPr>
            <p:blipFill>
              <a:blip r:embed="rId2"/>
              <a:stretch/>
            </p:blipFill>
            <p:spPr>
              <a:xfrm>
                <a:off x="4270320" y="2504880"/>
                <a:ext cx="5702400" cy="42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2" descr="333"/>
              <p:cNvPicPr/>
              <p:nvPr/>
            </p:nvPicPr>
            <p:blipFill>
              <a:blip r:embed="rId3"/>
              <a:stretch/>
            </p:blipFill>
            <p:spPr>
              <a:xfrm>
                <a:off x="957240" y="2349360"/>
                <a:ext cx="5775480" cy="433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" name="Text Box 19"/>
            <p:cNvSpPr/>
            <p:nvPr/>
          </p:nvSpPr>
          <p:spPr>
            <a:xfrm>
              <a:off x="613440" y="294732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7239600" y="300924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3265560" y="5013360"/>
            <a:ext cx="5410080" cy="4057560"/>
            <a:chOff x="3265560" y="5013360"/>
            <a:chExt cx="5410080" cy="4057560"/>
          </a:xfrm>
        </p:grpSpPr>
        <p:pic>
          <p:nvPicPr>
            <p:cNvPr id="241" name="Picture 7" descr="22"/>
            <p:cNvPicPr/>
            <p:nvPr/>
          </p:nvPicPr>
          <p:blipFill>
            <a:blip r:embed="rId4"/>
            <a:stretch/>
          </p:blipFill>
          <p:spPr>
            <a:xfrm>
              <a:off x="3265560" y="501336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1"/>
            <p:cNvSpPr/>
            <p:nvPr/>
          </p:nvSpPr>
          <p:spPr>
            <a:xfrm>
              <a:off x="4029480" y="6040440"/>
              <a:ext cx="11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电   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5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22:21Z</dcterms:created>
  <dc:creator/>
  <dc:description/>
  <dc:language>en-US</dc:language>
  <cp:lastModifiedBy>Administrator</cp:lastModifiedBy>
  <dcterms:modified xsi:type="dcterms:W3CDTF">2016-02-24T04:55:43Z</dcterms:modified>
  <cp:revision>27</cp:revision>
  <dc:subject/>
  <dc:title>PowerPoint 演示文稿</dc:title>
</cp:coreProperties>
</file>