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DB9-7939-491B-948F-87FFDED6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68B-6578-411E-BA39-57EB0623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A1D-DA00-4B89-A75E-3DD338A8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F19-D691-4BFF-BE8B-924FAB0F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5A9-73C8-447C-BB2B-946F7D09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5C2-F5C2-4054-BA5D-446001EF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FC0-9492-482F-8A91-EDB04CB5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420-F4FE-4B78-9E2F-76554B2E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D61-BE5B-461D-A28A-EE6C630E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B1F-9CD4-46DD-A167-58EC2E54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24A-3A80-4896-93C1-D349C00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8B0-596E-478E-9DA0-DE8B20DC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9525-8585-416B-8BE5-5CC245B29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340000" y="227664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导体与绝缘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Q6@@T$ZASM{0[8RNBZ`SWG"/>
          <p:cNvPicPr/>
          <p:nvPr/>
        </p:nvPicPr>
        <p:blipFill>
          <a:blip r:embed="rId1"/>
          <a:stretch/>
        </p:blipFill>
        <p:spPr>
          <a:xfrm>
            <a:off x="1979640" y="404640"/>
            <a:ext cx="5111640" cy="3203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3"/>
          <p:cNvSpPr/>
          <p:nvPr/>
        </p:nvSpPr>
        <p:spPr>
          <a:xfrm>
            <a:off x="1042920" y="38581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观察电路连接，说说电流在电路中是怎么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将电路中的导线剪断，会出现什么情况，为什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重新接亮小灯泡，看看小灯泡会不会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金属头和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金属头接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55640" y="133956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金属头接在一起，小灯泡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把外面的塑料皮接触在一起或把金属头和塑料皮接触在一起，小灯泡就不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到底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铜丝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导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塑料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不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绝缘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8%LA8NJR}JRI0CB908A[$Q"/>
          <p:cNvPicPr/>
          <p:nvPr/>
        </p:nvPicPr>
        <p:blipFill>
          <a:blip r:embed="rId1"/>
          <a:stretch/>
        </p:blipFill>
        <p:spPr>
          <a:xfrm>
            <a:off x="539640" y="1413000"/>
            <a:ext cx="3527640" cy="367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356000" y="141300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预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橡皮能否通过电流使小灯泡发光，做好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路检测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检测头相互接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检验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两个检测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接触橡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端，观察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复检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，并将检测时小灯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记录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647080" y="54936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“电路检测器”检测橡皮是导体还是绝缘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187160" y="563004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论：橡皮是绝缘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11960" y="4039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检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物体的导电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421000"/>
          <a:ext cx="9109080" cy="3862440"/>
        </p:xfrm>
        <a:graphic>
          <a:graphicData uri="http://schemas.openxmlformats.org/drawingml/2006/table">
            <a:tbl>
              <a:tblPr/>
              <a:tblGrid>
                <a:gridCol w="1324080"/>
                <a:gridCol w="831600"/>
                <a:gridCol w="982800"/>
                <a:gridCol w="755640"/>
                <a:gridCol w="982800"/>
                <a:gridCol w="757080"/>
                <a:gridCol w="1057320"/>
                <a:gridCol w="981000"/>
                <a:gridCol w="1436760"/>
              </a:tblGrid>
              <a:tr h="43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预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说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绝缘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橡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形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塑料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纸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73"/>
          <p:cNvSpPr/>
          <p:nvPr/>
        </p:nvSpPr>
        <p:spPr>
          <a:xfrm>
            <a:off x="46836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的检测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0Z1R%G@N~[IYKSR([8S8M8B"/>
          <p:cNvPicPr/>
          <p:nvPr/>
        </p:nvPicPr>
        <p:blipFill>
          <a:blip r:embed="rId1"/>
          <a:stretch/>
        </p:blipFill>
        <p:spPr>
          <a:xfrm>
            <a:off x="1835280" y="2637000"/>
            <a:ext cx="5476680" cy="40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2~RS0I9PO61I9J[ESW]@$UQ"/>
          <p:cNvPicPr/>
          <p:nvPr/>
        </p:nvPicPr>
        <p:blipFill>
          <a:blip r:embed="rId2"/>
          <a:stretch/>
        </p:blipFill>
        <p:spPr>
          <a:xfrm>
            <a:off x="1042920" y="0"/>
            <a:ext cx="7416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未命名"/>
          <p:cNvPicPr/>
          <p:nvPr/>
        </p:nvPicPr>
        <p:blipFill>
          <a:blip r:embed="rId1"/>
          <a:stretch/>
        </p:blipFill>
        <p:spPr>
          <a:xfrm>
            <a:off x="1835280" y="1989000"/>
            <a:ext cx="5256000" cy="387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1403280" y="105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教室里的电器设备哪些使用了绝缘材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@4%~QTXTM$$POQQGKC}~KV2"/>
          <p:cNvPicPr/>
          <p:nvPr/>
        </p:nvPicPr>
        <p:blipFill>
          <a:blip r:embed="rId1"/>
          <a:stretch/>
        </p:blipFill>
        <p:spPr>
          <a:xfrm>
            <a:off x="1187280" y="1844640"/>
            <a:ext cx="6824880" cy="2367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567440" y="5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应该怎样正确使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346280" y="4796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好好保护电器设备上的绝缘体部分，注意安全用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2:34Z</dcterms:modified>
  <cp:revision>9</cp:revision>
  <dc:subject/>
  <dc:title>幻灯片 1</dc:title>
</cp:coreProperties>
</file>