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8B5-0D25-4F37-8A3D-BB63E636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C1C-49FE-4E1A-8DE3-C759D4D0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59D-634E-4E46-A332-933F5C33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B36-B64D-4B27-854E-B1B4B436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2A27-9A23-4F02-B929-38133ABD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463D-06C3-4F31-9619-FF429E96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5713-0AAB-4481-92F7-0BFAEC2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55AA-AF62-4292-9890-B9128DC9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2941-485C-416A-8362-A9AA18E0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F005-0AD7-4632-AEF2-E5317D54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41C4-5479-4967-A8BC-7599FB2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201-F4F2-427E-AA15-C9FFB088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EA5-8272-4E5A-818B-8C77CEF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CD45-D24F-47D6-8DCE-FF6E1FCE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26D-FA09-4F4D-AF5B-E1D640A0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CEBF-4C8A-4430-82FC-44F4646D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E191-C1D1-44CC-9CEB-739C1C9D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2878-B136-4E9A-8ADC-F1671533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7C97-8517-4FF7-AA5E-F92E14A9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21D3-DA29-47DE-BBE3-35F0965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E31E-3815-49A2-A6A8-0FE47E8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2713-4F98-44EC-875E-5F3B2087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A55-CA8E-40EC-8FD8-05463164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6ECB-C0CC-4EEB-B400-9B837DFD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5395-265E-4278-8908-26A995D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45FE-AE7F-40ED-8C57-064DAB3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C2E5-0589-46CC-A0D2-C3C839F3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E393-8BA1-475F-83A4-666F9E0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A61C-DF45-4B05-9BF7-0233FACB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A07A-9AEB-4DAA-985E-FF7ADA02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8B0-BB74-4853-9D55-66679D3F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B9A-CEBB-49BF-A30D-F4C4EFA3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EB8-338D-4CFB-9A5A-A33FAC60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B1D-EC3D-4578-BB06-60D8536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47E-A8C1-408B-B335-2090378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7CE-BB11-46DD-9E98-F7D6C25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8739-187B-483F-97E5-D336B7B2D1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7CC8-58B0-4905-8F11-B813194B3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2E6D-58E6-4483-9DE1-4EDAC804E3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无标题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32000" y="227664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468360" y="549360"/>
            <a:ext cx="4667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教科版四年级科学下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9" name="Picture 11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042920" y="2133720"/>
            <a:ext cx="59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5" descr="官方logo"/>
          <p:cNvPicPr/>
          <p:nvPr/>
        </p:nvPicPr>
        <p:blipFill>
          <a:blip r:embed="rId1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691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5648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9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422360" y="90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玻璃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9400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橡胶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04_1"/>
          <p:cNvPicPr/>
          <p:nvPr/>
        </p:nvPicPr>
        <p:blipFill>
          <a:blip r:embed="rId2"/>
          <a:stretch/>
        </p:blipFill>
        <p:spPr>
          <a:xfrm>
            <a:off x="0" y="1197000"/>
            <a:ext cx="2843280" cy="396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567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50920" y="5445000"/>
            <a:ext cx="92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静电存在于一切物质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MG_4605"/>
          <p:cNvPicPr/>
          <p:nvPr/>
        </p:nvPicPr>
        <p:blipFill>
          <a:blip r:embed="rId3"/>
          <a:stretch/>
        </p:blipFill>
        <p:spPr>
          <a:xfrm>
            <a:off x="2916360" y="119700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MG_4607"/>
          <p:cNvPicPr/>
          <p:nvPr/>
        </p:nvPicPr>
        <p:blipFill>
          <a:blip r:embed="rId4"/>
          <a:srcRect l="4992" t="0" r="11236" b="0"/>
          <a:stretch/>
        </p:blipFill>
        <p:spPr>
          <a:xfrm>
            <a:off x="6084720" y="1197000"/>
            <a:ext cx="305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40480" y="28195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通常物体不显示带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.mpg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4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88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opposites_attract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2" name="Group 27"/>
          <p:cNvGrpSpPr/>
          <p:nvPr/>
        </p:nvGrpSpPr>
        <p:grpSpPr>
          <a:xfrm>
            <a:off x="5148360" y="765000"/>
            <a:ext cx="2952360" cy="4895280"/>
            <a:chOff x="5148360" y="765000"/>
            <a:chExt cx="2952360" cy="4895280"/>
          </a:xfrm>
        </p:grpSpPr>
        <p:grpSp>
          <p:nvGrpSpPr>
            <p:cNvPr id="153" name="Group 20"/>
            <p:cNvGrpSpPr/>
            <p:nvPr/>
          </p:nvGrpSpPr>
          <p:grpSpPr>
            <a:xfrm>
              <a:off x="5148360" y="765000"/>
              <a:ext cx="2952360" cy="4895280"/>
              <a:chOff x="5148360" y="765000"/>
              <a:chExt cx="2952360" cy="4895280"/>
            </a:xfrm>
          </p:grpSpPr>
          <p:sp>
            <p:nvSpPr>
              <p:cNvPr id="154" name="Rectangle 14"/>
              <p:cNvSpPr/>
              <p:nvPr/>
            </p:nvSpPr>
            <p:spPr>
              <a:xfrm>
                <a:off x="5148360" y="765000"/>
                <a:ext cx="2952360" cy="188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738900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7"/>
              <p:cNvSpPr/>
              <p:nvPr/>
            </p:nvSpPr>
            <p:spPr>
              <a:xfrm>
                <a:off x="7185600" y="26467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75964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9"/>
              <p:cNvSpPr/>
              <p:nvPr/>
            </p:nvSpPr>
            <p:spPr>
              <a:xfrm>
                <a:off x="5622840" y="26449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25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221600" y="52722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1"/>
          <p:cNvGrpSpPr/>
          <p:nvPr/>
        </p:nvGrpSpPr>
        <p:grpSpPr>
          <a:xfrm>
            <a:off x="1042920" y="765000"/>
            <a:ext cx="2879280" cy="4897080"/>
            <a:chOff x="1042920" y="765000"/>
            <a:chExt cx="2879280" cy="4897080"/>
          </a:xfrm>
        </p:grpSpPr>
        <p:grpSp>
          <p:nvGrpSpPr>
            <p:cNvPr id="162" name="Group 12"/>
            <p:cNvGrpSpPr/>
            <p:nvPr/>
          </p:nvGrpSpPr>
          <p:grpSpPr>
            <a:xfrm>
              <a:off x="1042920" y="765000"/>
              <a:ext cx="2879280" cy="4897080"/>
              <a:chOff x="1042920" y="765000"/>
              <a:chExt cx="2879280" cy="4897080"/>
            </a:xfrm>
          </p:grpSpPr>
          <p:sp>
            <p:nvSpPr>
              <p:cNvPr id="163" name="Rectangle 4"/>
              <p:cNvSpPr/>
              <p:nvPr/>
            </p:nvSpPr>
            <p:spPr>
              <a:xfrm>
                <a:off x="1042920" y="765000"/>
                <a:ext cx="2879280" cy="189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"/>
              <p:cNvSpPr/>
              <p:nvPr/>
            </p:nvSpPr>
            <p:spPr>
              <a:xfrm>
                <a:off x="32281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3892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302904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1"/>
              <p:cNvSpPr/>
              <p:nvPr/>
            </p:nvSpPr>
            <p:spPr>
              <a:xfrm>
                <a:off x="16387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29"/>
            <p:cNvSpPr/>
            <p:nvPr/>
          </p:nvSpPr>
          <p:spPr>
            <a:xfrm>
              <a:off x="1461960" y="52434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304488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34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0920" y="2205000"/>
            <a:ext cx="109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手拿住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红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部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摩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要再接触摩擦过的部位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物体挂在黑色部位，一个一个完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预测，后实验 ，及时记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64080" y="94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温馨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9"/>
          <p:cNvGrpSpPr/>
          <p:nvPr/>
        </p:nvGrpSpPr>
        <p:grpSpPr>
          <a:xfrm>
            <a:off x="1201320" y="3860640"/>
            <a:ext cx="2147760" cy="2742120"/>
            <a:chOff x="1201320" y="3860640"/>
            <a:chExt cx="2147760" cy="2742120"/>
          </a:xfrm>
        </p:grpSpPr>
        <p:grpSp>
          <p:nvGrpSpPr>
            <p:cNvPr id="177" name="Group 88"/>
            <p:cNvGrpSpPr/>
            <p:nvPr/>
          </p:nvGrpSpPr>
          <p:grpSpPr>
            <a:xfrm>
              <a:off x="1201320" y="3860640"/>
              <a:ext cx="2147760" cy="2742120"/>
              <a:chOff x="1201320" y="3860640"/>
              <a:chExt cx="2147760" cy="2742120"/>
            </a:xfrm>
          </p:grpSpPr>
          <p:grpSp>
            <p:nvGrpSpPr>
              <p:cNvPr id="178" name="Group 82"/>
              <p:cNvGrpSpPr/>
              <p:nvPr/>
            </p:nvGrpSpPr>
            <p:grpSpPr>
              <a:xfrm>
                <a:off x="1201320" y="3860640"/>
                <a:ext cx="2147760" cy="2313720"/>
                <a:chOff x="1201320" y="3860640"/>
                <a:chExt cx="2147760" cy="23137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1477800" y="3860640"/>
                  <a:ext cx="1871280" cy="1220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1"/>
                <p:cNvSpPr/>
                <p:nvPr/>
              </p:nvSpPr>
              <p:spPr>
                <a:xfrm>
                  <a:off x="2485800" y="4005000"/>
                  <a:ext cx="20592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2"/>
                <p:cNvSpPr/>
                <p:nvPr/>
              </p:nvSpPr>
              <p:spPr>
                <a:xfrm flipH="1">
                  <a:off x="1900080" y="4005000"/>
                  <a:ext cx="29808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23"/>
                <p:cNvSpPr/>
                <p:nvPr/>
              </p:nvSpPr>
              <p:spPr>
                <a:xfrm rot="1267800">
                  <a:off x="1474560" y="4597200"/>
                  <a:ext cx="307800" cy="157464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24"/>
                <p:cNvSpPr/>
                <p:nvPr/>
              </p:nvSpPr>
              <p:spPr>
                <a:xfrm rot="20477400">
                  <a:off x="2814480" y="4593960"/>
                  <a:ext cx="286920" cy="151308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8"/>
              <p:cNvSpPr/>
              <p:nvPr/>
            </p:nvSpPr>
            <p:spPr>
              <a:xfrm>
                <a:off x="1997640" y="6021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排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 rot="1556400">
                <a:off x="1258920" y="5805000"/>
                <a:ext cx="288720" cy="29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63"/>
            <p:cNvSpPr/>
            <p:nvPr/>
          </p:nvSpPr>
          <p:spPr>
            <a:xfrm rot="20637000">
              <a:off x="2988720" y="5760720"/>
              <a:ext cx="2890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7"/>
          <p:cNvGrpSpPr/>
          <p:nvPr/>
        </p:nvGrpSpPr>
        <p:grpSpPr>
          <a:xfrm>
            <a:off x="1140480" y="836640"/>
            <a:ext cx="2185560" cy="2740320"/>
            <a:chOff x="1140480" y="836640"/>
            <a:chExt cx="2185560" cy="2740320"/>
          </a:xfrm>
        </p:grpSpPr>
        <p:grpSp>
          <p:nvGrpSpPr>
            <p:cNvPr id="189" name="Group 81"/>
            <p:cNvGrpSpPr/>
            <p:nvPr/>
          </p:nvGrpSpPr>
          <p:grpSpPr>
            <a:xfrm>
              <a:off x="1145160" y="836640"/>
              <a:ext cx="2180880" cy="2388600"/>
              <a:chOff x="1145160" y="836640"/>
              <a:chExt cx="2180880" cy="23886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409400" y="836640"/>
                <a:ext cx="1871640" cy="1220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428560" y="981000"/>
                <a:ext cx="2048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H="1">
                <a:off x="1841040" y="981000"/>
                <a:ext cx="3002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rot="1267800">
                <a:off x="1418760" y="1569960"/>
                <a:ext cx="292320" cy="15732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8"/>
              <p:cNvSpPr/>
              <p:nvPr/>
            </p:nvSpPr>
            <p:spPr>
              <a:xfrm rot="20477400">
                <a:off x="2779200" y="1566360"/>
                <a:ext cx="288720" cy="1656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7"/>
            <p:cNvSpPr/>
            <p:nvPr/>
          </p:nvSpPr>
          <p:spPr>
            <a:xfrm>
              <a:off x="1696680" y="2995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排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83"/>
            <p:cNvGrpSpPr/>
            <p:nvPr/>
          </p:nvGrpSpPr>
          <p:grpSpPr>
            <a:xfrm>
              <a:off x="1140480" y="2745360"/>
              <a:ext cx="381240" cy="378000"/>
              <a:chOff x="1140480" y="2745360"/>
              <a:chExt cx="381240" cy="378000"/>
            </a:xfrm>
          </p:grpSpPr>
          <p:sp>
            <p:nvSpPr>
              <p:cNvPr id="197" name="Oval 51"/>
              <p:cNvSpPr/>
              <p:nvPr/>
            </p:nvSpPr>
            <p:spPr>
              <a:xfrm rot="1556400">
                <a:off x="1187280" y="2793960"/>
                <a:ext cx="287280" cy="28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1265040" y="2925720"/>
                <a:ext cx="144360" cy="69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4"/>
            <p:cNvGrpSpPr/>
            <p:nvPr/>
          </p:nvGrpSpPr>
          <p:grpSpPr>
            <a:xfrm>
              <a:off x="2933280" y="2822760"/>
              <a:ext cx="389880" cy="398160"/>
              <a:chOff x="2933280" y="2822760"/>
              <a:chExt cx="389880" cy="398160"/>
            </a:xfrm>
          </p:grpSpPr>
          <p:sp>
            <p:nvSpPr>
              <p:cNvPr id="200" name="Oval 85"/>
              <p:cNvSpPr/>
              <p:nvPr/>
            </p:nvSpPr>
            <p:spPr>
              <a:xfrm rot="20081400">
                <a:off x="2984400" y="2869200"/>
                <a:ext cx="28728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6"/>
              <p:cNvSpPr/>
              <p:nvPr/>
            </p:nvSpPr>
            <p:spPr>
              <a:xfrm flipV="1">
                <a:off x="3079800" y="3002040"/>
                <a:ext cx="149400" cy="65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11"/>
          <p:cNvGrpSpPr/>
          <p:nvPr/>
        </p:nvGrpSpPr>
        <p:grpSpPr>
          <a:xfrm>
            <a:off x="6156360" y="1700280"/>
            <a:ext cx="2484000" cy="4322880"/>
            <a:chOff x="6156360" y="1700280"/>
            <a:chExt cx="2484000" cy="4322880"/>
          </a:xfrm>
        </p:grpSpPr>
        <p:grpSp>
          <p:nvGrpSpPr>
            <p:cNvPr id="203" name="Group 42"/>
            <p:cNvGrpSpPr/>
            <p:nvPr/>
          </p:nvGrpSpPr>
          <p:grpSpPr>
            <a:xfrm>
              <a:off x="6156360" y="1700280"/>
              <a:ext cx="2484000" cy="4322880"/>
              <a:chOff x="6156360" y="1700280"/>
              <a:chExt cx="2484000" cy="432288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6156360" y="1700280"/>
                <a:ext cx="2484000" cy="3313080"/>
                <a:chOff x="6156360" y="1700280"/>
                <a:chExt cx="2484000" cy="3313080"/>
              </a:xfrm>
            </p:grpSpPr>
            <p:sp>
              <p:nvSpPr>
                <p:cNvPr id="205" name="Rectangle 27"/>
                <p:cNvSpPr/>
                <p:nvPr/>
              </p:nvSpPr>
              <p:spPr>
                <a:xfrm>
                  <a:off x="6156360" y="1700280"/>
                  <a:ext cx="2484000" cy="1285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8"/>
                <p:cNvSpPr/>
                <p:nvPr/>
              </p:nvSpPr>
              <p:spPr>
                <a:xfrm>
                  <a:off x="804204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9"/>
                <p:cNvSpPr/>
                <p:nvPr/>
              </p:nvSpPr>
              <p:spPr>
                <a:xfrm>
                  <a:off x="6497280" y="2973240"/>
                  <a:ext cx="345240" cy="20401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67080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32"/>
                <p:cNvSpPr/>
                <p:nvPr/>
              </p:nvSpPr>
              <p:spPr>
                <a:xfrm>
                  <a:off x="7895880" y="2997000"/>
                  <a:ext cx="330120" cy="201636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9"/>
              <p:cNvSpPr/>
              <p:nvPr/>
            </p:nvSpPr>
            <p:spPr>
              <a:xfrm>
                <a:off x="7139160" y="50148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0000"/>
                    </a:solidFill>
                    <a:latin typeface="Arial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0"/>
            <p:cNvGrpSpPr/>
            <p:nvPr/>
          </p:nvGrpSpPr>
          <p:grpSpPr>
            <a:xfrm>
              <a:off x="6512040" y="4577760"/>
              <a:ext cx="313560" cy="387720"/>
              <a:chOff x="6512040" y="4577760"/>
              <a:chExt cx="313560" cy="387720"/>
            </a:xfrm>
          </p:grpSpPr>
          <p:sp>
            <p:nvSpPr>
              <p:cNvPr id="212" name="Oval 91"/>
              <p:cNvSpPr/>
              <p:nvPr/>
            </p:nvSpPr>
            <p:spPr>
              <a:xfrm rot="79800">
                <a:off x="6516360" y="4581000"/>
                <a:ext cx="30456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2"/>
              <p:cNvSpPr/>
              <p:nvPr/>
            </p:nvSpPr>
            <p:spPr>
              <a:xfrm>
                <a:off x="6589080" y="4786560"/>
                <a:ext cx="169920" cy="5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Oval 93"/>
            <p:cNvSpPr/>
            <p:nvPr/>
          </p:nvSpPr>
          <p:spPr>
            <a:xfrm>
              <a:off x="7885080" y="459432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2"/>
          <p:cNvGrpSpPr/>
          <p:nvPr/>
        </p:nvGrpSpPr>
        <p:grpSpPr>
          <a:xfrm>
            <a:off x="6156360" y="1700280"/>
            <a:ext cx="2484360" cy="3962520"/>
            <a:chOff x="6156360" y="1700280"/>
            <a:chExt cx="2484360" cy="3962520"/>
          </a:xfrm>
        </p:grpSpPr>
        <p:grpSp>
          <p:nvGrpSpPr>
            <p:cNvPr id="216" name="Group 95"/>
            <p:cNvGrpSpPr/>
            <p:nvPr/>
          </p:nvGrpSpPr>
          <p:grpSpPr>
            <a:xfrm>
              <a:off x="6156360" y="1700280"/>
              <a:ext cx="2484360" cy="3962520"/>
              <a:chOff x="6156360" y="1700280"/>
              <a:chExt cx="2484360" cy="3962520"/>
            </a:xfrm>
          </p:grpSpPr>
          <p:grpSp>
            <p:nvGrpSpPr>
              <p:cNvPr id="217" name="Group 79"/>
              <p:cNvGrpSpPr/>
              <p:nvPr/>
            </p:nvGrpSpPr>
            <p:grpSpPr>
              <a:xfrm>
                <a:off x="6156360" y="1700280"/>
                <a:ext cx="2484360" cy="3962520"/>
                <a:chOff x="6156360" y="1700280"/>
                <a:chExt cx="2484360" cy="3962520"/>
              </a:xfrm>
            </p:grpSpPr>
            <p:grpSp>
              <p:nvGrpSpPr>
                <p:cNvPr id="218" name="Group 43"/>
                <p:cNvGrpSpPr/>
                <p:nvPr/>
              </p:nvGrpSpPr>
              <p:grpSpPr>
                <a:xfrm>
                  <a:off x="6156360" y="1700280"/>
                  <a:ext cx="2484360" cy="3277440"/>
                  <a:chOff x="6156360" y="1700280"/>
                  <a:chExt cx="2484360" cy="3277440"/>
                </a:xfrm>
              </p:grpSpPr>
              <p:sp>
                <p:nvSpPr>
                  <p:cNvPr id="219" name="Rectangle 44"/>
                  <p:cNvSpPr/>
                  <p:nvPr/>
                </p:nvSpPr>
                <p:spPr>
                  <a:xfrm>
                    <a:off x="6156360" y="1700280"/>
                    <a:ext cx="2484360" cy="12852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954920" y="1842840"/>
                    <a:ext cx="360000" cy="1152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46"/>
                  <p:cNvSpPr/>
                  <p:nvPr/>
                </p:nvSpPr>
                <p:spPr>
                  <a:xfrm rot="20920800">
                    <a:off x="6803640" y="2923920"/>
                    <a:ext cx="344160" cy="20397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6441840" y="1841400"/>
                    <a:ext cx="361800" cy="1082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48"/>
                  <p:cNvSpPr/>
                  <p:nvPr/>
                </p:nvSpPr>
                <p:spPr>
                  <a:xfrm rot="658800">
                    <a:off x="7596000" y="2923560"/>
                    <a:ext cx="329760" cy="2016000"/>
                  </a:xfrm>
                  <a:prstGeom prst="flowChartProcess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玻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49"/>
                <p:cNvSpPr/>
                <p:nvPr/>
              </p:nvSpPr>
              <p:spPr>
                <a:xfrm>
                  <a:off x="7010640" y="4959360"/>
                  <a:ext cx="790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Arial"/>
                    </a:rPr>
                    <a:t>吸引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9"/>
              <p:cNvGrpSpPr/>
              <p:nvPr/>
            </p:nvGrpSpPr>
            <p:grpSpPr>
              <a:xfrm>
                <a:off x="6938280" y="4491720"/>
                <a:ext cx="397440" cy="450000"/>
                <a:chOff x="6938280" y="4491720"/>
                <a:chExt cx="397440" cy="450000"/>
              </a:xfrm>
            </p:grpSpPr>
            <p:sp>
              <p:nvSpPr>
                <p:cNvPr id="226" name="Oval 60"/>
                <p:cNvSpPr/>
                <p:nvPr/>
              </p:nvSpPr>
              <p:spPr>
                <a:xfrm rot="20637000">
                  <a:off x="6984720" y="4526280"/>
                  <a:ext cx="30420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1"/>
                <p:cNvSpPr/>
                <p:nvPr/>
              </p:nvSpPr>
              <p:spPr>
                <a:xfrm flipV="1">
                  <a:off x="7065360" y="4708800"/>
                  <a:ext cx="163800" cy="45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Oval 110"/>
            <p:cNvSpPr/>
            <p:nvPr/>
          </p:nvSpPr>
          <p:spPr>
            <a:xfrm rot="960000">
              <a:off x="7451280" y="450828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3"/>
          <p:cNvSpPr/>
          <p:nvPr/>
        </p:nvSpPr>
        <p:spPr>
          <a:xfrm>
            <a:off x="3440520" y="981000"/>
            <a:ext cx="11552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同种电荷相互排斥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4"/>
          <p:cNvSpPr/>
          <p:nvPr/>
        </p:nvSpPr>
        <p:spPr>
          <a:xfrm>
            <a:off x="4720320" y="17168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同种电荷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613440" y="2349360"/>
            <a:ext cx="9359280" cy="4432320"/>
            <a:chOff x="613440" y="2349360"/>
            <a:chExt cx="9359280" cy="4432320"/>
          </a:xfrm>
        </p:grpSpPr>
        <p:grpSp>
          <p:nvGrpSpPr>
            <p:cNvPr id="235" name="Group 13"/>
            <p:cNvGrpSpPr/>
            <p:nvPr/>
          </p:nvGrpSpPr>
          <p:grpSpPr>
            <a:xfrm>
              <a:off x="957240" y="2349360"/>
              <a:ext cx="9015480" cy="4432320"/>
              <a:chOff x="957240" y="2349360"/>
              <a:chExt cx="9015480" cy="4432320"/>
            </a:xfrm>
          </p:grpSpPr>
          <p:pic>
            <p:nvPicPr>
              <p:cNvPr id="236" name="Picture 10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0320" y="2504880"/>
                <a:ext cx="570240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2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7240" y="2349360"/>
                <a:ext cx="577548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Text Box 19"/>
            <p:cNvSpPr/>
            <p:nvPr/>
          </p:nvSpPr>
          <p:spPr>
            <a:xfrm>
              <a:off x="613440" y="294732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7239600" y="300924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241" name="Picture 7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5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2:21Z</dcterms:created>
  <dc:creator/>
  <dc:description/>
  <dc:language>en-US</dc:language>
  <cp:lastModifiedBy>Administrator</cp:lastModifiedBy>
  <dcterms:modified xsi:type="dcterms:W3CDTF">2016-02-24T04:55:43Z</dcterms:modified>
  <cp:revision>27</cp:revision>
  <dc:subject/>
  <dc:title>PowerPoint 演示文稿</dc:title>
</cp:coreProperties>
</file>