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279B-565A-4D97-9D5C-A6CA64493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375E-5E8B-44C5-A3DA-CBE4A777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F2AB-1A8A-4D1F-8BB2-A23D46384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F0C0-4D63-4C20-A09A-3156847B8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B733-7689-4CBA-B191-4C7F8C56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712C-C206-44B3-BCFF-CDCF70CC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FB23-7A00-4414-AE19-6707F291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9D56-EA20-4362-B3D4-FA61B561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DECC-EE52-4941-B8C4-C8791AFA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1702-A4F3-465F-BDCE-45EAD033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86C9-2EDD-48D2-BB76-6109470C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98E8-9EEA-485B-979D-BBE122C2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E0C2-2D55-4121-A5EB-02DCAD521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317680" y="528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教科版四年级科学下册第一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340000" y="2276640"/>
            <a:ext cx="43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导体与绝缘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NQ6@@T$ZASM{0[8RNBZ`SWG"/>
          <p:cNvPicPr/>
          <p:nvPr/>
        </p:nvPicPr>
        <p:blipFill>
          <a:blip r:embed="rId1"/>
          <a:stretch/>
        </p:blipFill>
        <p:spPr>
          <a:xfrm>
            <a:off x="1979640" y="404640"/>
            <a:ext cx="5111640" cy="32036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3"/>
          <p:cNvSpPr/>
          <p:nvPr/>
        </p:nvSpPr>
        <p:spPr>
          <a:xfrm>
            <a:off x="1042920" y="385812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观察电路连接，说说电流在电路中是怎么流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将电路中的导线剪断，会出现什么情况，为什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重新接亮小灯泡，看看小灯泡会不会亮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把两个塑料皮接触在一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把金属头和塑料皮接触在一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把两个金属头接在一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755640" y="1339560"/>
            <a:ext cx="7632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两个金属头接在一起，小灯泡会亮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把外面的塑料皮接触在一起或把金属头和塑料皮接触在一起，小灯泡就不会亮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到底是为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铜丝那样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容易让电流通过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物质叫做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导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塑料那样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不容易让电流通过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物质叫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绝缘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U8%LA8NJR}JRI0CB908A[$Q"/>
          <p:cNvPicPr/>
          <p:nvPr/>
        </p:nvPicPr>
        <p:blipFill>
          <a:blip r:embed="rId1"/>
          <a:stretch/>
        </p:blipFill>
        <p:spPr>
          <a:xfrm>
            <a:off x="539640" y="1413000"/>
            <a:ext cx="3527640" cy="36734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4356000" y="1413000"/>
            <a:ext cx="446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预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橡皮能否通过电流使小灯泡发光，做好记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路检测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两个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检测头相互接触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检验小灯泡是否发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两个检测头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接触橡皮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两端，观察小灯泡是否发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重复检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次，并将检测时小灯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情况记录下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2647080" y="549360"/>
            <a:ext cx="43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“电路检测器”检测橡皮是导体还是绝缘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4187160" y="5630040"/>
            <a:ext cx="41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论：橡皮是绝缘体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1011960" y="403920"/>
            <a:ext cx="30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检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种物体的导电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2421000"/>
          <a:ext cx="9109080" cy="3862440"/>
        </p:xfrm>
        <a:graphic>
          <a:graphicData uri="http://schemas.openxmlformats.org/drawingml/2006/table">
            <a:tbl>
              <a:tblPr/>
              <a:tblGrid>
                <a:gridCol w="1324080"/>
                <a:gridCol w="831600"/>
                <a:gridCol w="982800"/>
                <a:gridCol w="755640"/>
                <a:gridCol w="982800"/>
                <a:gridCol w="757080"/>
                <a:gridCol w="1057320"/>
                <a:gridCol w="981000"/>
                <a:gridCol w="1436760"/>
              </a:tblGrid>
              <a:tr h="43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物体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预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检测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检测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检测说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导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绝缘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橡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回形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塑料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白纸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 Box 73"/>
          <p:cNvSpPr/>
          <p:nvPr/>
        </p:nvSpPr>
        <p:spPr>
          <a:xfrm>
            <a:off x="468360" y="13413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的检测记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0Z1R%G@N~[IYKSR([8S8M8B"/>
          <p:cNvPicPr/>
          <p:nvPr/>
        </p:nvPicPr>
        <p:blipFill>
          <a:blip r:embed="rId1"/>
          <a:stretch/>
        </p:blipFill>
        <p:spPr>
          <a:xfrm>
            <a:off x="1835280" y="2637000"/>
            <a:ext cx="5476680" cy="4000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2~RS0I9PO61I9J[ESW]@$UQ"/>
          <p:cNvPicPr/>
          <p:nvPr/>
        </p:nvPicPr>
        <p:blipFill>
          <a:blip r:embed="rId2"/>
          <a:stretch/>
        </p:blipFill>
        <p:spPr>
          <a:xfrm>
            <a:off x="1042920" y="0"/>
            <a:ext cx="741672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未命名"/>
          <p:cNvPicPr/>
          <p:nvPr/>
        </p:nvPicPr>
        <p:blipFill>
          <a:blip r:embed="rId1"/>
          <a:stretch/>
        </p:blipFill>
        <p:spPr>
          <a:xfrm>
            <a:off x="1835280" y="1989000"/>
            <a:ext cx="5256000" cy="38754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1"/>
          <p:cNvSpPr/>
          <p:nvPr/>
        </p:nvSpPr>
        <p:spPr>
          <a:xfrm>
            <a:off x="1403280" y="105264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教室里的电器设备哪些使用了绝缘材料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@4%~QTXTM$$POQQGKC}~KV2"/>
          <p:cNvPicPr/>
          <p:nvPr/>
        </p:nvPicPr>
        <p:blipFill>
          <a:blip r:embed="rId1"/>
          <a:stretch/>
        </p:blipFill>
        <p:spPr>
          <a:xfrm>
            <a:off x="1187280" y="1844640"/>
            <a:ext cx="6824880" cy="2367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1567440" y="549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应该怎样正确使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4346280" y="4796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好好保护电器设备上的绝缘体部分，注意安全用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6:00:05Z</dcterms:created>
  <dc:creator>hp</dc:creator>
  <dc:description/>
  <dc:language>en-US</dc:language>
  <cp:lastModifiedBy>Administrator</cp:lastModifiedBy>
  <dcterms:modified xsi:type="dcterms:W3CDTF">2016-02-24T05:02:34Z</dcterms:modified>
  <cp:revision>9</cp:revision>
  <dc:subject/>
  <dc:title>幻灯片 1</dc:title>
</cp:coreProperties>
</file>