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81B-865D-49F4-BDAF-2BE3603F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E88-99FA-4F71-8F5B-FCF5C98C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C21-EACE-4432-A796-8E7D2CB1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7B1-3A9F-4EFF-857C-7C0D5133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467-BA70-49CC-9F2C-96D6A141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3DB-C345-4414-8362-0A71B577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A2F-43C6-4508-A862-2FC56C67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5B6-89FF-409F-B9E0-7769DC5B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EDC-A7F5-4BBA-A4FE-8F59EA18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9693-D200-49C0-90E3-98AD0E86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F8E-F01A-4532-86ED-79740560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D7C-AEB4-4C61-9CBA-C3E3CB67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C265-DEE0-4B69-91E1-DFEC27C84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340000" y="227664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导体与绝缘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NQ6@@T$ZASM{0[8RNBZ`SWG"/>
          <p:cNvPicPr/>
          <p:nvPr/>
        </p:nvPicPr>
        <p:blipFill>
          <a:blip r:embed="rId1"/>
          <a:stretch/>
        </p:blipFill>
        <p:spPr>
          <a:xfrm>
            <a:off x="1979640" y="404640"/>
            <a:ext cx="5111640" cy="3203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3"/>
          <p:cNvSpPr/>
          <p:nvPr/>
        </p:nvSpPr>
        <p:spPr>
          <a:xfrm>
            <a:off x="1042920" y="385812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观察电路连接，说说电流在电路中是怎么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将电路中的导线剪断，会出现什么情况，为什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重新接亮小灯泡，看看小灯泡会不会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两个塑料皮接触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金属头和塑料皮接触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两个金属头接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755640" y="133956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金属头接在一起，小灯泡会亮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把外面的塑料皮接触在一起或把金属头和塑料皮接触在一起，小灯泡就不会亮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到底是为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铜丝那样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容易让电流通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物质叫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导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塑料那样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不容易让电流通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物质叫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绝缘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U8%LA8NJR}JRI0CB908A[$Q"/>
          <p:cNvPicPr/>
          <p:nvPr/>
        </p:nvPicPr>
        <p:blipFill>
          <a:blip r:embed="rId1"/>
          <a:stretch/>
        </p:blipFill>
        <p:spPr>
          <a:xfrm>
            <a:off x="539640" y="1413000"/>
            <a:ext cx="3527640" cy="367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4356000" y="1413000"/>
            <a:ext cx="446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预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橡皮能否通过电流使小灯泡发光，做好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路检测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个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检测头相互接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检验小灯泡是否发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两个检测头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接触橡皮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端，观察小灯泡是否发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重复检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，并将检测时小灯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情况记录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647080" y="549360"/>
            <a:ext cx="43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“电路检测器”检测橡皮是导体还是绝缘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187160" y="563004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论：橡皮是绝缘体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011960" y="403920"/>
            <a:ext cx="30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检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物体的导电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2421000"/>
          <a:ext cx="9109080" cy="3862440"/>
        </p:xfrm>
        <a:graphic>
          <a:graphicData uri="http://schemas.openxmlformats.org/drawingml/2006/table">
            <a:tbl>
              <a:tblPr/>
              <a:tblGrid>
                <a:gridCol w="1324080"/>
                <a:gridCol w="831600"/>
                <a:gridCol w="982800"/>
                <a:gridCol w="755640"/>
                <a:gridCol w="982800"/>
                <a:gridCol w="757080"/>
                <a:gridCol w="1057320"/>
                <a:gridCol w="981000"/>
                <a:gridCol w="1436760"/>
              </a:tblGrid>
              <a:tr h="43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体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预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说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导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绝缘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橡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回形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塑料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白纸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73"/>
          <p:cNvSpPr/>
          <p:nvPr/>
        </p:nvSpPr>
        <p:spPr>
          <a:xfrm>
            <a:off x="468360" y="1341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的检测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0Z1R%G@N~[IYKSR([8S8M8B"/>
          <p:cNvPicPr/>
          <p:nvPr/>
        </p:nvPicPr>
        <p:blipFill>
          <a:blip r:embed="rId1"/>
          <a:stretch/>
        </p:blipFill>
        <p:spPr>
          <a:xfrm>
            <a:off x="1835280" y="2637000"/>
            <a:ext cx="5476680" cy="40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2~RS0I9PO61I9J[ESW]@$UQ"/>
          <p:cNvPicPr/>
          <p:nvPr/>
        </p:nvPicPr>
        <p:blipFill>
          <a:blip r:embed="rId2"/>
          <a:stretch/>
        </p:blipFill>
        <p:spPr>
          <a:xfrm>
            <a:off x="1042920" y="0"/>
            <a:ext cx="74167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未命名"/>
          <p:cNvPicPr/>
          <p:nvPr/>
        </p:nvPicPr>
        <p:blipFill>
          <a:blip r:embed="rId1"/>
          <a:stretch/>
        </p:blipFill>
        <p:spPr>
          <a:xfrm>
            <a:off x="1835280" y="1989000"/>
            <a:ext cx="5256000" cy="3875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"/>
          <p:cNvSpPr/>
          <p:nvPr/>
        </p:nvSpPr>
        <p:spPr>
          <a:xfrm>
            <a:off x="1403280" y="1052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教室里的电器设备哪些使用了绝缘材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@4%~QTXTM$$POQQGKC}~KV2"/>
          <p:cNvPicPr/>
          <p:nvPr/>
        </p:nvPicPr>
        <p:blipFill>
          <a:blip r:embed="rId1"/>
          <a:stretch/>
        </p:blipFill>
        <p:spPr>
          <a:xfrm>
            <a:off x="1187280" y="1844640"/>
            <a:ext cx="6824880" cy="2367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1567440" y="549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应该怎样正确使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346280" y="4796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好好保护电器设备上的绝缘体部分，注意安全用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2:34Z</dcterms:modified>
  <cp:revision>9</cp:revision>
  <dc:subject/>
  <dc:title>幻灯片 1</dc:title>
</cp:coreProperties>
</file>