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BBF-E684-4505-B53B-205D225A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39E-EAEC-44A1-9463-C5CDC03C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82A-D564-4242-BC94-A62DCE6F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002-287B-484E-9E25-53913FE6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1B1-C8D2-4366-9101-9120EF41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321-6057-4C38-B8F7-7C92A72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083-E999-4FA2-BAF1-33059ED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F7E-0F7E-4D50-B386-58D2FDCC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348-57D8-4DFB-A3FB-4C3CB425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A39-9F08-4419-97D9-4B1D16B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9DB-5617-4BA8-A1DF-8AFD338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327-3A51-4087-B4E4-F5E7B1F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7DC3-A008-4076-8BCE-4A630229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繁殖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00040" y="428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胎生动物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0004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胎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身体表面有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Administrator\AppData\Roaming\Tencent\Users\173692760\QQ\WinTemp\RichOle\~T0W_X~}2UY4FK@W9G%{M@D.jpg"/>
          <p:cNvPicPr/>
          <p:nvPr/>
        </p:nvPicPr>
        <p:blipFill>
          <a:blip r:embed="rId1"/>
          <a:stretch/>
        </p:blipFill>
        <p:spPr>
          <a:xfrm>
            <a:off x="4643280" y="2500200"/>
            <a:ext cx="4286520" cy="40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Administrator\AppData\Roaming\Tencent\Users\173692760\QQ\WinTemp\RichOle\5$4Y99@7GL}5GG9HRAKOA`G.jpg"/>
          <p:cNvPicPr/>
          <p:nvPr/>
        </p:nvPicPr>
        <p:blipFill>
          <a:blip r:embed="rId2"/>
          <a:stretch/>
        </p:blipFill>
        <p:spPr>
          <a:xfrm>
            <a:off x="368280" y="2862360"/>
            <a:ext cx="4275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2200" y="20977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胎生动物一般用哺乳的方法喂养小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精的胚珠发育后形成了种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点水”实质上是雌蜻蜓在往水中产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86400" y="3095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86400" y="1439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86400" y="4176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s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ig"/>
          <p:cNvPicPr/>
          <p:nvPr/>
        </p:nvPicPr>
        <p:blipFill>
          <a:blip r:embed="rId3"/>
          <a:stretch/>
        </p:blipFill>
        <p:spPr>
          <a:xfrm>
            <a:off x="0" y="4664160"/>
            <a:ext cx="2987640" cy="219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weaver"/>
          <p:cNvPicPr/>
          <p:nvPr/>
        </p:nvPicPr>
        <p:blipFill>
          <a:blip r:embed="rId4"/>
          <a:stretch/>
        </p:blipFill>
        <p:spPr>
          <a:xfrm>
            <a:off x="3132000" y="4681440"/>
            <a:ext cx="295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19147797_huanghouwu1"/>
          <p:cNvPicPr/>
          <p:nvPr/>
        </p:nvPicPr>
        <p:blipFill>
          <a:blip r:embed="rId5"/>
          <a:stretch/>
        </p:blipFill>
        <p:spPr>
          <a:xfrm>
            <a:off x="6227640" y="467208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BPP5(DCP{YWNT]YE(I)BO2"/>
          <p:cNvPicPr/>
          <p:nvPr/>
        </p:nvPicPr>
        <p:blipFill>
          <a:blip r:embed="rId6"/>
          <a:stretch/>
        </p:blipFill>
        <p:spPr>
          <a:xfrm>
            <a:off x="3059280" y="0"/>
            <a:ext cx="3025440" cy="1994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偶 →交配 →筑巢 →产卵 →孵卵 →育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900000" y="2060280"/>
            <a:ext cx="676764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 flipV="1">
            <a:off x="1402920" y="1989000"/>
            <a:ext cx="79236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3780000" y="3573000"/>
            <a:ext cx="8632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1547640" y="3500280"/>
            <a:ext cx="352908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 flipV="1">
            <a:off x="6659640" y="3500280"/>
            <a:ext cx="100800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500720" y="1988640"/>
            <a:ext cx="374328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Administrator\AppData\Roaming\Tencent\Users\173692760\QQ\WinTemp\RichOle\$32MGVU}2YH`ZJ$X{ZWDXQQ.jpg"/>
          <p:cNvPicPr/>
          <p:nvPr/>
        </p:nvPicPr>
        <p:blipFill>
          <a:blip r:embed="rId1"/>
          <a:stretch/>
        </p:blipFill>
        <p:spPr>
          <a:xfrm>
            <a:off x="285840" y="0"/>
            <a:ext cx="633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642960" y="6143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214800" y="1571760"/>
            <a:ext cx="1643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28760" y="157176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857160" y="928800"/>
            <a:ext cx="857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7000920" y="51195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多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7072200" y="3116160"/>
            <a:ext cx="18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利是卵生还是胎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6897600" y="547560"/>
            <a:ext cx="22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羊通常能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，而多利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SQ5~MA2YQIRC`$3)F1B~2R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1280" y="1555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雀开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357720" y="1494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Administrator\AppData\Roaming\Tencent\Users\173692760\QQ\WinTemp\RichOle\CPKR%I@SEU3Z3{C`]Y[8AX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T{R47%`%[F3%4`}$}OJ3%I8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Administrator\AppData\Roaming\Tencent\Users\173692760\QQ\WinTemp\RichOle\]72XI%D8C04L1~K]$4~%%Q1.jpg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286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取蛙声一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7120" y="542916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)3YDSAGJYRZUJ3]%A0U58EO.jpg"/>
          <p:cNvPicPr/>
          <p:nvPr/>
        </p:nvPicPr>
        <p:blipFill>
          <a:blip r:embed="rId1"/>
          <a:stretch/>
        </p:blipFill>
        <p:spPr>
          <a:xfrm>
            <a:off x="0" y="0"/>
            <a:ext cx="469584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AppData\Roaming\Tencent\Users\173692760\QQ\WinTemp\RichOle\OJL54P2~)MFPWY7E8)CA{UJ.jpg"/>
          <p:cNvPicPr/>
          <p:nvPr/>
        </p:nvPicPr>
        <p:blipFill>
          <a:blip r:embed="rId2"/>
          <a:stretch/>
        </p:blipFill>
        <p:spPr>
          <a:xfrm>
            <a:off x="4762440" y="0"/>
            <a:ext cx="43815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istrator\AppData\Roaming\Tencent\Users\173692760\QQ\WinTemp\RichOle\DXECYJ~5QXJPN6({_Q{`0VP.jpg"/>
          <p:cNvPicPr/>
          <p:nvPr/>
        </p:nvPicPr>
        <p:blipFill>
          <a:blip r:embed="rId3"/>
          <a:stretch/>
        </p:blipFill>
        <p:spPr>
          <a:xfrm>
            <a:off x="0" y="3684600"/>
            <a:ext cx="47149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29120" y="4286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蜻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8624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S6%L5{ZUCK}K}]T[P@V4}]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7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{}Y6GRGMT9_G6B`AF@IK)HM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68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FS[Z5[]6FPH2CB6HW(`JIYE.jpg"/>
          <p:cNvPicPr/>
          <p:nvPr/>
        </p:nvPicPr>
        <p:blipFill>
          <a:blip r:embed="rId3"/>
          <a:stretch/>
        </p:blipFill>
        <p:spPr>
          <a:xfrm>
            <a:off x="4500720" y="3865680"/>
            <a:ext cx="4643280" cy="2992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4357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蜗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1800" y="438120"/>
            <a:ext cx="8496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猫、狗、兔等这样繁殖后代的方式叫做（         ），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鱼、鸡那样通过产卵或下蛋方式繁殖方式叫（          ），通过卵生繁殖的动物称为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动物产的（         ）只有在和雄性动物产的（           ）结合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受精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才能发育成新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881440" y="52880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316400" y="47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6160" y="1573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441440" y="10018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395440" y="3152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825560" y="378288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(Z4ZY]]0QHOV]IPYA4%$XVQ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45288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1928880" y="5643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种动物的繁殖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8920" y="47829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920" y="2359080"/>
            <a:ext cx="26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14308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7151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14200" y="2858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855760" y="28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7215120" y="285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布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1420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5960" y="1143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长尾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429080" y="11430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072120" y="11494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Tencent\Users\173692760\QQ\WinTemp\RichOle\~R1(90N3XP2@CL5(WIXYVOX.jpg"/>
          <p:cNvPicPr/>
          <p:nvPr/>
        </p:nvPicPr>
        <p:blipFill>
          <a:blip r:embed="rId1"/>
          <a:stretch/>
        </p:blipFill>
        <p:spPr>
          <a:xfrm>
            <a:off x="2571840" y="4071960"/>
            <a:ext cx="1512720" cy="1185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71280" y="142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1.jpg"/>
          <p:cNvPicPr/>
          <p:nvPr/>
        </p:nvPicPr>
        <p:blipFill>
          <a:blip r:embed="rId2"/>
          <a:stretch/>
        </p:blipFill>
        <p:spPr>
          <a:xfrm>
            <a:off x="4357800" y="407196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AppData\Roaming\Tencent\Users\173692760\QQ\WinTemp\RichOle\7EJE[MI6)~%Q2W][TTCLY`A.jpg"/>
          <p:cNvPicPr/>
          <p:nvPr/>
        </p:nvPicPr>
        <p:blipFill>
          <a:blip r:embed="rId3"/>
          <a:stretch/>
        </p:blipFill>
        <p:spPr>
          <a:xfrm>
            <a:off x="5929200" y="4071960"/>
            <a:ext cx="150048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AppData\Roaming\Tencent\Users\173692760\QQ\WinTemp\RichOle\CW}352U%E`[M4$V~}C@7V[R.jpg"/>
          <p:cNvPicPr/>
          <p:nvPr/>
        </p:nvPicPr>
        <p:blipFill>
          <a:blip r:embed="rId4"/>
          <a:stretch/>
        </p:blipFill>
        <p:spPr>
          <a:xfrm>
            <a:off x="2571840" y="5457960"/>
            <a:ext cx="1500120" cy="11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dministrator\AppData\Roaming\Tencent\Users\173692760\QQ\WinTemp\RichOle\_N53VW3_WLPMZS249QURYZK.jpg"/>
          <p:cNvPicPr/>
          <p:nvPr/>
        </p:nvPicPr>
        <p:blipFill>
          <a:blip r:embed="rId5"/>
          <a:stretch/>
        </p:blipFill>
        <p:spPr>
          <a:xfrm>
            <a:off x="4357800" y="5429160"/>
            <a:ext cx="1284120" cy="12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dministrator\AppData\Roaming\Tencent\Users\173692760\QQ\WinTemp\RichOle\XW%KBWQ2)}CBD@01~Z%{IF4.jpg"/>
          <p:cNvPicPr/>
          <p:nvPr/>
        </p:nvPicPr>
        <p:blipFill>
          <a:blip r:embed="rId6"/>
          <a:stretch/>
        </p:blipFill>
        <p:spPr>
          <a:xfrm>
            <a:off x="5857920" y="5410080"/>
            <a:ext cx="1571760" cy="12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Administrator\AppData\Roaming\Tencent\Users\173692760\QQ\WinTemp\RichOle\(~@GOH%6R~IETOQ7MG@UXZY.jpg"/>
          <p:cNvPicPr/>
          <p:nvPr/>
        </p:nvPicPr>
        <p:blipFill>
          <a:blip r:embed="rId7"/>
          <a:stretch/>
        </p:blipFill>
        <p:spPr>
          <a:xfrm>
            <a:off x="2571840" y="2143080"/>
            <a:ext cx="17938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Administrator\AppData\Roaming\Tencent\Users\173692760\QQ\WinTemp\RichOle\(454CAZB$[)H2S(TL1Q4$AV.jpg"/>
          <p:cNvPicPr/>
          <p:nvPr/>
        </p:nvPicPr>
        <p:blipFill>
          <a:blip r:embed="rId8"/>
          <a:stretch/>
        </p:blipFill>
        <p:spPr>
          <a:xfrm>
            <a:off x="4500720" y="2143080"/>
            <a:ext cx="19429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Administrator\AppData\Roaming\Tencent\Users\173692760\QQ\WinTemp\RichOle\B5@HA6XE%}CV3Y5OK$WTAF5.jpg"/>
          <p:cNvPicPr/>
          <p:nvPr/>
        </p:nvPicPr>
        <p:blipFill>
          <a:blip r:embed="rId9"/>
          <a:stretch/>
        </p:blipFill>
        <p:spPr>
          <a:xfrm>
            <a:off x="6553080" y="2143080"/>
            <a:ext cx="1947960" cy="14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Administrator\AppData\Roaming\Tencent\Users\173692760\QQ\WinTemp\RichOle\6N}PPU}Q}%R`V7PDX0U8_6M.jpg"/>
          <p:cNvPicPr/>
          <p:nvPr/>
        </p:nvPicPr>
        <p:blipFill>
          <a:blip r:embed="rId10"/>
          <a:stretch/>
        </p:blipFill>
        <p:spPr>
          <a:xfrm>
            <a:off x="7572240" y="4071960"/>
            <a:ext cx="127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3080" y="785880"/>
            <a:ext cx="5214960" cy="45291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357280" y="5643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的诞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8:03Z</dcterms:modified>
  <cp:revision>124</cp:revision>
  <dc:subject/>
  <dc:title>幻灯片 1</dc:title>
</cp:coreProperties>
</file>