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34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3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2F30-FC28-4A93-8897-3ED4D02F0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0A86-8EF8-4C9A-B70E-2878D4005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6DD6-ED72-4C29-8CAC-8F8F8BFD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2807-2F61-4DDA-9028-DB292E3F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1C00-AF7A-4D05-8DFD-3B0106784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FBCD-2E50-4D50-9D01-59045E76E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26F9-4206-4DC0-86DF-1BAD5939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7D36-1778-4B4A-B733-75632574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6AB8-32CB-4A39-AF1F-D244BF0A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C5E4-FF67-450F-A09E-80220B7D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1B1E-C0B8-4C0D-A479-F07D6628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4855-1B10-4329-827B-1950134B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E08E-738D-4D4B-BE12-161E8756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1337-F306-42D3-A806-DC9D8BEE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F6A3-9623-4735-9337-C7D0EF090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二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把种子散播到远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二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风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0GFDULLMFZER_V)NEO}IEEV"/>
          <p:cNvPicPr/>
          <p:nvPr/>
        </p:nvPicPr>
        <p:blipFill>
          <a:blip r:embed="rId1"/>
          <a:stretch/>
        </p:blipFill>
        <p:spPr>
          <a:xfrm>
            <a:off x="4838760" y="981000"/>
            <a:ext cx="4305240" cy="4392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M5MEM$CM$J1]DE)})ORV)71"/>
          <p:cNvPicPr/>
          <p:nvPr/>
        </p:nvPicPr>
        <p:blipFill>
          <a:blip r:embed="rId2"/>
          <a:stretch/>
        </p:blipFill>
        <p:spPr>
          <a:xfrm>
            <a:off x="0" y="981000"/>
            <a:ext cx="4427640" cy="43783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1546200" y="5667480"/>
            <a:ext cx="2087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蒲公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4067280" y="566748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轻有绒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二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风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547640" y="5516640"/>
            <a:ext cx="24465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槭树种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4427640" y="55166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轻有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IWM8NNW@~454OS2OG@@01TN"/>
          <p:cNvPicPr/>
          <p:nvPr/>
        </p:nvPicPr>
        <p:blipFill>
          <a:blip r:embed="rId1"/>
          <a:stretch/>
        </p:blipFill>
        <p:spPr>
          <a:xfrm>
            <a:off x="4356000" y="1341360"/>
            <a:ext cx="4788000" cy="3662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Q4LULDVI@8}2F$]CQLL3(ZC"/>
          <p:cNvPicPr/>
          <p:nvPr/>
        </p:nvPicPr>
        <p:blipFill>
          <a:blip r:embed="rId2"/>
          <a:stretch/>
        </p:blipFill>
        <p:spPr>
          <a:xfrm>
            <a:off x="0" y="1341360"/>
            <a:ext cx="399564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二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风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8ZZ~~_U_Y5U7)1I{LTP4OWV"/>
          <p:cNvPicPr/>
          <p:nvPr/>
        </p:nvPicPr>
        <p:blipFill>
          <a:blip r:embed="rId1"/>
          <a:stretch/>
        </p:blipFill>
        <p:spPr>
          <a:xfrm>
            <a:off x="5086440" y="907920"/>
            <a:ext cx="4057560" cy="42483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9"/>
          <p:cNvSpPr/>
          <p:nvPr/>
        </p:nvSpPr>
        <p:spPr>
          <a:xfrm>
            <a:off x="1117440" y="5524560"/>
            <a:ext cx="24465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榆树种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VNN]3W7%93]XJ{8~[S(81XP"/>
          <p:cNvPicPr/>
          <p:nvPr/>
        </p:nvPicPr>
        <p:blipFill>
          <a:blip r:embed="rId2"/>
          <a:stretch/>
        </p:blipFill>
        <p:spPr>
          <a:xfrm>
            <a:off x="0" y="907920"/>
            <a:ext cx="4788000" cy="41547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1"/>
          <p:cNvSpPr/>
          <p:nvPr/>
        </p:nvSpPr>
        <p:spPr>
          <a:xfrm>
            <a:off x="4427640" y="55166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轻有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二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风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547640" y="5516640"/>
            <a:ext cx="24465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臭椿种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2$HJWS5]8ZDO$000WAZC@XM"/>
          <p:cNvPicPr/>
          <p:nvPr/>
        </p:nvPicPr>
        <p:blipFill>
          <a:blip r:embed="rId1"/>
          <a:stretch/>
        </p:blipFill>
        <p:spPr>
          <a:xfrm>
            <a:off x="0" y="1052640"/>
            <a:ext cx="5724360" cy="3828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YT_0Z_YV_@UA1N)LJ6`}NAY"/>
          <p:cNvPicPr/>
          <p:nvPr/>
        </p:nvPicPr>
        <p:blipFill>
          <a:blip r:embed="rId2"/>
          <a:stretch/>
        </p:blipFill>
        <p:spPr>
          <a:xfrm>
            <a:off x="5892840" y="1052640"/>
            <a:ext cx="3251160" cy="38163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2"/>
          <p:cNvSpPr/>
          <p:nvPr/>
        </p:nvSpPr>
        <p:spPr>
          <a:xfrm>
            <a:off x="4427640" y="55166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轻有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二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风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556000" y="5524560"/>
            <a:ext cx="15843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ì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427640" y="55166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轻有绒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%%(Y6Y0V3$9RMIFHK42H[T5"/>
          <p:cNvPicPr/>
          <p:nvPr/>
        </p:nvPicPr>
        <p:blipFill>
          <a:blip r:embed="rId1"/>
          <a:stretch/>
        </p:blipFill>
        <p:spPr>
          <a:xfrm>
            <a:off x="0" y="907920"/>
            <a:ext cx="5364000" cy="4292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LDLKW7`G%H}LDVLSKM6R83C"/>
          <p:cNvPicPr/>
          <p:nvPr/>
        </p:nvPicPr>
        <p:blipFill>
          <a:blip r:embed="rId2"/>
          <a:stretch/>
        </p:blipFill>
        <p:spPr>
          <a:xfrm>
            <a:off x="5560920" y="907920"/>
            <a:ext cx="358308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三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水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33`E_0Q}UQ%U]VEMFK3M{UO"/>
          <p:cNvPicPr/>
          <p:nvPr/>
        </p:nvPicPr>
        <p:blipFill>
          <a:blip r:embed="rId1"/>
          <a:stretch/>
        </p:blipFill>
        <p:spPr>
          <a:xfrm>
            <a:off x="4572000" y="1052640"/>
            <a:ext cx="4572000" cy="4336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KURX$QZTS`}LSY1WOADY`}W"/>
          <p:cNvPicPr/>
          <p:nvPr/>
        </p:nvPicPr>
        <p:blipFill>
          <a:blip r:embed="rId2"/>
          <a:stretch/>
        </p:blipFill>
        <p:spPr>
          <a:xfrm>
            <a:off x="0" y="1052640"/>
            <a:ext cx="4237200" cy="43196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0"/>
          <p:cNvSpPr/>
          <p:nvPr/>
        </p:nvSpPr>
        <p:spPr>
          <a:xfrm>
            <a:off x="1332000" y="5734080"/>
            <a:ext cx="15843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椰子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3348000" y="573264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浮在水上果皮不易腐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三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水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332000" y="5524560"/>
            <a:ext cx="1655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莲蓬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348000" y="552276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浮在水上果皮不易腐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8" descr="V)M]B6K8RHHD81)(I$TR9}F"/>
          <p:cNvPicPr/>
          <p:nvPr/>
        </p:nvPicPr>
        <p:blipFill>
          <a:blip r:embed="rId1"/>
          <a:stretch/>
        </p:blipFill>
        <p:spPr>
          <a:xfrm>
            <a:off x="0" y="981000"/>
            <a:ext cx="5148360" cy="4195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XZP4D~Z@A)@}}2(Z5%U}`OW"/>
          <p:cNvPicPr/>
          <p:nvPr/>
        </p:nvPicPr>
        <p:blipFill>
          <a:blip r:embed="rId2"/>
          <a:stretch/>
        </p:blipFill>
        <p:spPr>
          <a:xfrm>
            <a:off x="5262480" y="981000"/>
            <a:ext cx="38815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四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弹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332000" y="5524560"/>
            <a:ext cx="1655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油菜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3348000" y="552276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皮干燥时会自动爆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$ALUX0SA7$5QT})L4~~EHIQ"/>
          <p:cNvPicPr/>
          <p:nvPr/>
        </p:nvPicPr>
        <p:blipFill>
          <a:blip r:embed="rId1"/>
          <a:stretch/>
        </p:blipFill>
        <p:spPr>
          <a:xfrm>
            <a:off x="0" y="981000"/>
            <a:ext cx="4572000" cy="4178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XFEG0~9_}K61QM$6TZXW~XF"/>
          <p:cNvPicPr/>
          <p:nvPr/>
        </p:nvPicPr>
        <p:blipFill>
          <a:blip r:embed="rId2"/>
          <a:stretch/>
        </p:blipFill>
        <p:spPr>
          <a:xfrm>
            <a:off x="4788000" y="981000"/>
            <a:ext cx="435600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四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弹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008000" y="5445000"/>
            <a:ext cx="2087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凤仙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384720" y="545148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皮干燥时会自动爆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YAY1JNWJW%LL9Y{~64UIE_3"/>
          <p:cNvPicPr/>
          <p:nvPr/>
        </p:nvPicPr>
        <p:blipFill>
          <a:blip r:embed="rId1"/>
          <a:stretch/>
        </p:blipFill>
        <p:spPr>
          <a:xfrm>
            <a:off x="0" y="1162080"/>
            <a:ext cx="4572000" cy="3779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FFRRB(MZQO~DT[6$KMW]B_G"/>
          <p:cNvPicPr/>
          <p:nvPr/>
        </p:nvPicPr>
        <p:blipFill>
          <a:blip r:embed="rId2"/>
          <a:stretch/>
        </p:blipFill>
        <p:spPr>
          <a:xfrm>
            <a:off x="4788000" y="1162080"/>
            <a:ext cx="43560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四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弹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008000" y="5445000"/>
            <a:ext cx="19083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喷瓜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3384720" y="545148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成熟时能将种子喷出几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9SS[%HY12~[IQ`Y}LO270%N"/>
          <p:cNvPicPr/>
          <p:nvPr/>
        </p:nvPicPr>
        <p:blipFill>
          <a:blip r:embed="rId1"/>
          <a:stretch/>
        </p:blipFill>
        <p:spPr>
          <a:xfrm>
            <a:off x="0" y="907920"/>
            <a:ext cx="5003640" cy="4213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{~JO3_[HAL3XR0$32N0V{)4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5340240" y="907920"/>
            <a:ext cx="38037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476280"/>
            <a:ext cx="914400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把种子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散播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到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远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 rot="5400000">
            <a:off x="-122400" y="3335400"/>
            <a:ext cx="2462400" cy="221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 rot="5400000">
            <a:off x="6847920" y="4570200"/>
            <a:ext cx="2249280" cy="183996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7"/>
          <p:cNvSpPr/>
          <p:nvPr/>
        </p:nvSpPr>
        <p:spPr>
          <a:xfrm>
            <a:off x="2050920" y="2133720"/>
            <a:ext cx="3816360" cy="1296720"/>
          </a:xfrm>
          <a:prstGeom prst="cloudCallout">
            <a:avLst>
              <a:gd name="adj1" fmla="val -60731"/>
              <a:gd name="adj2" fmla="val 899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9"/>
          <p:cNvSpPr/>
          <p:nvPr/>
        </p:nvSpPr>
        <p:spPr>
          <a:xfrm>
            <a:off x="3708360" y="3789360"/>
            <a:ext cx="3527640" cy="936720"/>
          </a:xfrm>
          <a:prstGeom prst="wedgeRoundRectCallout">
            <a:avLst>
              <a:gd name="adj1" fmla="val 48333"/>
              <a:gd name="adj2" fmla="val 8118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2484360" y="24922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什么是散播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851280" y="39337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什么要远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468360" y="692280"/>
          <a:ext cx="8388360" cy="5916600"/>
        </p:xfrm>
        <a:graphic>
          <a:graphicData uri="http://schemas.openxmlformats.org/drawingml/2006/table">
            <a:tbl>
              <a:tblPr/>
              <a:tblGrid>
                <a:gridCol w="1944720"/>
                <a:gridCol w="3319560"/>
                <a:gridCol w="3124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植物名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构造特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散播种子的方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油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苍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番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蒲公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莲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411280" y="1268280"/>
          <a:ext cx="6443640" cy="642960"/>
        </p:xfrm>
        <a:graphic>
          <a:graphicData uri="http://schemas.openxmlformats.org/drawingml/2006/table">
            <a:tbl>
              <a:tblPr/>
              <a:tblGrid>
                <a:gridCol w="3319560"/>
                <a:gridCol w="31240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果荚容易开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弹力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2411280" y="1916280"/>
          <a:ext cx="6443640" cy="579240"/>
        </p:xfrm>
        <a:graphic>
          <a:graphicData uri="http://schemas.openxmlformats.org/drawingml/2006/table">
            <a:tbl>
              <a:tblPr/>
              <a:tblGrid>
                <a:gridCol w="3319560"/>
                <a:gridCol w="3124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种子表面带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动物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2411280" y="2492280"/>
          <a:ext cx="6443640" cy="579600"/>
        </p:xfrm>
        <a:graphic>
          <a:graphicData uri="http://schemas.openxmlformats.org/drawingml/2006/table">
            <a:tbl>
              <a:tblPr/>
              <a:tblGrid>
                <a:gridCol w="3319560"/>
                <a:gridCol w="3124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果实汁多鲜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动物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411280" y="3068640"/>
          <a:ext cx="6443640" cy="579600"/>
        </p:xfrm>
        <a:graphic>
          <a:graphicData uri="http://schemas.openxmlformats.org/drawingml/2006/table">
            <a:tbl>
              <a:tblPr/>
              <a:tblGrid>
                <a:gridCol w="3319560"/>
                <a:gridCol w="3124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小而轻，有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风力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411280" y="3645000"/>
          <a:ext cx="6443640" cy="585720"/>
        </p:xfrm>
        <a:graphic>
          <a:graphicData uri="http://schemas.openxmlformats.org/drawingml/2006/table">
            <a:tbl>
              <a:tblPr/>
              <a:tblGrid>
                <a:gridCol w="3319560"/>
                <a:gridCol w="3124080"/>
              </a:tblGrid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能浮在水面上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水力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468360" y="4221000"/>
          <a:ext cx="5264280" cy="2370240"/>
        </p:xfrm>
        <a:graphic>
          <a:graphicData uri="http://schemas.openxmlformats.org/drawingml/2006/table">
            <a:tbl>
              <a:tblPr/>
              <a:tblGrid>
                <a:gridCol w="1944720"/>
                <a:gridCol w="33195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凤仙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果荚容易开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鬼针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种子表面带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槭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而轻，有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椰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能浮在水面上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5724360" y="6019920"/>
          <a:ext cx="3124440" cy="579240"/>
        </p:xfrm>
        <a:graphic>
          <a:graphicData uri="http://schemas.openxmlformats.org/drawingml/2006/table">
            <a:tbl>
              <a:tblPr/>
              <a:tblGrid>
                <a:gridCol w="3124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水力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5724360" y="4221000"/>
          <a:ext cx="3124440" cy="579600"/>
        </p:xfrm>
        <a:graphic>
          <a:graphicData uri="http://schemas.openxmlformats.org/drawingml/2006/table">
            <a:tbl>
              <a:tblPr/>
              <a:tblGrid>
                <a:gridCol w="3124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弹力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724360" y="5388120"/>
          <a:ext cx="3124440" cy="633240"/>
        </p:xfrm>
        <a:graphic>
          <a:graphicData uri="http://schemas.openxmlformats.org/drawingml/2006/table">
            <a:tbl>
              <a:tblPr/>
              <a:tblGrid>
                <a:gridCol w="312444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风力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724360" y="4786200"/>
          <a:ext cx="3124440" cy="587520"/>
        </p:xfrm>
        <a:graphic>
          <a:graphicData uri="http://schemas.openxmlformats.org/drawingml/2006/table">
            <a:tbl>
              <a:tblPr/>
              <a:tblGrid>
                <a:gridCol w="312444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动物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250920" y="143316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列各组中的植物，都借助果实成熟时果皮开裂所产生的弹力传播种子的是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凤仙花和苍耳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凤仙花和油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凤仙花和椰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列各组中的植物，都借助风力传播种子的植物是（      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番茄和槭树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鬼针草和蒲公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蒲公英和槭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203640" y="444276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900000" y="170136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322200" y="811080"/>
            <a:ext cx="849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借助水力传播种子的植物是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凤仙花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苍耳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莲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实特点和种子的传播方式关系密切，以下果实不适合动物传播的是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实味道鲜美，动物喜欢吃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轻并有翅或绒毛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实外表带钩或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6875640" y="835920"/>
            <a:ext cx="8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6946920" y="29919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322200" y="121644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借助风力传播的果实和种子，一般较小且轻，有毛或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野葡萄的果实味美汁多，它的种子能借助动物传播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榆树、臭椿、枫树的果实是翅果，能借助风力传播种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810000" y="332280"/>
            <a:ext cx="55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873720" y="3653280"/>
            <a:ext cx="66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×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810000" y="1946880"/>
            <a:ext cx="55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S9PIDH3D15O[~EG[GDF3IB0"/>
          <p:cNvPicPr/>
          <p:nvPr/>
        </p:nvPicPr>
        <p:blipFill>
          <a:blip r:embed="rId1"/>
          <a:stretch/>
        </p:blipFill>
        <p:spPr>
          <a:xfrm>
            <a:off x="6012000" y="4819680"/>
            <a:ext cx="2592360" cy="20383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7"/>
          <p:cNvSpPr/>
          <p:nvPr/>
        </p:nvSpPr>
        <p:spPr>
          <a:xfrm>
            <a:off x="6012000" y="4869000"/>
            <a:ext cx="187164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枫树果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8ZZ~~_U_Y5U7)1I{LTP4OWV"/>
          <p:cNvPicPr/>
          <p:nvPr/>
        </p:nvPicPr>
        <p:blipFill>
          <a:blip r:embed="rId2"/>
          <a:stretch/>
        </p:blipFill>
        <p:spPr>
          <a:xfrm>
            <a:off x="684360" y="4932360"/>
            <a:ext cx="2158920" cy="1925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YT_0Z_YV_@UA1N)LJ6`}NAY"/>
          <p:cNvPicPr/>
          <p:nvPr/>
        </p:nvPicPr>
        <p:blipFill>
          <a:blip r:embed="rId3"/>
          <a:stretch/>
        </p:blipFill>
        <p:spPr>
          <a:xfrm>
            <a:off x="3419640" y="4869000"/>
            <a:ext cx="1873080" cy="19890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0"/>
          <p:cNvSpPr/>
          <p:nvPr/>
        </p:nvSpPr>
        <p:spPr>
          <a:xfrm>
            <a:off x="3419640" y="4869000"/>
            <a:ext cx="187164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臭椿果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826920" y="4941720"/>
            <a:ext cx="187200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榆树果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7"/>
          <p:cNvGrpSpPr/>
          <p:nvPr/>
        </p:nvGrpSpPr>
        <p:grpSpPr>
          <a:xfrm>
            <a:off x="469800" y="2703600"/>
            <a:ext cx="5616360" cy="2874600"/>
            <a:chOff x="469800" y="2703600"/>
            <a:chExt cx="5616360" cy="2874600"/>
          </a:xfrm>
        </p:grpSpPr>
        <p:sp>
          <p:nvSpPr>
            <p:cNvPr id="58" name="Rectangle 2"/>
            <p:cNvSpPr/>
            <p:nvPr/>
          </p:nvSpPr>
          <p:spPr>
            <a:xfrm>
              <a:off x="469800" y="3632040"/>
              <a:ext cx="3313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植物种子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散播方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3"/>
            <p:cNvSpPr/>
            <p:nvPr/>
          </p:nvSpPr>
          <p:spPr>
            <a:xfrm>
              <a:off x="2630160" y="2984400"/>
              <a:ext cx="216000" cy="237636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61920 h 2376360"/>
                <a:gd name="textAreaBottom" fmla="*/ 2314440 h 23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4"/>
            <p:cNvSpPr/>
            <p:nvPr/>
          </p:nvSpPr>
          <p:spPr>
            <a:xfrm>
              <a:off x="2846160" y="27036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借助外力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5"/>
            <p:cNvSpPr/>
            <p:nvPr/>
          </p:nvSpPr>
          <p:spPr>
            <a:xfrm>
              <a:off x="2846160" y="493560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依靠自身力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AutoShape 6"/>
          <p:cNvSpPr/>
          <p:nvPr/>
        </p:nvSpPr>
        <p:spPr>
          <a:xfrm>
            <a:off x="4933800" y="1758960"/>
            <a:ext cx="216000" cy="2665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5294160" y="1628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动物传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5294160" y="27162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风力传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5294160" y="37958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水力传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5867280" y="494172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弹射传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250920" y="2602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知道种子有哪些散播方式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一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物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316(E$_XXQ9JY(C7}~UP(ZB"/>
          <p:cNvPicPr/>
          <p:nvPr/>
        </p:nvPicPr>
        <p:blipFill>
          <a:blip r:embed="rId1"/>
          <a:stretch/>
        </p:blipFill>
        <p:spPr>
          <a:xfrm>
            <a:off x="0" y="1484280"/>
            <a:ext cx="4427640" cy="3889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L94$1919~HQ$6R6]5JTTK29"/>
          <p:cNvPicPr/>
          <p:nvPr/>
        </p:nvPicPr>
        <p:blipFill>
          <a:blip r:embed="rId2"/>
          <a:stretch/>
        </p:blipFill>
        <p:spPr>
          <a:xfrm>
            <a:off x="4716360" y="1484280"/>
            <a:ext cx="4427640" cy="38671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1476360" y="5740560"/>
            <a:ext cx="14382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桃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372360" y="5740560"/>
            <a:ext cx="1439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苹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一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物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476360" y="5740560"/>
            <a:ext cx="14382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杏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6372360" y="5740560"/>
            <a:ext cx="1439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葡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Z9TY`Y[{3DGE35XSSP5CRMK"/>
          <p:cNvPicPr/>
          <p:nvPr/>
        </p:nvPicPr>
        <p:blipFill>
          <a:blip r:embed="rId1"/>
          <a:stretch/>
        </p:blipFill>
        <p:spPr>
          <a:xfrm>
            <a:off x="0" y="1209600"/>
            <a:ext cx="4859280" cy="4010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4L$7DF}_@I90Y5HH216I`[H"/>
          <p:cNvPicPr/>
          <p:nvPr/>
        </p:nvPicPr>
        <p:blipFill>
          <a:blip r:embed="rId2"/>
          <a:stretch/>
        </p:blipFill>
        <p:spPr>
          <a:xfrm>
            <a:off x="5184720" y="1197000"/>
            <a:ext cx="39592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一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物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476360" y="5734080"/>
            <a:ext cx="14382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枇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6372360" y="5740560"/>
            <a:ext cx="1439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桔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7WVDX~H8CJ$3T}R]I~%GD]X"/>
          <p:cNvPicPr/>
          <p:nvPr/>
        </p:nvPicPr>
        <p:blipFill>
          <a:blip r:embed="rId1"/>
          <a:stretch/>
        </p:blipFill>
        <p:spPr>
          <a:xfrm>
            <a:off x="0" y="1220760"/>
            <a:ext cx="4572000" cy="3863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4_2`_QS%B{7`~ZW{7WM_9M4"/>
          <p:cNvPicPr/>
          <p:nvPr/>
        </p:nvPicPr>
        <p:blipFill>
          <a:blip r:embed="rId2"/>
          <a:stretch/>
        </p:blipFill>
        <p:spPr>
          <a:xfrm>
            <a:off x="4819680" y="1220760"/>
            <a:ext cx="43243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一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物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316(E$_XXQ9JY(C7}~UP(ZB"/>
          <p:cNvPicPr/>
          <p:nvPr/>
        </p:nvPicPr>
        <p:blipFill>
          <a:blip r:embed="rId1"/>
          <a:stretch/>
        </p:blipFill>
        <p:spPr>
          <a:xfrm>
            <a:off x="179280" y="836640"/>
            <a:ext cx="2737080" cy="2308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L94$1919~HQ$6R6]5JTTK29"/>
          <p:cNvPicPr/>
          <p:nvPr/>
        </p:nvPicPr>
        <p:blipFill>
          <a:blip r:embed="rId2"/>
          <a:stretch/>
        </p:blipFill>
        <p:spPr>
          <a:xfrm>
            <a:off x="3132000" y="836640"/>
            <a:ext cx="2806920" cy="2327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Z9TY`Y[{3DGE35XSSP5CRMK"/>
          <p:cNvPicPr/>
          <p:nvPr/>
        </p:nvPicPr>
        <p:blipFill>
          <a:blip r:embed="rId3"/>
          <a:stretch/>
        </p:blipFill>
        <p:spPr>
          <a:xfrm>
            <a:off x="6156360" y="836640"/>
            <a:ext cx="2808360" cy="2317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4L$7DF}_@I90Y5HH216I`[H"/>
          <p:cNvPicPr/>
          <p:nvPr/>
        </p:nvPicPr>
        <p:blipFill>
          <a:blip r:embed="rId4"/>
          <a:stretch/>
        </p:blipFill>
        <p:spPr>
          <a:xfrm>
            <a:off x="217440" y="4049640"/>
            <a:ext cx="2627280" cy="259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7WVDX~H8CJ$3T}R]I~%GD]X"/>
          <p:cNvPicPr/>
          <p:nvPr/>
        </p:nvPicPr>
        <p:blipFill>
          <a:blip r:embed="rId5"/>
          <a:stretch/>
        </p:blipFill>
        <p:spPr>
          <a:xfrm>
            <a:off x="3062160" y="4049640"/>
            <a:ext cx="2951280" cy="2616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4_2`_QS%B{7`~ZW{7WM_9M4"/>
          <p:cNvPicPr/>
          <p:nvPr/>
        </p:nvPicPr>
        <p:blipFill>
          <a:blip r:embed="rId6"/>
          <a:stretch/>
        </p:blipFill>
        <p:spPr>
          <a:xfrm>
            <a:off x="6156360" y="4049640"/>
            <a:ext cx="2808360" cy="26193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328464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它们有什么共同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859280" y="3284640"/>
            <a:ext cx="428472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怎样散播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4" descr="ARTBWNTCO{S6JAD4$A3}FDO"/>
          <p:cNvPicPr/>
          <p:nvPr/>
        </p:nvPicPr>
        <p:blipFill>
          <a:blip r:embed="rId1"/>
          <a:stretch/>
        </p:blipFill>
        <p:spPr>
          <a:xfrm>
            <a:off x="4859280" y="1268280"/>
            <a:ext cx="4284720" cy="38372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一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物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HLZDJ}LWIG)$FFWQ`E(KS_X"/>
          <p:cNvPicPr/>
          <p:nvPr/>
        </p:nvPicPr>
        <p:blipFill>
          <a:blip r:embed="rId2"/>
          <a:stretch/>
        </p:blipFill>
        <p:spPr>
          <a:xfrm>
            <a:off x="0" y="1268280"/>
            <a:ext cx="4572000" cy="38134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2"/>
          <p:cNvSpPr/>
          <p:nvPr/>
        </p:nvSpPr>
        <p:spPr>
          <a:xfrm>
            <a:off x="2484360" y="4437000"/>
            <a:ext cx="2087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鬼针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4859280" y="4437000"/>
            <a:ext cx="14400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苍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4859280" y="551664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实外表带钩或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0" y="5543640"/>
            <a:ext cx="55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怎样利用动物传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9" descr="6V_XL5CUZ_A]%Q4QWW$M1B5"/>
          <p:cNvPicPr/>
          <p:nvPr/>
        </p:nvPicPr>
        <p:blipFill>
          <a:blip r:embed="rId1"/>
          <a:stretch/>
        </p:blipFill>
        <p:spPr>
          <a:xfrm>
            <a:off x="0" y="1281240"/>
            <a:ext cx="4427640" cy="38764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一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物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332000" y="5445000"/>
            <a:ext cx="22320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蒺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í lí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4859280" y="551664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实外表带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)05TPV3XVU[V4LYTM%G8FSG"/>
          <p:cNvPicPr/>
          <p:nvPr/>
        </p:nvPicPr>
        <p:blipFill>
          <a:blip r:embed="rId2"/>
          <a:stretch/>
        </p:blipFill>
        <p:spPr>
          <a:xfrm>
            <a:off x="4643280" y="1281240"/>
            <a:ext cx="450072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7:22Z</dcterms:modified>
  <cp:revision>135</cp:revision>
  <dc:subject/>
  <dc:title>幻灯片 1</dc:title>
</cp:coreProperties>
</file>