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910-D425-4DDA-964C-5D6FC232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897-1B43-4248-8235-72BAA4D1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4DD-D023-46BA-8D7F-9E44CD5A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A41-B190-4388-BA00-BB964BEA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088-F07B-429C-8CB0-06138660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ABF-19B1-4CF0-8211-2933E531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631-5CAF-4BE5-9377-E3ACAD4A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6CD-79D0-4634-A968-887A5318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4DC-3B25-4351-AB57-C841927D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59D-E067-4B97-9376-6DF8A34C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C88-76BC-43FB-A577-58A57D21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B61-6145-4E02-967D-7F5F9CBD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8A30-D79F-43BA-86BB-12455AEF4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image" Target="../media/image28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各种各样的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478560" y="568008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豌豆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U]29HXUCS3[8K@]GOSN{SSI"/>
          <p:cNvPicPr/>
          <p:nvPr/>
        </p:nvPicPr>
        <p:blipFill>
          <a:blip r:embed="rId1"/>
          <a:stretch/>
        </p:blipFill>
        <p:spPr>
          <a:xfrm>
            <a:off x="0" y="1916280"/>
            <a:ext cx="5148360" cy="46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@@DZJ7%HDGRE%9T$OAVDFH4"/>
          <p:cNvPicPr/>
          <p:nvPr/>
        </p:nvPicPr>
        <p:blipFill>
          <a:blip r:embed="rId2"/>
          <a:stretch/>
        </p:blipFill>
        <p:spPr>
          <a:xfrm>
            <a:off x="5256360" y="1916280"/>
            <a:ext cx="3887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443640" y="5589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3P3{}$WLZI}7{U(LX(O)(Y"/>
          <p:cNvPicPr/>
          <p:nvPr/>
        </p:nvPicPr>
        <p:blipFill>
          <a:blip r:embed="rId1"/>
          <a:stretch/>
        </p:blipFill>
        <p:spPr>
          <a:xfrm>
            <a:off x="5364000" y="2060640"/>
            <a:ext cx="3780000" cy="303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KJ6ZEYJW@[11(6)81TL)L1Z"/>
          <p:cNvPicPr/>
          <p:nvPr/>
        </p:nvPicPr>
        <p:blipFill>
          <a:blip r:embed="rId2"/>
          <a:stretch/>
        </p:blipFill>
        <p:spPr>
          <a:xfrm>
            <a:off x="0" y="2060640"/>
            <a:ext cx="5219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084720" y="5805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}%(V)%`~)RE2%OF~7~4LBP2"/>
          <p:cNvPicPr/>
          <p:nvPr/>
        </p:nvPicPr>
        <p:blipFill>
          <a:blip r:embed="rId1"/>
          <a:stretch/>
        </p:blipFill>
        <p:spPr>
          <a:xfrm>
            <a:off x="250920" y="1700280"/>
            <a:ext cx="4470480" cy="48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WW@TEDE075Z6M5]BD5CW`WW"/>
          <p:cNvPicPr/>
          <p:nvPr/>
        </p:nvPicPr>
        <p:blipFill>
          <a:blip r:embed="rId2"/>
          <a:stretch/>
        </p:blipFill>
        <p:spPr>
          <a:xfrm>
            <a:off x="4932360" y="1700280"/>
            <a:ext cx="39844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195640" y="98100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79280" y="2637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979640" y="133992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]QZ{DA$K2U@U{8VID_FH5L"/>
          <p:cNvPicPr/>
          <p:nvPr/>
        </p:nvPicPr>
        <p:blipFill>
          <a:blip r:embed="rId1"/>
          <a:stretch/>
        </p:blipFill>
        <p:spPr>
          <a:xfrm>
            <a:off x="3743280" y="1197000"/>
            <a:ext cx="5400720" cy="3527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79280" y="56674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340000" y="57405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其中一部分或几部分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0" y="53006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284720" y="12682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I3P3{}$WLZI}7{U(LX(O)(Y"/>
          <p:cNvPicPr/>
          <p:nvPr/>
        </p:nvPicPr>
        <p:blipFill>
          <a:blip r:embed="rId1"/>
          <a:stretch/>
        </p:blipFill>
        <p:spPr>
          <a:xfrm>
            <a:off x="3203640" y="2133720"/>
            <a:ext cx="5940360" cy="4724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3203640" y="21337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564000" y="119700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和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}%(V)%`~)RE2%OF~7~4LBP2"/>
          <p:cNvPicPr/>
          <p:nvPr/>
        </p:nvPicPr>
        <p:blipFill>
          <a:blip r:embed="rId1"/>
          <a:stretch/>
        </p:blipFill>
        <p:spPr>
          <a:xfrm>
            <a:off x="3708360" y="2060640"/>
            <a:ext cx="447048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3708360" y="2060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659640" y="58118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708360" y="17064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88000" y="170028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@6D(E$_6RA]KRO2$XI6JTVN"/>
          <p:cNvPicPr/>
          <p:nvPr/>
        </p:nvPicPr>
        <p:blipFill>
          <a:blip r:embed="rId1"/>
          <a:stretch/>
        </p:blipFill>
        <p:spPr>
          <a:xfrm>
            <a:off x="2771640" y="2565360"/>
            <a:ext cx="3240360" cy="31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6153120" y="2565360"/>
            <a:ext cx="299088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3203640" y="58118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}Z8R`0G%K_9[GKOWID}0A{H"/>
          <p:cNvPicPr/>
          <p:nvPr/>
        </p:nvPicPr>
        <p:blipFill>
          <a:blip r:embed="rId1"/>
          <a:stretch/>
        </p:blipFill>
        <p:spPr>
          <a:xfrm>
            <a:off x="250920" y="792000"/>
            <a:ext cx="4140000" cy="3305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52360" y="792000"/>
            <a:ext cx="1440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@2FE6XP%SPS3J70KL]U$YAI"/>
          <p:cNvPicPr/>
          <p:nvPr/>
        </p:nvPicPr>
        <p:blipFill>
          <a:blip r:embed="rId2"/>
          <a:stretch/>
        </p:blipFill>
        <p:spPr>
          <a:xfrm>
            <a:off x="4788000" y="865080"/>
            <a:ext cx="4032000" cy="325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4788000" y="865080"/>
            <a:ext cx="143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80000" y="4581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B((F[95`YH30RRYR9CHQVD6"/>
          <p:cNvPicPr/>
          <p:nvPr/>
        </p:nvPicPr>
        <p:blipFill>
          <a:blip r:embed="rId3"/>
          <a:stretch/>
        </p:blipFill>
        <p:spPr>
          <a:xfrm>
            <a:off x="250920" y="4292640"/>
            <a:ext cx="4105080" cy="2381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6"/>
          <p:cNvSpPr/>
          <p:nvPr/>
        </p:nvSpPr>
        <p:spPr>
          <a:xfrm>
            <a:off x="5580000" y="560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250920" y="4292640"/>
            <a:ext cx="194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476360" y="1341360"/>
            <a:ext cx="4175280" cy="345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5651640" y="1484280"/>
            <a:ext cx="0" cy="3313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195640" y="4797360"/>
            <a:ext cx="345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580000" y="44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614920" y="5445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I3P3{}$WLZI}7{U(LX(O)(Y"/>
          <p:cNvPicPr/>
          <p:nvPr/>
        </p:nvPicPr>
        <p:blipFill>
          <a:blip r:embed="rId1"/>
          <a:stretch/>
        </p:blipFill>
        <p:spPr>
          <a:xfrm>
            <a:off x="360360" y="836640"/>
            <a:ext cx="3851280" cy="316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5"/>
          <p:cNvSpPr/>
          <p:nvPr/>
        </p:nvSpPr>
        <p:spPr>
          <a:xfrm>
            <a:off x="360360" y="836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195640" y="1484280"/>
            <a:ext cx="3384360" cy="4248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4(97F]O87{DD4GXNVJ_31@0"/>
          <p:cNvPicPr/>
          <p:nvPr/>
        </p:nvPicPr>
        <p:blipFill>
          <a:blip r:embed="rId2"/>
          <a:stretch/>
        </p:blipFill>
        <p:spPr>
          <a:xfrm>
            <a:off x="4716360" y="907920"/>
            <a:ext cx="4103640" cy="3168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7"/>
          <p:cNvSpPr/>
          <p:nvPr/>
        </p:nvSpPr>
        <p:spPr>
          <a:xfrm>
            <a:off x="4716360" y="9079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5580000" y="1484280"/>
            <a:ext cx="0" cy="424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3"/>
          <a:stretch/>
        </p:blipFill>
        <p:spPr>
          <a:xfrm>
            <a:off x="395280" y="4221000"/>
            <a:ext cx="3816360" cy="2492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1"/>
          <p:cNvSpPr/>
          <p:nvPr/>
        </p:nvSpPr>
        <p:spPr>
          <a:xfrm>
            <a:off x="395280" y="42210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2124000" y="4724280"/>
            <a:ext cx="3456000" cy="100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性花和单性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087640" y="42814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雄蕊没有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雌蕊没有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08000" y="3147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单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81080" y="1419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60720" y="1413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有雄蕊又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2016000" y="3141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有雄蕊或只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 rot="5400000">
            <a:off x="756000" y="4185360"/>
            <a:ext cx="1403280" cy="1116000"/>
          </a:xfrm>
          <a:custGeom>
            <a:avLst/>
            <a:gdLst>
              <a:gd name="textAreaLeft" fmla="*/ 0 w 1403280"/>
              <a:gd name="textAreaRight" fmla="*/ 1219320 w 1403280"/>
              <a:gd name="textAreaTop" fmla="*/ 91872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17104" y="0"/>
                </a:moveTo>
                <a:lnTo>
                  <a:pt x="12608" y="8050"/>
                </a:lnTo>
                <a:lnTo>
                  <a:pt x="15443" y="8050"/>
                </a:lnTo>
                <a:lnTo>
                  <a:pt x="15443" y="17776"/>
                </a:lnTo>
                <a:lnTo>
                  <a:pt x="0" y="17776"/>
                </a:lnTo>
                <a:lnTo>
                  <a:pt x="0" y="21600"/>
                </a:lnTo>
                <a:lnTo>
                  <a:pt x="18765" y="21600"/>
                </a:lnTo>
                <a:lnTo>
                  <a:pt x="18765" y="8050"/>
                </a:lnTo>
                <a:lnTo>
                  <a:pt x="21600" y="8050"/>
                </a:lnTo>
                <a:lnTo>
                  <a:pt x="1710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}Z8R`0G%K_9[GKOWID}0A{H"/>
          <p:cNvPicPr/>
          <p:nvPr/>
        </p:nvPicPr>
        <p:blipFill>
          <a:blip r:embed="rId1"/>
          <a:stretch/>
        </p:blipFill>
        <p:spPr>
          <a:xfrm>
            <a:off x="4932360" y="1916280"/>
            <a:ext cx="4211640" cy="336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D$O3NTI[PRJPG~Q`(PQF0H"/>
          <p:cNvPicPr/>
          <p:nvPr/>
        </p:nvPicPr>
        <p:blipFill>
          <a:blip r:embed="rId2"/>
          <a:stretch/>
        </p:blipFill>
        <p:spPr>
          <a:xfrm>
            <a:off x="0" y="1916280"/>
            <a:ext cx="4643280" cy="4581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花蕊的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268280"/>
          <a:ext cx="8640720" cy="5137200"/>
        </p:xfrm>
        <a:graphic>
          <a:graphicData uri="http://schemas.openxmlformats.org/drawingml/2006/table">
            <a:tbl>
              <a:tblPr/>
              <a:tblGrid>
                <a:gridCol w="2916360"/>
                <a:gridCol w="2916360"/>
                <a:gridCol w="2808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雄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既有雄蕊又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8" descr="苏铁的雄花"/>
          <p:cNvPicPr/>
          <p:nvPr/>
        </p:nvPicPr>
        <p:blipFill>
          <a:blip r:embed="rId1"/>
          <a:stretch/>
        </p:blipFill>
        <p:spPr>
          <a:xfrm>
            <a:off x="324000" y="2492280"/>
            <a:ext cx="2592360" cy="173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苏铁的雌花"/>
          <p:cNvPicPr/>
          <p:nvPr/>
        </p:nvPicPr>
        <p:blipFill>
          <a:blip r:embed="rId2"/>
          <a:stretch/>
        </p:blipFill>
        <p:spPr>
          <a:xfrm>
            <a:off x="3276720" y="2492280"/>
            <a:ext cx="2590560" cy="172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@6D(E$_6RA]KRO2$XI6JTVN"/>
          <p:cNvPicPr/>
          <p:nvPr/>
        </p:nvPicPr>
        <p:blipFill>
          <a:blip r:embed="rId3"/>
          <a:stretch/>
        </p:blipFill>
        <p:spPr>
          <a:xfrm>
            <a:off x="324000" y="4292640"/>
            <a:ext cx="2592360" cy="1969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"/>
          <p:cNvPicPr/>
          <p:nvPr/>
        </p:nvPicPr>
        <p:blipFill>
          <a:blip r:embed="rId4"/>
          <a:stretch/>
        </p:blipFill>
        <p:spPr>
          <a:xfrm>
            <a:off x="3276720" y="4365720"/>
            <a:ext cx="2590560" cy="183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3" descr="豌豆"/>
          <p:cNvPicPr/>
          <p:nvPr/>
        </p:nvPicPr>
        <p:blipFill>
          <a:blip r:embed="rId5"/>
          <a:stretch/>
        </p:blipFill>
        <p:spPr>
          <a:xfrm>
            <a:off x="6156360" y="2565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4" descr="桃花"/>
          <p:cNvPicPr/>
          <p:nvPr/>
        </p:nvPicPr>
        <p:blipFill>
          <a:blip r:embed="rId6"/>
          <a:stretch/>
        </p:blipFill>
        <p:spPr>
          <a:xfrm>
            <a:off x="6156360" y="4508640"/>
            <a:ext cx="2448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4000" y="4365720"/>
          <a:ext cx="8208720" cy="2160360"/>
        </p:xfrm>
        <a:graphic>
          <a:graphicData uri="http://schemas.openxmlformats.org/drawingml/2006/table">
            <a:tbl>
              <a:tblPr/>
              <a:tblGrid>
                <a:gridCol w="3855960"/>
                <a:gridCol w="43527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相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不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33"/>
          <p:cNvSpPr/>
          <p:nvPr/>
        </p:nvSpPr>
        <p:spPr>
          <a:xfrm>
            <a:off x="179280" y="0"/>
            <a:ext cx="84250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雄蕊、没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雌蕊、没有雄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0" y="335772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豌豆花、桃花、油菜花、牵牛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0" y="7650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雄花、铁树雄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0" y="206064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雌花、铁树雌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1476360" y="537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有花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4788000" y="5157720"/>
            <a:ext cx="3456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同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异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79280" y="189000"/>
            <a:ext cx="8425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油菜花一样，由（        ）、（          ）、（         ）和（         ）四部分组成，这样的花叫做完全花；而有些花缺少其中的一部分或几部分，这样的花叫（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（           ）的花叫做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雄蕊没有（           ）的花叫雄花，只有雌蕊没有（          ）的花叫雌花。（            ）和（            ）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924360" y="19861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4157640" y="25704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443640" y="26028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684360" y="83664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2916360" y="83340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492360" y="3141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3492360" y="4365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340000" y="49370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6877080" y="486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1187280" y="551664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24000" y="24120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完全花都是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不完全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两性花都是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单性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花和雌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896040" y="842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885240" y="1052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885240" y="2060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891360" y="5950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891360" y="49417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896040" y="4005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896040" y="306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2"/>
          <p:cNvSpPr/>
          <p:nvPr/>
        </p:nvSpPr>
        <p:spPr>
          <a:xfrm>
            <a:off x="4067280" y="1515960"/>
            <a:ext cx="4716360" cy="4792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932360" y="227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组成部分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080" y="1341360"/>
            <a:ext cx="456228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名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颜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气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萼片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瓣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一朵花的观察记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443640" y="587700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@2FE6XP%SPS3J70KL]U$YAI"/>
          <p:cNvPicPr/>
          <p:nvPr/>
        </p:nvPicPr>
        <p:blipFill>
          <a:blip r:embed="rId1"/>
          <a:stretch/>
        </p:blipFill>
        <p:spPr>
          <a:xfrm>
            <a:off x="4581360" y="1844640"/>
            <a:ext cx="4562640" cy="368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5FJM57Y1EUK2SQ77BBDLPH"/>
          <p:cNvPicPr/>
          <p:nvPr/>
        </p:nvPicPr>
        <p:blipFill>
          <a:blip r:embed="rId2"/>
          <a:stretch/>
        </p:blipFill>
        <p:spPr>
          <a:xfrm>
            <a:off x="0" y="1844640"/>
            <a:ext cx="4427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6E0V4KFII2NA8U@JEV`@UEB"/>
          <p:cNvPicPr/>
          <p:nvPr/>
        </p:nvPicPr>
        <p:blipFill>
          <a:blip r:embed="rId1"/>
          <a:stretch/>
        </p:blipFill>
        <p:spPr>
          <a:xfrm>
            <a:off x="0" y="1844640"/>
            <a:ext cx="4581360" cy="439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3_7GH92X82(9~8Z4F05}35"/>
          <p:cNvPicPr/>
          <p:nvPr/>
        </p:nvPicPr>
        <p:blipFill>
          <a:blip r:embed="rId2"/>
          <a:stretch/>
        </p:blipFill>
        <p:spPr>
          <a:xfrm>
            <a:off x="4724280" y="184464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940360" y="5661000"/>
            <a:ext cx="32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垂丝海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4LC$A2K7Y9~B8DG[31PWZ7M"/>
          <p:cNvPicPr/>
          <p:nvPr/>
        </p:nvPicPr>
        <p:blipFill>
          <a:blip r:embed="rId1"/>
          <a:stretch/>
        </p:blipFill>
        <p:spPr>
          <a:xfrm>
            <a:off x="0" y="1989000"/>
            <a:ext cx="4932360" cy="443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W(GP8A({K~N6V(67YZA}ZHN"/>
          <p:cNvPicPr/>
          <p:nvPr/>
        </p:nvPicPr>
        <p:blipFill>
          <a:blip r:embed="rId2"/>
          <a:stretch/>
        </p:blipFill>
        <p:spPr>
          <a:xfrm>
            <a:off x="5003640" y="1989000"/>
            <a:ext cx="4140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372360" y="587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兰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203U2SPS~ML3T{S994VWH6"/>
          <p:cNvPicPr/>
          <p:nvPr/>
        </p:nvPicPr>
        <p:blipFill>
          <a:blip r:embed="rId1"/>
          <a:stretch/>
        </p:blipFill>
        <p:spPr>
          <a:xfrm>
            <a:off x="0" y="1773360"/>
            <a:ext cx="5172120" cy="4457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7`UX}H}MS24XL4T6]UIYYOP"/>
          <p:cNvPicPr/>
          <p:nvPr/>
        </p:nvPicPr>
        <p:blipFill>
          <a:blip r:embed="rId2"/>
          <a:stretch/>
        </p:blipFill>
        <p:spPr>
          <a:xfrm>
            <a:off x="5435640" y="1773360"/>
            <a:ext cx="3708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443640" y="551664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茶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ORDSH}B)58NGP98$EYG3CI6"/>
          <p:cNvPicPr/>
          <p:nvPr/>
        </p:nvPicPr>
        <p:blipFill>
          <a:blip r:embed="rId1"/>
          <a:stretch/>
        </p:blipFill>
        <p:spPr>
          <a:xfrm>
            <a:off x="5003640" y="1844640"/>
            <a:ext cx="4140360" cy="318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UATF75FUX62KXK{CZ0W1SZE"/>
          <p:cNvPicPr/>
          <p:nvPr/>
        </p:nvPicPr>
        <p:blipFill>
          <a:blip r:embed="rId2"/>
          <a:stretch/>
        </p:blipFill>
        <p:spPr>
          <a:xfrm>
            <a:off x="0" y="1844640"/>
            <a:ext cx="4876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300720" y="5805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6X@%{XAV5`0`T___F4Y55G"/>
          <p:cNvPicPr/>
          <p:nvPr/>
        </p:nvPicPr>
        <p:blipFill>
          <a:blip r:embed="rId1"/>
          <a:stretch/>
        </p:blipFill>
        <p:spPr>
          <a:xfrm>
            <a:off x="0" y="1916280"/>
            <a:ext cx="5076720" cy="436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QXEA@}VFSS$@[ZJKQAF~RXT"/>
          <p:cNvPicPr/>
          <p:nvPr/>
        </p:nvPicPr>
        <p:blipFill>
          <a:blip r:embed="rId2"/>
          <a:stretch/>
        </p:blipFill>
        <p:spPr>
          <a:xfrm>
            <a:off x="5148360" y="1916280"/>
            <a:ext cx="399564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659640" y="573408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桐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2)O{A{5P3L$@ZHRA3{0WXHJ"/>
          <p:cNvPicPr/>
          <p:nvPr/>
        </p:nvPicPr>
        <p:blipFill>
          <a:blip r:embed="rId1"/>
          <a:stretch/>
        </p:blipFill>
        <p:spPr>
          <a:xfrm>
            <a:off x="0" y="1916280"/>
            <a:ext cx="5610240" cy="453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[AQP(WW)W7~FDP({([(@]A0"/>
          <p:cNvPicPr/>
          <p:nvPr/>
        </p:nvPicPr>
        <p:blipFill>
          <a:blip r:embed="rId2"/>
          <a:stretch/>
        </p:blipFill>
        <p:spPr>
          <a:xfrm>
            <a:off x="5686560" y="1916280"/>
            <a:ext cx="34574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6:38Z</dcterms:modified>
  <cp:revision>152</cp:revision>
  <dc:subject/>
  <dc:title>幻灯片 1</dc:title>
</cp:coreProperties>
</file>