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E442-86FB-41D5-A4D5-8F976D86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F0D3-B728-43AB-A98C-CDC8C1A5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636-F38A-46A2-9A8C-B12FB97A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E82A-C059-45FA-981E-2B9E3D20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130-5490-41A3-98EA-BEEFB455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1AC-1F58-44B2-9093-351578F9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AAD-D8BE-4C16-B17D-4B2ED0AD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2023-9A17-4F2F-884E-CC42D225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515B-C172-44DD-A9BD-72E1977A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3573-2DD2-4983-8757-3B9B9ED6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DF00-ABE8-479D-9C46-6D949874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F124-B5EF-4D3A-910E-E998237D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0C56-9544-483B-915A-DDEEFE1CF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动物的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鸡2"/>
          <p:cNvPicPr/>
          <p:nvPr/>
        </p:nvPicPr>
        <p:blipFill>
          <a:blip r:embed="rId1"/>
          <a:stretch/>
        </p:blipFill>
        <p:spPr>
          <a:xfrm>
            <a:off x="714240" y="928800"/>
            <a:ext cx="75009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鸡3"/>
          <p:cNvPicPr/>
          <p:nvPr/>
        </p:nvPicPr>
        <p:blipFill>
          <a:blip r:embed="rId1"/>
          <a:stretch/>
        </p:blipFill>
        <p:spPr>
          <a:xfrm>
            <a:off x="714240" y="928800"/>
            <a:ext cx="757260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C:\Users\Administrator\AppData\Roaming\Tencent\Users\173692760\QQ\WinTemp\RichOle\HTBI@~J5LENY)$74@(HNBYM.jpg"/>
          <p:cNvPicPr/>
          <p:nvPr/>
        </p:nvPicPr>
        <p:blipFill>
          <a:blip r:embed="rId1"/>
          <a:stretch/>
        </p:blipFill>
        <p:spPr>
          <a:xfrm>
            <a:off x="785880" y="1000080"/>
            <a:ext cx="76057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C:\Users\Administrator\AppData\Roaming\Tencent\Users\173692760\QQ\WinTemp\RichOle\ESJS9`[`%ZW)$M[)CUDO26Y.jpg"/>
          <p:cNvPicPr/>
          <p:nvPr/>
        </p:nvPicPr>
        <p:blipFill>
          <a:blip r:embed="rId1"/>
          <a:stretch/>
        </p:blipFill>
        <p:spPr>
          <a:xfrm>
            <a:off x="642960" y="1000080"/>
            <a:ext cx="778680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鸡8"/>
          <p:cNvPicPr/>
          <p:nvPr/>
        </p:nvPicPr>
        <p:blipFill>
          <a:blip r:embed="rId1"/>
          <a:stretch/>
        </p:blipFill>
        <p:spPr>
          <a:xfrm>
            <a:off x="642960" y="857160"/>
            <a:ext cx="76438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C:\Users\Administrator\AppData\Roaming\Tencent\Users\173692760\QQ\WinTemp\RichOle\7JF}%TZCBQ{3]T($DM9WM6H.jpg"/>
          <p:cNvPicPr/>
          <p:nvPr/>
        </p:nvPicPr>
        <p:blipFill>
          <a:blip r:embed="rId1"/>
          <a:stretch/>
        </p:blipFill>
        <p:spPr>
          <a:xfrm>
            <a:off x="785880" y="928800"/>
            <a:ext cx="750096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鸡蛋12"/>
          <p:cNvPicPr/>
          <p:nvPr/>
        </p:nvPicPr>
        <p:blipFill>
          <a:blip r:embed="rId1"/>
          <a:stretch/>
        </p:blipFill>
        <p:spPr>
          <a:xfrm>
            <a:off x="928800" y="1000080"/>
            <a:ext cx="735804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C:\Users\Administrator\AppData\Roaming\Tencent\Users\173692760\QQ\WinTemp\RichOle\`PKVK)HQX64SMJ[3OQ767GN.jpg"/>
          <p:cNvPicPr/>
          <p:nvPr/>
        </p:nvPicPr>
        <p:blipFill>
          <a:blip r:embed="rId1"/>
          <a:stretch/>
        </p:blipFill>
        <p:spPr>
          <a:xfrm>
            <a:off x="857160" y="857160"/>
            <a:ext cx="7429680" cy="5672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鸡蛋14"/>
          <p:cNvPicPr/>
          <p:nvPr/>
        </p:nvPicPr>
        <p:blipFill>
          <a:blip r:embed="rId1"/>
          <a:stretch/>
        </p:blipFill>
        <p:spPr>
          <a:xfrm>
            <a:off x="785880" y="928800"/>
            <a:ext cx="757224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C:\Users\Administrator\AppData\Roaming\Tencent\Users\173692760\QQ\WinTemp\RichOle\6X0RKLUT_H(CR({KCJ4K@CU.jpg"/>
          <p:cNvPicPr/>
          <p:nvPr/>
        </p:nvPicPr>
        <p:blipFill>
          <a:blip r:embed="rId1"/>
          <a:stretch/>
        </p:blipFill>
        <p:spPr>
          <a:xfrm>
            <a:off x="714240" y="928800"/>
            <a:ext cx="757260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Administrator\AppData\Roaming\Tencent\Users\173692760\QQ\WinTemp\RichOle\B(ZS{VJPLG_[$XV}9X44[_X.jpg"/>
          <p:cNvPicPr/>
          <p:nvPr/>
        </p:nvPicPr>
        <p:blipFill>
          <a:blip r:embed="rId1"/>
          <a:stretch/>
        </p:blipFill>
        <p:spPr>
          <a:xfrm>
            <a:off x="5000760" y="857160"/>
            <a:ext cx="3481200" cy="2786040"/>
          </a:xfrm>
          <a:prstGeom prst="rect">
            <a:avLst/>
          </a:prstGeom>
          <a:ln w="0">
            <a:noFill/>
          </a:ln>
        </p:spPr>
      </p:pic>
      <p:sp>
        <p:nvSpPr>
          <p:cNvPr id="44" name="矩形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动物的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Administrator\AppData\Roaming\Tencent\Users\173692760\QQ\WinTemp\RichOle\{_B4$H_PNK58QY4`W7A9QPI.jpg"/>
          <p:cNvPicPr/>
          <p:nvPr/>
        </p:nvPicPr>
        <p:blipFill>
          <a:blip r:embed="rId2"/>
          <a:stretch/>
        </p:blipFill>
        <p:spPr>
          <a:xfrm>
            <a:off x="714240" y="857160"/>
            <a:ext cx="3429000" cy="2797200"/>
          </a:xfrm>
          <a:prstGeom prst="rect">
            <a:avLst/>
          </a:prstGeom>
          <a:ln w="0">
            <a:noFill/>
          </a:ln>
        </p:spPr>
      </p:pic>
      <p:sp>
        <p:nvSpPr>
          <p:cNvPr id="46" name="矩形 5"/>
          <p:cNvSpPr/>
          <p:nvPr/>
        </p:nvSpPr>
        <p:spPr>
          <a:xfrm>
            <a:off x="0" y="3071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蝴蝶卵                       青蛙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Users\Administrator\Desktop\11.jpg"/>
          <p:cNvPicPr/>
          <p:nvPr/>
        </p:nvPicPr>
        <p:blipFill>
          <a:blip r:embed="rId3"/>
          <a:stretch/>
        </p:blipFill>
        <p:spPr>
          <a:xfrm>
            <a:off x="714240" y="392904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5000760" y="3929040"/>
            <a:ext cx="350028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矩形 7"/>
          <p:cNvSpPr/>
          <p:nvPr/>
        </p:nvSpPr>
        <p:spPr>
          <a:xfrm>
            <a:off x="0" y="592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蟾蜍卵                         鱼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3" descr="1.jpg"/>
          <p:cNvPicPr/>
          <p:nvPr/>
        </p:nvPicPr>
        <p:blipFill>
          <a:blip r:embed="rId1"/>
          <a:stretch/>
        </p:blipFill>
        <p:spPr>
          <a:xfrm>
            <a:off x="714240" y="1000080"/>
            <a:ext cx="7715520" cy="5526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71280" y="230040"/>
            <a:ext cx="889344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青蛙、鸡这样，靠（      ）繁殖后代的方式叫做（         ）。用这种方式繁殖后代的动物叫（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蛙的受精卵能在（    ）天左右孵化出（            ）。受精的鸡蛋大约需要（      ）星期，才能孵化出小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动物是卵生动物的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填序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                        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蝴蝶  ②大象  ③鸡     ④蛇      ⑤青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鲫鱼  ⑦乌龟  ⑧蜗牛  ⑨鸽子  ⑩老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284720" y="227592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124000" y="1341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268360" y="764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343640" y="278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4000" y="28522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蝌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4859280" y="188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684360" y="4941360"/>
            <a:ext cx="72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③、⑤、⑥、⑦、⑧、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动物的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928960" y="2714760"/>
            <a:ext cx="3714840" cy="1644480"/>
          </a:xfrm>
          <a:prstGeom prst="rect">
            <a:avLst/>
          </a:prstGeom>
          <a:ln w="0">
            <a:noFill/>
          </a:ln>
        </p:spPr>
      </p:pic>
      <p:sp>
        <p:nvSpPr>
          <p:cNvPr id="52" name="线形标注 1 9"/>
          <p:cNvSpPr/>
          <p:nvPr/>
        </p:nvSpPr>
        <p:spPr>
          <a:xfrm>
            <a:off x="785880" y="1571760"/>
            <a:ext cx="1214280" cy="785520"/>
          </a:xfrm>
          <a:prstGeom prst="borderCallout1">
            <a:avLst>
              <a:gd name="adj1" fmla="val 18750"/>
              <a:gd name="adj2" fmla="val -8333"/>
              <a:gd name="adj3" fmla="val 191324"/>
              <a:gd name="adj4" fmla="val 21282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鸭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线形标注 1 10"/>
          <p:cNvSpPr/>
          <p:nvPr/>
        </p:nvSpPr>
        <p:spPr>
          <a:xfrm>
            <a:off x="1500120" y="4500720"/>
            <a:ext cx="1214640" cy="785520"/>
          </a:xfrm>
          <a:prstGeom prst="borderCallout1">
            <a:avLst>
              <a:gd name="adj1" fmla="val 18750"/>
              <a:gd name="adj2" fmla="val -8333"/>
              <a:gd name="adj3" fmla="val -92074"/>
              <a:gd name="adj4" fmla="val 2286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鸡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线形标注 1 11"/>
          <p:cNvSpPr/>
          <p:nvPr/>
        </p:nvSpPr>
        <p:spPr>
          <a:xfrm>
            <a:off x="3000240" y="1571760"/>
            <a:ext cx="1500480" cy="785520"/>
          </a:xfrm>
          <a:prstGeom prst="borderCallout1">
            <a:avLst>
              <a:gd name="adj1" fmla="val 18750"/>
              <a:gd name="adj2" fmla="val -8333"/>
              <a:gd name="adj3" fmla="val 221356"/>
              <a:gd name="adj4" fmla="val 13388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燕鸥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线形标注 1 12"/>
          <p:cNvSpPr/>
          <p:nvPr/>
        </p:nvSpPr>
        <p:spPr>
          <a:xfrm>
            <a:off x="3429000" y="4500720"/>
            <a:ext cx="2000160" cy="785520"/>
          </a:xfrm>
          <a:prstGeom prst="borderCallout1">
            <a:avLst>
              <a:gd name="adj1" fmla="val 18750"/>
              <a:gd name="adj2" fmla="val -8333"/>
              <a:gd name="adj3" fmla="val -84564"/>
              <a:gd name="adj4" fmla="val 9750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赤翡翠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线形标注 1 13"/>
          <p:cNvSpPr/>
          <p:nvPr/>
        </p:nvSpPr>
        <p:spPr>
          <a:xfrm>
            <a:off x="5929200" y="1571760"/>
            <a:ext cx="1500480" cy="785520"/>
          </a:xfrm>
          <a:prstGeom prst="borderCallout1">
            <a:avLst>
              <a:gd name="adj1" fmla="val 18750"/>
              <a:gd name="adj2" fmla="val -8333"/>
              <a:gd name="adj3" fmla="val 258893"/>
              <a:gd name="adj4" fmla="val -375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鹌鹑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线形标注 1 14"/>
          <p:cNvSpPr/>
          <p:nvPr/>
        </p:nvSpPr>
        <p:spPr>
          <a:xfrm>
            <a:off x="6500880" y="4500720"/>
            <a:ext cx="2000160" cy="785520"/>
          </a:xfrm>
          <a:prstGeom prst="borderCallout1">
            <a:avLst>
              <a:gd name="adj1" fmla="val 18750"/>
              <a:gd name="adj2" fmla="val -8333"/>
              <a:gd name="adj3" fmla="val -58291"/>
              <a:gd name="adj4" fmla="val -55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戴菊莺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dministrator\AppData\Roaming\Tencent\Users\173692760\QQ\WinTemp\RichOle\PD)M@XBB]58INDA1R%IVGCU.jpg"/>
          <p:cNvPicPr/>
          <p:nvPr/>
        </p:nvPicPr>
        <p:blipFill>
          <a:blip r:embed="rId1"/>
          <a:stretch/>
        </p:blipFill>
        <p:spPr>
          <a:xfrm>
            <a:off x="154080" y="1000080"/>
            <a:ext cx="3774960" cy="5072040"/>
          </a:xfrm>
          <a:prstGeom prst="rect">
            <a:avLst/>
          </a:prstGeom>
          <a:ln w="0">
            <a:noFill/>
          </a:ln>
        </p:spPr>
      </p:pic>
      <p:sp>
        <p:nvSpPr>
          <p:cNvPr id="59" name="矩形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动物的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143240" y="92880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特大鸵鸟蛋与鸡蛋比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Users\Administrator\AppData\Roaming\Tencent\Users\173692760\QQ\WinTemp\RichOle\)0IT7@HY}KT7)AZWW%UQZW4.jpg"/>
          <p:cNvPicPr/>
          <p:nvPr/>
        </p:nvPicPr>
        <p:blipFill>
          <a:blip r:embed="rId2"/>
          <a:stretch/>
        </p:blipFill>
        <p:spPr>
          <a:xfrm>
            <a:off x="4429080" y="1785960"/>
            <a:ext cx="4340160" cy="2714760"/>
          </a:xfrm>
          <a:prstGeom prst="rect">
            <a:avLst/>
          </a:prstGeom>
          <a:ln w="0">
            <a:noFill/>
          </a:ln>
        </p:spPr>
      </p:pic>
      <p:sp>
        <p:nvSpPr>
          <p:cNvPr id="62" name="矩形 8"/>
          <p:cNvSpPr/>
          <p:nvPr/>
        </p:nvSpPr>
        <p:spPr>
          <a:xfrm>
            <a:off x="357120" y="607212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2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斤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5572080" y="457200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瓢虫的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0"/>
          <p:cNvSpPr/>
          <p:nvPr/>
        </p:nvSpPr>
        <p:spPr>
          <a:xfrm>
            <a:off x="4286160" y="557208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有什么发现或问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鸡蛋的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7"/>
          <p:cNvSpPr/>
          <p:nvPr/>
        </p:nvSpPr>
        <p:spPr>
          <a:xfrm>
            <a:off x="214200" y="857160"/>
            <a:ext cx="8929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的外形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的外壳上有小孔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的内部有些什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8" descr="C:\Users\Administrator\AppData\Roaming\Tencent\Users\173692760\QQ\WinTemp\RichOle\LJFWA6J$TRC}KH7`YU)ZJO1.jpg"/>
          <p:cNvPicPr/>
          <p:nvPr/>
        </p:nvPicPr>
        <p:blipFill>
          <a:blip r:embed="rId1"/>
          <a:stretch/>
        </p:blipFill>
        <p:spPr>
          <a:xfrm>
            <a:off x="5286240" y="3368520"/>
            <a:ext cx="3857760" cy="348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C:\Users\Administrator\AppData\Roaming\Tencent\Users\173692760\QQ\WinTemp\RichOle\3@6CYLYGIH(WDS_H_$C[8)N.jpg"/>
          <p:cNvPicPr/>
          <p:nvPr/>
        </p:nvPicPr>
        <p:blipFill>
          <a:blip r:embed="rId2"/>
          <a:stretch/>
        </p:blipFill>
        <p:spPr>
          <a:xfrm>
            <a:off x="5715000" y="785880"/>
            <a:ext cx="3105000" cy="257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C:\Users\Administrator\AppData\Roaming\Tencent\Users\173692760\QQ\WinTemp\RichOle\YFFARO0BJLWD`7JO3$DVJG8.jpg"/>
          <p:cNvPicPr/>
          <p:nvPr/>
        </p:nvPicPr>
        <p:blipFill>
          <a:blip r:embed="rId3"/>
          <a:stretch/>
        </p:blipFill>
        <p:spPr>
          <a:xfrm>
            <a:off x="1000080" y="3500280"/>
            <a:ext cx="2978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898560" y="2205000"/>
            <a:ext cx="6985080" cy="3022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059280" y="2060640"/>
            <a:ext cx="1223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130560" y="20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蛋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356000" y="4653000"/>
            <a:ext cx="12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427640" y="465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蛋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24000" y="4579920"/>
            <a:ext cx="1223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611280" y="45799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2987640" y="4724280"/>
            <a:ext cx="122400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203640" y="47242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804000" y="2060640"/>
            <a:ext cx="12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6875640" y="20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蛋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7380360" y="4437000"/>
            <a:ext cx="12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7451640" y="4437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气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鸡蛋的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527280" y="3571920"/>
            <a:ext cx="5616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保护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保护作用，提供养料和水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储藏营养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呼吸进行气体交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发育成小鸡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143000" y="642960"/>
            <a:ext cx="6929280" cy="2906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1871640" y="3571920"/>
            <a:ext cx="23763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0"/>
            <a:ext cx="9144000" cy="75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各部分的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蛙卵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Administrator\AppData\Roaming\Tencent\Users\173692760\QQ\WinTemp\RichOle\7%YO1]OP)_VL9ULX(9J6${J.jpg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3317760"/>
          </a:xfrm>
          <a:prstGeom prst="rect">
            <a:avLst/>
          </a:prstGeom>
          <a:ln w="0">
            <a:noFill/>
          </a:ln>
        </p:spPr>
      </p:pic>
      <p:sp>
        <p:nvSpPr>
          <p:cNvPr id="90" name="矩形 6"/>
          <p:cNvSpPr/>
          <p:nvPr/>
        </p:nvSpPr>
        <p:spPr>
          <a:xfrm>
            <a:off x="0" y="857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找一些青蛙卵养在水族箱里，观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:\Users\Administrator\AppData\Roaming\Tencent\Users\173692760\QQ\WinTemp\RichOle\B(ZS{VJPLG_[$XV}9X44[_X.jpg"/>
          <p:cNvPicPr/>
          <p:nvPr/>
        </p:nvPicPr>
        <p:blipFill>
          <a:blip r:embed="rId2"/>
          <a:stretch/>
        </p:blipFill>
        <p:spPr>
          <a:xfrm>
            <a:off x="0" y="5008680"/>
            <a:ext cx="2143080" cy="1714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Users\Administrator\AppData\Roaming\Tencent\Users\173692760\QQ\WinTemp\RichOle\3OQ%`TC{3D[}HKUX9]%TU33.jpg"/>
          <p:cNvPicPr/>
          <p:nvPr/>
        </p:nvPicPr>
        <p:blipFill>
          <a:blip r:embed="rId3"/>
          <a:stretch/>
        </p:blipFill>
        <p:spPr>
          <a:xfrm>
            <a:off x="2214720" y="5000760"/>
            <a:ext cx="2357280" cy="1722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Users\Administrator\AppData\Roaming\Tencent\Users\173692760\QQ\WinTemp\RichOle\%OO))8]$HDSANG_MSY$NBKA.jpg"/>
          <p:cNvPicPr/>
          <p:nvPr/>
        </p:nvPicPr>
        <p:blipFill>
          <a:blip r:embed="rId4"/>
          <a:stretch/>
        </p:blipFill>
        <p:spPr>
          <a:xfrm>
            <a:off x="6929280" y="5010120"/>
            <a:ext cx="2214720" cy="1712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C:\Users\Administrator\AppData\Roaming\Tencent\Users\173692760\QQ\WinTemp\RichOle\[W@F(RY@HDFTP%@R6~E_B{Q.jpg"/>
          <p:cNvPicPr/>
          <p:nvPr/>
        </p:nvPicPr>
        <p:blipFill>
          <a:blip r:embed="rId5"/>
          <a:stretch/>
        </p:blipFill>
        <p:spPr>
          <a:xfrm>
            <a:off x="4643280" y="5008680"/>
            <a:ext cx="2214720" cy="1714320"/>
          </a:xfrm>
          <a:prstGeom prst="rect">
            <a:avLst/>
          </a:prstGeom>
          <a:ln w="0">
            <a:noFill/>
          </a:ln>
        </p:spPr>
      </p:pic>
      <p:sp>
        <p:nvSpPr>
          <p:cNvPr id="95" name="矩形 14"/>
          <p:cNvSpPr/>
          <p:nvPr/>
        </p:nvSpPr>
        <p:spPr>
          <a:xfrm>
            <a:off x="2286000" y="2571840"/>
            <a:ext cx="6286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蛙卵能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左右的时间里孵化出小蝌蚪。小蝌蚪大约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星期左右长成一只小青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鸡1"/>
          <p:cNvPicPr/>
          <p:nvPr/>
        </p:nvPicPr>
        <p:blipFill>
          <a:blip r:embed="rId1"/>
          <a:stretch/>
        </p:blipFill>
        <p:spPr>
          <a:xfrm>
            <a:off x="928800" y="1000080"/>
            <a:ext cx="735804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49Z</dcterms:modified>
  <cp:revision>138</cp:revision>
  <dc:subject/>
  <dc:title>幻灯片 1</dc:title>
</cp:coreProperties>
</file>