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884-9EC2-40A0-B2FB-0EA94890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326E-4123-459C-B7B6-580C238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686-DF22-4CC6-8986-6C82227E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4AE-7E5F-44E4-B9F6-8A86F062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A6B-271A-4B2E-85AC-509CA2FC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3F7-24EA-4793-AD63-40BB80EB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78E7-74E7-4B36-8130-80B7C76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072-0C6F-4EFA-B9CC-C04BE04C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611-F499-4C56-A4CC-50EC0482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E5E-E827-46C8-83F7-9162953C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FF5-3AD8-4470-B7C4-562777AC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E08-DE15-4F72-9AA3-528F34E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2AE8-B1AE-40B4-B9B6-02282993C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二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136600" cy="499752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2268360" y="5950080"/>
            <a:ext cx="2235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2340000" y="4078440"/>
            <a:ext cx="23004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2340000" y="4941720"/>
            <a:ext cx="1584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4849920" y="160164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4849920" y="2614680"/>
            <a:ext cx="1882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6659640" y="11253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6659640" y="213372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95280" y="364644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395280" y="458316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395280" y="5518080"/>
            <a:ext cx="194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971640" y="3717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71640" y="56620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971640" y="4725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7093080" y="22125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8"/>
          <p:cNvSpPr/>
          <p:nvPr/>
        </p:nvSpPr>
        <p:spPr>
          <a:xfrm>
            <a:off x="7307280" y="12045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9"/>
          <p:cNvSpPr/>
          <p:nvPr/>
        </p:nvSpPr>
        <p:spPr>
          <a:xfrm>
            <a:off x="250920" y="18446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株油菜的组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5940360" y="4195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凤仙花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和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1"/>
          <p:cNvSpPr/>
          <p:nvPr/>
        </p:nvSpPr>
        <p:spPr>
          <a:xfrm>
            <a:off x="7091280" y="321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种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395280" y="1628640"/>
            <a:ext cx="863640" cy="283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开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3"/>
          <p:cNvSpPr/>
          <p:nvPr/>
        </p:nvSpPr>
        <p:spPr>
          <a:xfrm>
            <a:off x="2411280" y="476280"/>
            <a:ext cx="505080" cy="5616720"/>
          </a:xfrm>
          <a:custGeom>
            <a:avLst/>
            <a:gdLst>
              <a:gd name="textAreaLeft" fmla="*/ 148320 w 505080"/>
              <a:gd name="textAreaRight" fmla="*/ 505440 w 505080"/>
              <a:gd name="textAreaTop" fmla="*/ 234000 h 5616720"/>
              <a:gd name="textAreaBottom" fmla="*/ 538272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067280" y="77760"/>
            <a:ext cx="4103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萼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瓣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雄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雌蕊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3997440" y="3213000"/>
            <a:ext cx="511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株油菜上长有许多小花，花不同时开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程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蕾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果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1908000" y="9698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朵油菜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1908000" y="32846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上花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3997440" y="5457960"/>
            <a:ext cx="51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、茎、叶、花、果实、种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六部分组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835280" y="5373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株油菜的观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1619280" y="1125360"/>
            <a:ext cx="216000" cy="4824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5640 h 4824720"/>
              <a:gd name="textAreaBottom" fmla="*/ 4699080 h 482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3708360" y="189000"/>
            <a:ext cx="289080" cy="2421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63000 h 2421000"/>
              <a:gd name="textAreaBottom" fmla="*/ 2358000 h 242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3708360" y="3357720"/>
            <a:ext cx="216000" cy="1485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8520 h 1485720"/>
              <a:gd name="textAreaBottom" fmla="*/ 1447200 h 148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3708360" y="5587920"/>
            <a:ext cx="216000" cy="865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5440"/>
              <a:gd name="textAreaBottom" fmla="*/ 843120 h 8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50920" y="173268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时，应该用镊子尖轻轻地夹住油菜花各部分的上部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绿色开花植物由根、茎、叶、花、果实和种子六部分组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雄蕊，它们的形状和长短相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00360" y="4796640"/>
            <a:ext cx="4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5168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755640" y="9644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春天到了，油菜花开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0" y="13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朵油菜花有几个花瓣？还有些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45026"/>
          <p:cNvPicPr/>
          <p:nvPr/>
        </p:nvPicPr>
        <p:blipFill>
          <a:blip r:embed="rId1"/>
          <a:stretch/>
        </p:blipFill>
        <p:spPr>
          <a:xfrm>
            <a:off x="3348000" y="692280"/>
            <a:ext cx="5576760" cy="590544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3"/>
          <p:cNvSpPr/>
          <p:nvPr/>
        </p:nvSpPr>
        <p:spPr>
          <a:xfrm>
            <a:off x="4284720" y="5661000"/>
            <a:ext cx="1439640" cy="863640"/>
          </a:xfrm>
          <a:prstGeom prst="wedgeRectCallout">
            <a:avLst>
              <a:gd name="adj1" fmla="val 63231"/>
              <a:gd name="adj2" fmla="val -1108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6877080" y="5661000"/>
            <a:ext cx="1511280" cy="792360"/>
          </a:xfrm>
          <a:prstGeom prst="wedgeRectCallout">
            <a:avLst>
              <a:gd name="adj1" fmla="val -81199"/>
              <a:gd name="adj2" fmla="val -196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7236000" y="1268280"/>
            <a:ext cx="1584000" cy="720720"/>
          </a:xfrm>
          <a:prstGeom prst="wedgeRectCallout">
            <a:avLst>
              <a:gd name="adj1" fmla="val -70740"/>
              <a:gd name="adj2" fmla="val 920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7308720" y="4365720"/>
            <a:ext cx="1513080" cy="792000"/>
          </a:xfrm>
          <a:prstGeom prst="wedgeRectCallout">
            <a:avLst>
              <a:gd name="adj1" fmla="val -76546"/>
              <a:gd name="adj2" fmla="val -1397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356000" y="573408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萼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308720" y="119700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80360" y="4365720"/>
            <a:ext cx="136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雄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948360" y="5661000"/>
            <a:ext cx="138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雌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405360" y="3387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711440" y="1876320"/>
            <a:ext cx="360360" cy="3673440"/>
          </a:xfrm>
          <a:custGeom>
            <a:avLst/>
            <a:gdLst>
              <a:gd name="textAreaLeft" fmla="*/ 230400 w 360360"/>
              <a:gd name="textAreaRight" fmla="*/ 36072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2206800" y="1517760"/>
            <a:ext cx="790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雄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雌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朵油菜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 rot="5400000">
            <a:off x="329040" y="902160"/>
            <a:ext cx="2952720" cy="29638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600360" y="979560"/>
            <a:ext cx="53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剖油菜花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外到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镊子尖轻轻地夹住油菜花各部分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心地把它们撕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864216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62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菜花的观察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917720"/>
          <a:ext cx="8713800" cy="3311640"/>
        </p:xfrm>
        <a:graphic>
          <a:graphicData uri="http://schemas.openxmlformats.org/drawingml/2006/table">
            <a:tbl>
              <a:tblPr/>
              <a:tblGrid>
                <a:gridCol w="1079280"/>
                <a:gridCol w="1225800"/>
                <a:gridCol w="1295280"/>
                <a:gridCol w="1225440"/>
                <a:gridCol w="38880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组成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数量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颜色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其他发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萼片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花瓣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雄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雌蕊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10"/>
          <p:cNvSpPr/>
          <p:nvPr/>
        </p:nvSpPr>
        <p:spPr>
          <a:xfrm>
            <a:off x="1546200" y="263700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1"/>
          <p:cNvSpPr/>
          <p:nvPr/>
        </p:nvSpPr>
        <p:spPr>
          <a:xfrm>
            <a:off x="1546200" y="335592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2"/>
          <p:cNvSpPr/>
          <p:nvPr/>
        </p:nvSpPr>
        <p:spPr>
          <a:xfrm>
            <a:off x="1546200" y="4005360"/>
            <a:ext cx="7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1546200" y="4724280"/>
            <a:ext cx="7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2484360" y="2637000"/>
            <a:ext cx="13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绿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2627280" y="3284640"/>
            <a:ext cx="1017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3922560" y="263700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3922560" y="3284640"/>
            <a:ext cx="144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922560" y="4003560"/>
            <a:ext cx="144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3922560" y="4579920"/>
            <a:ext cx="144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清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0"/>
          <p:cNvSpPr/>
          <p:nvPr/>
        </p:nvSpPr>
        <p:spPr>
          <a:xfrm>
            <a:off x="5148360" y="26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叶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1"/>
          <p:cNvSpPr/>
          <p:nvPr/>
        </p:nvSpPr>
        <p:spPr>
          <a:xfrm>
            <a:off x="5148360" y="3284640"/>
            <a:ext cx="39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两相对成十字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22"/>
          <p:cNvSpPr/>
          <p:nvPr/>
        </p:nvSpPr>
        <p:spPr>
          <a:xfrm>
            <a:off x="5148360" y="40053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短，上大下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3"/>
          <p:cNvSpPr/>
          <p:nvPr/>
        </p:nvSpPr>
        <p:spPr>
          <a:xfrm>
            <a:off x="5173560" y="4649760"/>
            <a:ext cx="37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小下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3"/>
          <p:cNvSpPr/>
          <p:nvPr/>
        </p:nvSpPr>
        <p:spPr>
          <a:xfrm>
            <a:off x="2627280" y="400356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4"/>
          <p:cNvSpPr/>
          <p:nvPr/>
        </p:nvSpPr>
        <p:spPr>
          <a:xfrm>
            <a:off x="2627280" y="4653000"/>
            <a:ext cx="101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979640" y="198900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一株油菜上的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08000" y="9158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顺序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上到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4572000" y="907920"/>
            <a:ext cx="4334040" cy="44658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835280" y="1916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6503" y="-12856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979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1835280" y="292428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7840" y="-17661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1908000" y="29973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835280" y="4005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4552" y="-597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908000" y="4076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1835280" y="5013360"/>
            <a:ext cx="2232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8991" y="2034"/>
                </a:moveTo>
                <a:lnTo>
                  <a:pt x="22337" y="3117"/>
                </a:lnTo>
              </a:path>
              <a:path w="21600" h="21600">
                <a:moveTo>
                  <a:pt x="22337" y="0"/>
                </a:moveTo>
                <a:lnTo>
                  <a:pt x="22337" y="21600"/>
                </a:lnTo>
              </a:path>
            </a:pathLst>
          </a:custGeom>
          <a:solidFill>
            <a:srgbClr val="bbe0e3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90800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03280" y="595008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数一数：一株油菜上一共开了多少朵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50277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4211640" y="189000"/>
            <a:ext cx="431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一：观察推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法二：持续观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4"/>
          <p:cNvSpPr/>
          <p:nvPr/>
        </p:nvSpPr>
        <p:spPr>
          <a:xfrm>
            <a:off x="826920" y="3355920"/>
            <a:ext cx="1368720" cy="1368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2843280" y="3355920"/>
            <a:ext cx="1368360" cy="1368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933800" y="3430440"/>
            <a:ext cx="1366920" cy="13669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"/>
          <p:cNvSpPr/>
          <p:nvPr/>
        </p:nvSpPr>
        <p:spPr>
          <a:xfrm>
            <a:off x="6948360" y="3357720"/>
            <a:ext cx="1440000" cy="1368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68360" y="5300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556000" y="530856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盛开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572000" y="5300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枯萎的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659640" y="53085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出果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96720" y="201600"/>
            <a:ext cx="4319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花蕾的变化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5:59Z</dcterms:modified>
  <cp:revision>133</cp:revision>
  <dc:subject/>
  <dc:title>幻灯片 1</dc:title>
</cp:coreProperties>
</file>