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693E-7A6C-4E4B-8ADF-1CDC35D2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0729-E74D-4BFA-8449-CE45DB33B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9516-EE3B-43CB-A369-EACFC5575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0888-8531-4985-9338-E0B0632D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1D22-F526-4889-BB92-A676C4A2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1041-4950-42A8-A656-4B3FA9D2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2A0-B36A-45BB-9B78-17CDAE74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6B0-5CDA-4F96-8A10-140F35FD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2C3-2229-4464-BAA8-5A4C690A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1703-B243-42D0-896B-E772B470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C3A-15A0-4EEB-9D9C-8E078A5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639-227B-44A3-AE31-4AFC7FF2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D90-2AAA-46DA-88E5-6CC8541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5D8A-4292-4A34-9D80-329EA102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10D-EE0D-4A94-AEBB-CF94F6ED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58B6-7E3B-481E-AE90-EF5EAF85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子的萌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108000" y="692280"/>
            <a:ext cx="88930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蚕豆种子由（        ）和（      ）两部分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皮对胚起（           ）作用。种子最重要的是部分是（          ），它可以发育成一株植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的根由（          ）发育而来，茎和叶由（            ）发育而来，种子萌发时所需要的养料由（            ）提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914560" y="7621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148360" y="7621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132000" y="19162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保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55640" y="422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059280" y="36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258920" y="48657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050920" y="2562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(Z4ZY]]0QHOV]IPYA4%$XVQ"/>
          <p:cNvPicPr/>
          <p:nvPr/>
        </p:nvPicPr>
        <p:blipFill>
          <a:blip r:embed="rId1"/>
          <a:stretch/>
        </p:blipFill>
        <p:spPr>
          <a:xfrm>
            <a:off x="214200" y="900000"/>
            <a:ext cx="4143600" cy="36007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0" y="4857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菜豆种子介绍         玉米种子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(Z4ZY]]0QHOV]IPYA4%$XVQ"/>
          <p:cNvPicPr/>
          <p:nvPr/>
        </p:nvPicPr>
        <p:blipFill>
          <a:blip r:embed="rId2"/>
          <a:stretch/>
        </p:blipFill>
        <p:spPr>
          <a:xfrm>
            <a:off x="4786200" y="900000"/>
            <a:ext cx="414360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NAG-0012"/>
          <p:cNvPicPr/>
          <p:nvPr/>
        </p:nvPicPr>
        <p:blipFill>
          <a:blip r:embed="rId1"/>
          <a:stretch/>
        </p:blipFill>
        <p:spPr>
          <a:xfrm>
            <a:off x="1000080" y="285840"/>
            <a:ext cx="7416720" cy="359712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28" name="Text Box 3"/>
          <p:cNvSpPr/>
          <p:nvPr/>
        </p:nvSpPr>
        <p:spPr>
          <a:xfrm>
            <a:off x="-214200" y="4000680"/>
            <a:ext cx="92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子叶提供营养物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714760" y="46432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茎和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14760" y="532908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714760" y="599292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胚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接茎和根的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SNAG-0017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133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双子叶植物和单子叶植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457200" y="1035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双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两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533520" y="38862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子叶植物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子的胚具有一片子叶的植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SNAG-0018"/>
          <p:cNvPicPr/>
          <p:nvPr/>
        </p:nvPicPr>
        <p:blipFill>
          <a:blip r:embed="rId2"/>
          <a:stretch/>
        </p:blipFill>
        <p:spPr>
          <a:xfrm>
            <a:off x="380880" y="4724280"/>
            <a:ext cx="8382240" cy="182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1692360" y="981000"/>
            <a:ext cx="5940360" cy="55450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4"/>
          <p:cNvSpPr/>
          <p:nvPr/>
        </p:nvSpPr>
        <p:spPr>
          <a:xfrm>
            <a:off x="6948360" y="479736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569"/>
              <a:gd name="adj5" fmla="val -93750"/>
              <a:gd name="adj6" fmla="val -6778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684360" y="119700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597"/>
              <a:gd name="adj5" fmla="val 83074"/>
              <a:gd name="adj6" fmla="val 17603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6"/>
          <p:cNvSpPr/>
          <p:nvPr/>
        </p:nvSpPr>
        <p:spPr>
          <a:xfrm>
            <a:off x="75564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56087"/>
              <a:gd name="adj5" fmla="val -197305"/>
              <a:gd name="adj6" fmla="val 209490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179280" y="3500280"/>
            <a:ext cx="187164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55300"/>
              <a:gd name="adj5" fmla="val -69925"/>
              <a:gd name="adj6" fmla="val 20881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日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7236000" y="278136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48527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6227640" y="981000"/>
            <a:ext cx="16560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9115"/>
              <a:gd name="adj5" fmla="val 147916"/>
              <a:gd name="adj6" fmla="val -7507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玉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948360" y="1844640"/>
            <a:ext cx="165600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27898"/>
              <a:gd name="adj5" fmla="val 63236"/>
              <a:gd name="adj6" fmla="val -5225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赤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324000" y="4724280"/>
            <a:ext cx="165564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141708"/>
              <a:gd name="adj5" fmla="val -21814"/>
              <a:gd name="adj6" fmla="val 180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蚕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6732720" y="5877000"/>
            <a:ext cx="1655640" cy="64764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34898"/>
              <a:gd name="adj5" fmla="val -153430"/>
              <a:gd name="adj6" fmla="val -66537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菜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164360" y="3789360"/>
            <a:ext cx="1655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7199"/>
              <a:gd name="adj5" fmla="val -33856"/>
              <a:gd name="adj6" fmla="val -71046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黄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250920" y="2349360"/>
            <a:ext cx="1620720" cy="649440"/>
          </a:xfrm>
          <a:prstGeom prst="borderCallout2">
            <a:avLst>
              <a:gd name="adj1" fmla="val 18750"/>
              <a:gd name="adj2" fmla="val -8333"/>
              <a:gd name="adj3" fmla="val 17601"/>
              <a:gd name="adj4" fmla="val 133300"/>
              <a:gd name="adj5" fmla="val 77995"/>
              <a:gd name="adj6" fmla="val 163171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4"/>
          <p:cNvSpPr/>
          <p:nvPr/>
        </p:nvSpPr>
        <p:spPr>
          <a:xfrm>
            <a:off x="285840" y="1071720"/>
            <a:ext cx="8858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面有哪些部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同种子里面的构造一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为什么能生根、发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00040" y="3857760"/>
            <a:ext cx="4896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矩形 4"/>
          <p:cNvSpPr/>
          <p:nvPr/>
        </p:nvSpPr>
        <p:spPr>
          <a:xfrm>
            <a:off x="6143760" y="4429080"/>
            <a:ext cx="2428920" cy="17398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浸泡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更好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6572160" y="1357200"/>
            <a:ext cx="1714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500040" y="1928880"/>
            <a:ext cx="4441680" cy="2214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0" y="10000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心地剥开蚕豆，每部分尽量保持完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14200" y="4500720"/>
            <a:ext cx="892980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蚕豆的“豆瓣”小心分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仔细观察种子各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C:\Users\Administrator\AppData\Roaming\Tencent\Users\173692760\QQ\WinTemp\RichOle\U7$Q3O(3(1K8~VN5T1X@0DJ.jpg"/>
          <p:cNvPicPr/>
          <p:nvPr/>
        </p:nvPicPr>
        <p:blipFill>
          <a:blip r:embed="rId2"/>
          <a:stretch/>
        </p:blipFill>
        <p:spPr>
          <a:xfrm>
            <a:off x="5572080" y="1928880"/>
            <a:ext cx="280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38" descr="4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3511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29"/>
          <p:cNvSpPr/>
          <p:nvPr/>
        </p:nvSpPr>
        <p:spPr>
          <a:xfrm>
            <a:off x="1214280" y="4357800"/>
            <a:ext cx="13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30"/>
          <p:cNvSpPr/>
          <p:nvPr/>
        </p:nvSpPr>
        <p:spPr>
          <a:xfrm>
            <a:off x="6286680" y="436392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229440" y="39434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Pē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2"/>
          <p:cNvSpPr/>
          <p:nvPr/>
        </p:nvSpPr>
        <p:spPr>
          <a:xfrm>
            <a:off x="571680" y="5143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里最重要的部分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是有生命的，可以发育成一株植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种子的内部构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857920" y="52149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026" descr="4"/>
          <p:cNvPicPr/>
          <p:nvPr/>
        </p:nvPicPr>
        <p:blipFill>
          <a:blip r:embed="rId1"/>
          <a:srcRect l="39166" t="0" r="0" b="0"/>
          <a:stretch/>
        </p:blipFill>
        <p:spPr>
          <a:xfrm>
            <a:off x="357120" y="1143000"/>
            <a:ext cx="6562800" cy="4143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029"/>
          <p:cNvSpPr/>
          <p:nvPr/>
        </p:nvSpPr>
        <p:spPr>
          <a:xfrm>
            <a:off x="7500960" y="17859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30"/>
          <p:cNvSpPr/>
          <p:nvPr/>
        </p:nvSpPr>
        <p:spPr>
          <a:xfrm flipH="1">
            <a:off x="3928680" y="20718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31"/>
          <p:cNvSpPr/>
          <p:nvPr/>
        </p:nvSpPr>
        <p:spPr>
          <a:xfrm>
            <a:off x="7500960" y="27147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32"/>
          <p:cNvSpPr/>
          <p:nvPr/>
        </p:nvSpPr>
        <p:spPr>
          <a:xfrm>
            <a:off x="7500960" y="35719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6"/>
          <p:cNvSpPr/>
          <p:nvPr/>
        </p:nvSpPr>
        <p:spPr>
          <a:xfrm>
            <a:off x="214200" y="564984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胚的各部分将会怎样发展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30"/>
          <p:cNvSpPr/>
          <p:nvPr/>
        </p:nvSpPr>
        <p:spPr>
          <a:xfrm flipH="1">
            <a:off x="4071960" y="3000240"/>
            <a:ext cx="3286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30"/>
          <p:cNvSpPr/>
          <p:nvPr/>
        </p:nvSpPr>
        <p:spPr>
          <a:xfrm flipH="1">
            <a:off x="4786200" y="3786120"/>
            <a:ext cx="257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30"/>
          <p:cNvSpPr/>
          <p:nvPr/>
        </p:nvSpPr>
        <p:spPr>
          <a:xfrm flipH="1">
            <a:off x="2714760" y="3929040"/>
            <a:ext cx="464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4"/>
          <p:cNvSpPr/>
          <p:nvPr/>
        </p:nvSpPr>
        <p:spPr>
          <a:xfrm>
            <a:off x="787320" y="20718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500120" y="357120"/>
            <a:ext cx="7643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胚的各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2506680" cy="31687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250920" y="549360"/>
            <a:ext cx="842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标出蚕豆种子各部分的名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3203640" y="249408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75717"/>
              <a:gd name="adj4" fmla="val -60310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3203640" y="3357720"/>
            <a:ext cx="1439640" cy="718920"/>
          </a:xfrm>
          <a:prstGeom prst="borderCallout1">
            <a:avLst>
              <a:gd name="adj1" fmla="val 18750"/>
              <a:gd name="adj2" fmla="val -8333"/>
              <a:gd name="adj3" fmla="val 42384"/>
              <a:gd name="adj4" fmla="val -86768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3203640" y="4294080"/>
            <a:ext cx="1439640" cy="719280"/>
          </a:xfrm>
          <a:prstGeom prst="borderCallout1">
            <a:avLst>
              <a:gd name="adj1" fmla="val 18750"/>
              <a:gd name="adj2" fmla="val -8333"/>
              <a:gd name="adj3" fmla="val 22958"/>
              <a:gd name="adj4" fmla="val -9261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3"/>
          <p:cNvSpPr/>
          <p:nvPr/>
        </p:nvSpPr>
        <p:spPr>
          <a:xfrm>
            <a:off x="5435640" y="5157720"/>
            <a:ext cx="1440000" cy="719280"/>
          </a:xfrm>
          <a:prstGeom prst="borderCallout1">
            <a:avLst>
              <a:gd name="adj1" fmla="val 18750"/>
              <a:gd name="adj2" fmla="val -8333"/>
              <a:gd name="adj3" fmla="val 11921"/>
              <a:gd name="adj4" fmla="val -247851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348000" y="2565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3348000" y="3429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3348000" y="436572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580000" y="522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5003640" y="2565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5435640" y="3502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5796000" y="3573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7020000" y="3573360"/>
            <a:ext cx="216000" cy="2232000"/>
          </a:xfrm>
          <a:custGeom>
            <a:avLst/>
            <a:gdLst>
              <a:gd name="textAreaLeft" fmla="*/ 0 w 216000"/>
              <a:gd name="textAreaRight" fmla="*/ 78120 w 216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7451640" y="4510080"/>
            <a:ext cx="1441440" cy="7920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7596360" y="4581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四种种子"/>
          <p:cNvPicPr/>
          <p:nvPr/>
        </p:nvPicPr>
        <p:blipFill>
          <a:blip r:embed="rId1"/>
          <a:stretch/>
        </p:blipFill>
        <p:spPr>
          <a:xfrm>
            <a:off x="714240" y="500040"/>
            <a:ext cx="7500960" cy="5000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0" y="5716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蚕豆     白芸豆      黄豆     豇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0" y="5645160"/>
            <a:ext cx="9144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说出以上种子的各部分名称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蚕豆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252360" y="1214280"/>
            <a:ext cx="2500200" cy="2106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9"/>
          <p:cNvSpPr/>
          <p:nvPr/>
        </p:nvSpPr>
        <p:spPr>
          <a:xfrm>
            <a:off x="3071880" y="1285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蚕豆种子放在铺有棉花的盘子里，保持棉花的湿润，持续观察种子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214200" y="3857760"/>
            <a:ext cx="2541600" cy="2000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3357720" y="3881520"/>
            <a:ext cx="2286000" cy="1976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4"/>
          <a:stretch/>
        </p:blipFill>
        <p:spPr>
          <a:xfrm>
            <a:off x="6215040" y="3857760"/>
            <a:ext cx="23576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35Z</dcterms:modified>
  <cp:revision>141</cp:revision>
  <dc:subject/>
  <dc:title>幻灯片 1</dc:title>
</cp:coreProperties>
</file>