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CB0-C85A-4012-9A10-8420549F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953-E6D3-4B86-A122-F32D12D5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334-6F76-4CA8-826D-5BCEE420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154-BBA4-4D94-B0FC-334C826B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0A6-88D8-4BB8-9D60-152D2A46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CA0-643B-40C7-AE96-51F86B34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26A-FD4B-4972-AB3B-679C7754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556-9ABA-4B90-9C16-B218291C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606-8D50-4DCC-A548-1797EA40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BC8-7CAC-45E8-849E-6E6A8CC5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155-5A81-4B8A-96BF-EEC6B9F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49A-8C3E-4F77-BEEB-1D334BB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4964-F015-4C4F-8C93-2B0015916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564000" y="1197000"/>
            <a:ext cx="2136600" cy="499752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2268360" y="5950080"/>
            <a:ext cx="2235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340000" y="4078440"/>
            <a:ext cx="2300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2340000" y="4941720"/>
            <a:ext cx="1584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4849920" y="160164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849920" y="261468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659640" y="11253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659640" y="21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95280" y="364644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395280" y="45831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95280" y="551808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971640" y="3717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971640" y="56620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71640" y="4725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7093080" y="22125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7307280" y="1204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250920" y="184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株油菜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940360" y="41958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凤仙花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和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7091280" y="321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395280" y="1628640"/>
            <a:ext cx="86364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411280" y="476280"/>
            <a:ext cx="505080" cy="5616720"/>
          </a:xfrm>
          <a:custGeom>
            <a:avLst/>
            <a:gdLst>
              <a:gd name="textAreaLeft" fmla="*/ 148320 w 505080"/>
              <a:gd name="textAreaRight" fmla="*/ 505440 w 505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067280" y="77760"/>
            <a:ext cx="410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997440" y="3213000"/>
            <a:ext cx="511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油菜上长有许多小花，花不同时开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程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908000" y="9698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朵油菜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908000" y="3284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上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997440" y="5457960"/>
            <a:ext cx="51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、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835280" y="537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1619280" y="1125360"/>
            <a:ext cx="216000" cy="482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5640 h 4824720"/>
              <a:gd name="textAreaBottom" fmla="*/ 4699080 h 48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3708360" y="189000"/>
            <a:ext cx="289080" cy="2421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63000 h 2421000"/>
              <a:gd name="textAreaBottom" fmla="*/ 2358000 h 24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3708360" y="3357720"/>
            <a:ext cx="216000" cy="1485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8520 h 1485720"/>
              <a:gd name="textAreaBottom" fmla="*/ 1447200 h 148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3708360" y="558792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50920" y="17326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时，应该用镊子尖轻轻地夹住油菜花各部分的上部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色开花植物由根、茎、叶、花、果实和种子六部分组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雄蕊，它们的形状和长短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00360" y="4796640"/>
            <a:ext cx="4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5168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55640" y="9644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天到了，油菜花开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朵油菜花有几个花瓣？还有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5026"/>
          <p:cNvPicPr/>
          <p:nvPr/>
        </p:nvPicPr>
        <p:blipFill>
          <a:blip r:embed="rId1"/>
          <a:stretch/>
        </p:blipFill>
        <p:spPr>
          <a:xfrm>
            <a:off x="3348000" y="692280"/>
            <a:ext cx="5576760" cy="59054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4284720" y="5661000"/>
            <a:ext cx="1439640" cy="863640"/>
          </a:xfrm>
          <a:prstGeom prst="wedgeRectCallout">
            <a:avLst>
              <a:gd name="adj1" fmla="val 63231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877080" y="5661000"/>
            <a:ext cx="1511280" cy="792360"/>
          </a:xfrm>
          <a:prstGeom prst="wedgeRectCallout">
            <a:avLst>
              <a:gd name="adj1" fmla="val -81199"/>
              <a:gd name="adj2" fmla="val -196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7236000" y="1268280"/>
            <a:ext cx="1584000" cy="720720"/>
          </a:xfrm>
          <a:prstGeom prst="wedgeRectCallout">
            <a:avLst>
              <a:gd name="adj1" fmla="val -70740"/>
              <a:gd name="adj2" fmla="val 92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7308720" y="4365720"/>
            <a:ext cx="1513080" cy="792000"/>
          </a:xfrm>
          <a:prstGeom prst="wedgeRectCallout">
            <a:avLst>
              <a:gd name="adj1" fmla="val -76546"/>
              <a:gd name="adj2" fmla="val -139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356000" y="573408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308720" y="119700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80360" y="4365720"/>
            <a:ext cx="13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948360" y="5661000"/>
            <a:ext cx="13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05360" y="3387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1711440" y="1876320"/>
            <a:ext cx="360360" cy="3673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2206800" y="1517760"/>
            <a:ext cx="790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 rot="5400000">
            <a:off x="329040" y="902160"/>
            <a:ext cx="295272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600360" y="979560"/>
            <a:ext cx="53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外到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镊子尖轻轻地夹住油菜花各部分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86421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2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的观察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917720"/>
          <a:ext cx="8713800" cy="3311640"/>
        </p:xfrm>
        <a:graphic>
          <a:graphicData uri="http://schemas.openxmlformats.org/drawingml/2006/table">
            <a:tbl>
              <a:tblPr/>
              <a:tblGrid>
                <a:gridCol w="1079280"/>
                <a:gridCol w="1225800"/>
                <a:gridCol w="1295280"/>
                <a:gridCol w="1225440"/>
                <a:gridCol w="3888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组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数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颜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其他发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萼片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花瓣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雄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雌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10"/>
          <p:cNvSpPr/>
          <p:nvPr/>
        </p:nvSpPr>
        <p:spPr>
          <a:xfrm>
            <a:off x="1546200" y="263700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1"/>
          <p:cNvSpPr/>
          <p:nvPr/>
        </p:nvSpPr>
        <p:spPr>
          <a:xfrm>
            <a:off x="1546200" y="335592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2"/>
          <p:cNvSpPr/>
          <p:nvPr/>
        </p:nvSpPr>
        <p:spPr>
          <a:xfrm>
            <a:off x="1546200" y="4005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3"/>
          <p:cNvSpPr/>
          <p:nvPr/>
        </p:nvSpPr>
        <p:spPr>
          <a:xfrm>
            <a:off x="1546200" y="4724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4"/>
          <p:cNvSpPr/>
          <p:nvPr/>
        </p:nvSpPr>
        <p:spPr>
          <a:xfrm>
            <a:off x="2484360" y="263700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5"/>
          <p:cNvSpPr/>
          <p:nvPr/>
        </p:nvSpPr>
        <p:spPr>
          <a:xfrm>
            <a:off x="2627280" y="3284640"/>
            <a:ext cx="1017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6"/>
          <p:cNvSpPr/>
          <p:nvPr/>
        </p:nvSpPr>
        <p:spPr>
          <a:xfrm>
            <a:off x="3922560" y="263700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3922560" y="328464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8"/>
          <p:cNvSpPr/>
          <p:nvPr/>
        </p:nvSpPr>
        <p:spPr>
          <a:xfrm>
            <a:off x="3922560" y="400356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9"/>
          <p:cNvSpPr/>
          <p:nvPr/>
        </p:nvSpPr>
        <p:spPr>
          <a:xfrm>
            <a:off x="3922560" y="457992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0"/>
          <p:cNvSpPr/>
          <p:nvPr/>
        </p:nvSpPr>
        <p:spPr>
          <a:xfrm>
            <a:off x="5148360" y="26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叶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1"/>
          <p:cNvSpPr/>
          <p:nvPr/>
        </p:nvSpPr>
        <p:spPr>
          <a:xfrm>
            <a:off x="5148360" y="328464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两相对成十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2"/>
          <p:cNvSpPr/>
          <p:nvPr/>
        </p:nvSpPr>
        <p:spPr>
          <a:xfrm>
            <a:off x="5148360" y="40053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，上大下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3"/>
          <p:cNvSpPr/>
          <p:nvPr/>
        </p:nvSpPr>
        <p:spPr>
          <a:xfrm>
            <a:off x="5173560" y="46497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小下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3"/>
          <p:cNvSpPr/>
          <p:nvPr/>
        </p:nvSpPr>
        <p:spPr>
          <a:xfrm>
            <a:off x="2627280" y="400356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4"/>
          <p:cNvSpPr/>
          <p:nvPr/>
        </p:nvSpPr>
        <p:spPr>
          <a:xfrm>
            <a:off x="2627280" y="465300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979640" y="1989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979640" y="198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835280" y="2924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7840" y="-17661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908000" y="2997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835280" y="4005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4552" y="-597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908000" y="4076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835280" y="5013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991" y="203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90800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03280" y="59500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一数：一株油菜上一共开了多少朵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8302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211640" y="189000"/>
            <a:ext cx="43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一：观察推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二：持续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826920" y="3355920"/>
            <a:ext cx="1368720" cy="136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2843280" y="3355920"/>
            <a:ext cx="1368360" cy="1368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4933800" y="3430440"/>
            <a:ext cx="1366920" cy="1366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948360" y="3357720"/>
            <a:ext cx="1440000" cy="1368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68360" y="5300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56000" y="53085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72000" y="530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659640" y="53085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96720" y="201600"/>
            <a:ext cx="431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的变化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5:59Z</dcterms:modified>
  <cp:revision>133</cp:revision>
  <dc:subject/>
  <dc:title>幻灯片 1</dc:title>
</cp:coreProperties>
</file>