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B72-ECC1-4614-9492-87D70C60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05F-3E7F-40BA-B21D-ABD3439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0EA-45BD-4A9E-BC91-D5C0D256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C90-C1A8-4049-B11D-09878E93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7E4-33F3-40D1-9723-C19801B9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D92-8338-4DEF-8AC1-0A096C65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2A6-A47B-4FB7-86D3-3D17EB92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CF1-F06C-43F3-AC4A-9604CE22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396-B8DF-4D56-9DE7-A762BE78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067-C4BB-4BE2-B8B5-98B01DD8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A52-0C7E-47BE-BA0B-487D6B49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30B-43DE-453B-8F3C-0C9BE9D8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DAD6-74A2-4074-B52E-3588E3E3E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image" Target="../media/image28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478560" y="568008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豌豆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]29HXUCS3[8K@]GOSN{SSI"/>
          <p:cNvPicPr/>
          <p:nvPr/>
        </p:nvPicPr>
        <p:blipFill>
          <a:blip r:embed="rId1"/>
          <a:stretch/>
        </p:blipFill>
        <p:spPr>
          <a:xfrm>
            <a:off x="0" y="1916280"/>
            <a:ext cx="5148360" cy="46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@@DZJ7%HDGRE%9T$OAVDFH4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43640" y="5589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3P3{}$WLZI}7{U(LX(O)(Y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303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J6ZEYJW@[11(6)81TL)L1Z"/>
          <p:cNvPicPr/>
          <p:nvPr/>
        </p:nvPicPr>
        <p:blipFill>
          <a:blip r:embed="rId2"/>
          <a:stretch/>
        </p:blipFill>
        <p:spPr>
          <a:xfrm>
            <a:off x="0" y="2060640"/>
            <a:ext cx="5219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84720" y="580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}%(V)%`~)RE2%OF~7~4LBP2"/>
          <p:cNvPicPr/>
          <p:nvPr/>
        </p:nvPicPr>
        <p:blipFill>
          <a:blip r:embed="rId1"/>
          <a:stretch/>
        </p:blipFill>
        <p:spPr>
          <a:xfrm>
            <a:off x="250920" y="1700280"/>
            <a:ext cx="4470480" cy="48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WW@TEDE075Z6M5]BD5CW`WW"/>
          <p:cNvPicPr/>
          <p:nvPr/>
        </p:nvPicPr>
        <p:blipFill>
          <a:blip r:embed="rId2"/>
          <a:stretch/>
        </p:blipFill>
        <p:spPr>
          <a:xfrm>
            <a:off x="4932360" y="1700280"/>
            <a:ext cx="3984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95640" y="98100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2637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133992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]QZ{DA$K2U@U{8VID_FH5L"/>
          <p:cNvPicPr/>
          <p:nvPr/>
        </p:nvPicPr>
        <p:blipFill>
          <a:blip r:embed="rId1"/>
          <a:stretch/>
        </p:blipFill>
        <p:spPr>
          <a:xfrm>
            <a:off x="374328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9280" y="56674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340000" y="57405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其中一部分或几部分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I3P3{}$WLZI}7{U(LX(O)(Y"/>
          <p:cNvPicPr/>
          <p:nvPr/>
        </p:nvPicPr>
        <p:blipFill>
          <a:blip r:embed="rId1"/>
          <a:stretch/>
        </p:blipFill>
        <p:spPr>
          <a:xfrm>
            <a:off x="3203640" y="2133720"/>
            <a:ext cx="594036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3203640" y="21337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564000" y="119700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和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}%(V)%`~)RE2%OF~7~4LBP2"/>
          <p:cNvPicPr/>
          <p:nvPr/>
        </p:nvPicPr>
        <p:blipFill>
          <a:blip r:embed="rId1"/>
          <a:stretch/>
        </p:blipFill>
        <p:spPr>
          <a:xfrm>
            <a:off x="3708360" y="2060640"/>
            <a:ext cx="447048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3708360" y="2060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659640" y="58118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708360" y="17064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88000" y="170028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@6D(E$_6RA]KRO2$XI6JTVN"/>
          <p:cNvPicPr/>
          <p:nvPr/>
        </p:nvPicPr>
        <p:blipFill>
          <a:blip r:embed="rId1"/>
          <a:stretch/>
        </p:blipFill>
        <p:spPr>
          <a:xfrm>
            <a:off x="2771640" y="2565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6153120" y="2565360"/>
            <a:ext cx="299088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3203640" y="5811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}Z8R`0G%K_9[GKOWID}0A{H"/>
          <p:cNvPicPr/>
          <p:nvPr/>
        </p:nvPicPr>
        <p:blipFill>
          <a:blip r:embed="rId1"/>
          <a:stretch/>
        </p:blipFill>
        <p:spPr>
          <a:xfrm>
            <a:off x="250920" y="792000"/>
            <a:ext cx="4140000" cy="3305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52360" y="792000"/>
            <a:ext cx="14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@2FE6XP%SPS3J70KL]U$YAI"/>
          <p:cNvPicPr/>
          <p:nvPr/>
        </p:nvPicPr>
        <p:blipFill>
          <a:blip r:embed="rId2"/>
          <a:stretch/>
        </p:blipFill>
        <p:spPr>
          <a:xfrm>
            <a:off x="4788000" y="865080"/>
            <a:ext cx="403200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865080"/>
            <a:ext cx="143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80000" y="45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B((F[95`YH30RRYR9CHQVD6"/>
          <p:cNvPicPr/>
          <p:nvPr/>
        </p:nvPicPr>
        <p:blipFill>
          <a:blip r:embed="rId3"/>
          <a:stretch/>
        </p:blipFill>
        <p:spPr>
          <a:xfrm>
            <a:off x="250920" y="4292640"/>
            <a:ext cx="4105080" cy="2381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5580000" y="560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50920" y="4292640"/>
            <a:ext cx="194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476360" y="1341360"/>
            <a:ext cx="4175280" cy="34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651640" y="1484280"/>
            <a:ext cx="0" cy="331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195640" y="4797360"/>
            <a:ext cx="345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580000" y="44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614920" y="544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I3P3{}$WLZI}7{U(LX(O)(Y"/>
          <p:cNvPicPr/>
          <p:nvPr/>
        </p:nvPicPr>
        <p:blipFill>
          <a:blip r:embed="rId1"/>
          <a:stretch/>
        </p:blipFill>
        <p:spPr>
          <a:xfrm>
            <a:off x="360360" y="83664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360360" y="836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195640" y="1484280"/>
            <a:ext cx="3384360" cy="4248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4(97F]O87{DD4GXNVJ_31@0"/>
          <p:cNvPicPr/>
          <p:nvPr/>
        </p:nvPicPr>
        <p:blipFill>
          <a:blip r:embed="rId2"/>
          <a:stretch/>
        </p:blipFill>
        <p:spPr>
          <a:xfrm>
            <a:off x="4716360" y="907920"/>
            <a:ext cx="4103640" cy="3168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4716360" y="9079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80000" y="1484280"/>
            <a:ext cx="0" cy="424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816360" cy="2492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395280" y="42210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124000" y="4724280"/>
            <a:ext cx="3456000" cy="100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性花和单性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087640" y="42814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雄蕊没有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雌蕊没有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8000" y="314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080" y="141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60720" y="1413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有雄蕊又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016000" y="31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雄蕊或只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756000" y="4185360"/>
            <a:ext cx="1403280" cy="1116000"/>
          </a:xfrm>
          <a:custGeom>
            <a:avLst/>
            <a:gdLst>
              <a:gd name="textAreaLeft" fmla="*/ 0 w 1403280"/>
              <a:gd name="textAreaRight" fmla="*/ 1219320 w 1403280"/>
              <a:gd name="textAreaTop" fmla="*/ 91872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17104" y="0"/>
                </a:moveTo>
                <a:lnTo>
                  <a:pt x="12608" y="8050"/>
                </a:lnTo>
                <a:lnTo>
                  <a:pt x="15443" y="8050"/>
                </a:lnTo>
                <a:lnTo>
                  <a:pt x="15443" y="17776"/>
                </a:lnTo>
                <a:lnTo>
                  <a:pt x="0" y="17776"/>
                </a:lnTo>
                <a:lnTo>
                  <a:pt x="0" y="21600"/>
                </a:lnTo>
                <a:lnTo>
                  <a:pt x="18765" y="21600"/>
                </a:lnTo>
                <a:lnTo>
                  <a:pt x="18765" y="8050"/>
                </a:lnTo>
                <a:lnTo>
                  <a:pt x="21600" y="8050"/>
                </a:lnTo>
                <a:lnTo>
                  <a:pt x="1710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}Z8R`0G%K_9[GKOWID}0A{H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D$O3NTI[PRJPG~Q`(PQF0H"/>
          <p:cNvPicPr/>
          <p:nvPr/>
        </p:nvPicPr>
        <p:blipFill>
          <a:blip r:embed="rId2"/>
          <a:stretch/>
        </p:blipFill>
        <p:spPr>
          <a:xfrm>
            <a:off x="0" y="1916280"/>
            <a:ext cx="464328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花蕊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268280"/>
          <a:ext cx="8640720" cy="513720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808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雄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有雄蕊又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8" descr="苏铁的雄花"/>
          <p:cNvPicPr/>
          <p:nvPr/>
        </p:nvPicPr>
        <p:blipFill>
          <a:blip r:embed="rId1"/>
          <a:stretch/>
        </p:blipFill>
        <p:spPr>
          <a:xfrm>
            <a:off x="324000" y="249228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苏铁的雌花"/>
          <p:cNvPicPr/>
          <p:nvPr/>
        </p:nvPicPr>
        <p:blipFill>
          <a:blip r:embed="rId2"/>
          <a:stretch/>
        </p:blipFill>
        <p:spPr>
          <a:xfrm>
            <a:off x="3276720" y="249228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@6D(E$_6RA]KRO2$XI6JTVN"/>
          <p:cNvPicPr/>
          <p:nvPr/>
        </p:nvPicPr>
        <p:blipFill>
          <a:blip r:embed="rId3"/>
          <a:stretch/>
        </p:blipFill>
        <p:spPr>
          <a:xfrm>
            <a:off x="324000" y="4292640"/>
            <a:ext cx="2592360" cy="196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2590560" cy="18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豌豆"/>
          <p:cNvPicPr/>
          <p:nvPr/>
        </p:nvPicPr>
        <p:blipFill>
          <a:blip r:embed="rId5"/>
          <a:stretch/>
        </p:blipFill>
        <p:spPr>
          <a:xfrm>
            <a:off x="6156360" y="2565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桃花"/>
          <p:cNvPicPr/>
          <p:nvPr/>
        </p:nvPicPr>
        <p:blipFill>
          <a:blip r:embed="rId6"/>
          <a:stretch/>
        </p:blipFill>
        <p:spPr>
          <a:xfrm>
            <a:off x="6156360" y="450864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4365720"/>
          <a:ext cx="8208720" cy="2160360"/>
        </p:xfrm>
        <a:graphic>
          <a:graphicData uri="http://schemas.openxmlformats.org/drawingml/2006/table">
            <a:tbl>
              <a:tblPr/>
              <a:tblGrid>
                <a:gridCol w="3855960"/>
                <a:gridCol w="4352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相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不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33"/>
          <p:cNvSpPr/>
          <p:nvPr/>
        </p:nvSpPr>
        <p:spPr>
          <a:xfrm>
            <a:off x="179280" y="0"/>
            <a:ext cx="842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雄蕊、没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雌蕊、没有雄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0" y="33577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豌豆花、桃花、油菜花、牵牛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0" y="76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雄花、铁树雄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0" y="2060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雌花、铁树雌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1476360" y="537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花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4788000" y="5157720"/>
            <a:ext cx="345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同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异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189000"/>
            <a:ext cx="8425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油菜花一样，由（        ）、（          ）、（         ）和（         ）四部分组成，这样的花叫做完全花；而有些花缺少其中的一部分或几部分，这样的花叫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（           ）的花叫做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雄蕊没有（           ）的花叫雄花，只有雌蕊没有（          ）的花叫雌花。（            ）和（            ）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24360" y="1986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157640" y="2570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443640" y="260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4360" y="83664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916360" y="83340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3492360" y="4365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340000" y="49370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6877080" y="486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187280" y="5516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24000" y="241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完全花都是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不完全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两性花都是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单性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花和雌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896040" y="842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885240" y="1052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885240" y="2060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891360" y="5950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91360" y="4941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96040" y="4005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896040" y="306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"/>
          <p:cNvSpPr/>
          <p:nvPr/>
        </p:nvSpPr>
        <p:spPr>
          <a:xfrm>
            <a:off x="4067280" y="1515960"/>
            <a:ext cx="4716360" cy="4792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932360" y="22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组成部分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080" y="1341360"/>
            <a:ext cx="456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名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颜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气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萼片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瓣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一朵花的观察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43640" y="587700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@2FE6XP%SPS3J70KL]U$YAI"/>
          <p:cNvPicPr/>
          <p:nvPr/>
        </p:nvPicPr>
        <p:blipFill>
          <a:blip r:embed="rId1"/>
          <a:stretch/>
        </p:blipFill>
        <p:spPr>
          <a:xfrm>
            <a:off x="4581360" y="1844640"/>
            <a:ext cx="456264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5FJM57Y1EUK2SQ77BBDLPH"/>
          <p:cNvPicPr/>
          <p:nvPr/>
        </p:nvPicPr>
        <p:blipFill>
          <a:blip r:embed="rId2"/>
          <a:stretch/>
        </p:blipFill>
        <p:spPr>
          <a:xfrm>
            <a:off x="0" y="1844640"/>
            <a:ext cx="4427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E0V4KFII2NA8U@JEV`@UEB"/>
          <p:cNvPicPr/>
          <p:nvPr/>
        </p:nvPicPr>
        <p:blipFill>
          <a:blip r:embed="rId1"/>
          <a:stretch/>
        </p:blipFill>
        <p:spPr>
          <a:xfrm>
            <a:off x="0" y="1844640"/>
            <a:ext cx="4581360" cy="439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3_7GH92X82(9~8Z4F05}35"/>
          <p:cNvPicPr/>
          <p:nvPr/>
        </p:nvPicPr>
        <p:blipFill>
          <a:blip r:embed="rId2"/>
          <a:stretch/>
        </p:blipFill>
        <p:spPr>
          <a:xfrm>
            <a:off x="4724280" y="184464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40360" y="566100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丝海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4LC$A2K7Y9~B8DG[31PWZ7M"/>
          <p:cNvPicPr/>
          <p:nvPr/>
        </p:nvPicPr>
        <p:blipFill>
          <a:blip r:embed="rId1"/>
          <a:stretch/>
        </p:blipFill>
        <p:spPr>
          <a:xfrm>
            <a:off x="0" y="1989000"/>
            <a:ext cx="4932360" cy="443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(GP8A({K~N6V(67YZA}ZHN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372360" y="587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兰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203U2SPS~ML3T{S994VWH6"/>
          <p:cNvPicPr/>
          <p:nvPr/>
        </p:nvPicPr>
        <p:blipFill>
          <a:blip r:embed="rId1"/>
          <a:stretch/>
        </p:blipFill>
        <p:spPr>
          <a:xfrm>
            <a:off x="0" y="1773360"/>
            <a:ext cx="5172120" cy="44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7`UX}H}MS24XL4T6]UIYYOP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43640" y="551664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茶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RDSH}B)58NGP98$EYG3CI6"/>
          <p:cNvPicPr/>
          <p:nvPr/>
        </p:nvPicPr>
        <p:blipFill>
          <a:blip r:embed="rId1"/>
          <a:stretch/>
        </p:blipFill>
        <p:spPr>
          <a:xfrm>
            <a:off x="5003640" y="1844640"/>
            <a:ext cx="4140360" cy="31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UATF75FUX62KXK{CZ0W1SZE"/>
          <p:cNvPicPr/>
          <p:nvPr/>
        </p:nvPicPr>
        <p:blipFill>
          <a:blip r:embed="rId2"/>
          <a:stretch/>
        </p:blipFill>
        <p:spPr>
          <a:xfrm>
            <a:off x="0" y="1844640"/>
            <a:ext cx="4876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300720" y="5805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6X@%{XAV5`0`T___F4Y55G"/>
          <p:cNvPicPr/>
          <p:nvPr/>
        </p:nvPicPr>
        <p:blipFill>
          <a:blip r:embed="rId1"/>
          <a:stretch/>
        </p:blipFill>
        <p:spPr>
          <a:xfrm>
            <a:off x="0" y="1916280"/>
            <a:ext cx="5076720" cy="43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QXEA@}VFSS$@[ZJKQAF~RXT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9640" y="57340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桐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)O{A{5P3L$@ZHRA3{0WXHJ"/>
          <p:cNvPicPr/>
          <p:nvPr/>
        </p:nvPicPr>
        <p:blipFill>
          <a:blip r:embed="rId1"/>
          <a:stretch/>
        </p:blipFill>
        <p:spPr>
          <a:xfrm>
            <a:off x="0" y="1916280"/>
            <a:ext cx="56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[AQP(WW)W7~FDP({([(@]A0"/>
          <p:cNvPicPr/>
          <p:nvPr/>
        </p:nvPicPr>
        <p:blipFill>
          <a:blip r:embed="rId2"/>
          <a:stretch/>
        </p:blipFill>
        <p:spPr>
          <a:xfrm>
            <a:off x="5686560" y="1916280"/>
            <a:ext cx="345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6:38Z</dcterms:modified>
  <cp:revision>152</cp:revision>
  <dc:subject/>
  <dc:title>幻灯片 1</dc:title>
</cp:coreProperties>
</file>