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274-5BED-49DF-BBBA-6D3B7129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537-08B9-4BB7-A4BE-8E63226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10B-96A3-4712-A186-3D17E1B9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5DD-4A31-47C0-BD97-23BFD772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942-174D-4870-A48F-053D283B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2FD-90A0-4208-B2D5-C1F08B30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92E-2223-42D4-9230-825D06E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D8D-CD60-4625-A1E4-7C553CF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BB5-8952-446F-8903-98CB2D9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849-EDFE-43E2-A768-70511D7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CC0-BD20-4999-A2FA-9C1FD8E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19A-73C8-490F-A587-A302F56E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70C0-0A0C-47F2-B649-20E1EC2B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、果实和种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]L4RM{12@[WN@X{6KPZ`0XQ"/>
          <p:cNvPicPr/>
          <p:nvPr/>
        </p:nvPicPr>
        <p:blipFill>
          <a:blip r:embed="rId1"/>
          <a:stretch/>
        </p:blipFill>
        <p:spPr>
          <a:xfrm>
            <a:off x="0" y="0"/>
            <a:ext cx="4140360" cy="345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10_407842_56d249a2d00dc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 rot="5400000">
            <a:off x="6274440" y="4029840"/>
            <a:ext cx="2997000" cy="222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5092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花粉传播到雌蕊的柱头上去，使雌蕊子房里的胚珠受精。胚珠受精以后，果实和种子开始成长，花朵开始凋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的果实和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40968" t="2669" r="29375" b="5837"/>
          <a:stretch/>
        </p:blipFill>
        <p:spPr>
          <a:xfrm>
            <a:off x="5724360" y="1486080"/>
            <a:ext cx="16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493"/>
          <p:cNvPicPr/>
          <p:nvPr/>
        </p:nvPicPr>
        <p:blipFill>
          <a:blip r:embed="rId2"/>
          <a:stretch/>
        </p:blipFill>
        <p:spPr>
          <a:xfrm>
            <a:off x="1908000" y="1486080"/>
            <a:ext cx="180036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494"/>
          <p:cNvPicPr/>
          <p:nvPr/>
        </p:nvPicPr>
        <p:blipFill>
          <a:blip r:embed="rId3"/>
          <a:srcRect l="18873" t="0" r="0" b="5980"/>
          <a:stretch/>
        </p:blipFill>
        <p:spPr>
          <a:xfrm>
            <a:off x="7451640" y="1486080"/>
            <a:ext cx="1692360" cy="43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495"/>
          <p:cNvPicPr/>
          <p:nvPr/>
        </p:nvPicPr>
        <p:blipFill>
          <a:blip r:embed="rId4"/>
          <a:srcRect l="15366" t="0" r="18743" b="0"/>
          <a:stretch/>
        </p:blipFill>
        <p:spPr>
          <a:xfrm>
            <a:off x="0" y="1486080"/>
            <a:ext cx="1778040" cy="43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0496"/>
          <p:cNvPicPr/>
          <p:nvPr/>
        </p:nvPicPr>
        <p:blipFill>
          <a:blip r:embed="rId5"/>
          <a:srcRect l="21720" t="0" r="11728" b="0"/>
          <a:stretch/>
        </p:blipFill>
        <p:spPr>
          <a:xfrm>
            <a:off x="3780000" y="1486080"/>
            <a:ext cx="180000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油菜果实生长变化的顺序排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      （     ）     （     ）    （     ）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5958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0720" y="5958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9640" y="5950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62728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7236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1T]N427YH(2IVD7E1CS56JJ"/>
          <p:cNvPicPr/>
          <p:nvPr/>
        </p:nvPicPr>
        <p:blipFill>
          <a:blip r:embed="rId1"/>
          <a:stretch/>
        </p:blipFill>
        <p:spPr>
          <a:xfrm>
            <a:off x="0" y="0"/>
            <a:ext cx="4572000" cy="432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}E{KYYUOVSI8{[YY{V[T{6T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YK~EWTWWVMT40W3W]%Y4KH3"/>
          <p:cNvPicPr/>
          <p:nvPr/>
        </p:nvPicPr>
        <p:blipFill>
          <a:blip r:embed="rId3"/>
          <a:stretch/>
        </p:blipFill>
        <p:spPr>
          <a:xfrm>
            <a:off x="468360" y="4481640"/>
            <a:ext cx="13320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2232000" y="48276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数一个油菜果荚里有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一株油菜能长出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42920" y="442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MG_3696"/>
          <p:cNvPicPr/>
          <p:nvPr/>
        </p:nvPicPr>
        <p:blipFill>
          <a:blip r:embed="rId1"/>
          <a:srcRect l="9803" t="0" r="15688" b="15102"/>
          <a:stretch/>
        </p:blipFill>
        <p:spPr>
          <a:xfrm>
            <a:off x="0" y="83664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377120" y="44280"/>
            <a:ext cx="17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491000" y="4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丽江雪桃"/>
          <p:cNvPicPr/>
          <p:nvPr/>
        </p:nvPicPr>
        <p:blipFill>
          <a:blip r:embed="rId2"/>
          <a:srcRect l="0" t="15728" r="20911" b="1722"/>
          <a:stretch/>
        </p:blipFill>
        <p:spPr>
          <a:xfrm>
            <a:off x="3203640" y="836640"/>
            <a:ext cx="295272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82799156"/>
          <p:cNvPicPr/>
          <p:nvPr/>
        </p:nvPicPr>
        <p:blipFill>
          <a:blip r:embed="rId3"/>
          <a:srcRect l="10202" t="0" r="18368" b="21237"/>
          <a:stretch/>
        </p:blipFill>
        <p:spPr>
          <a:xfrm>
            <a:off x="6372360" y="836640"/>
            <a:ext cx="2771640" cy="26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0" y="3751200"/>
            <a:ext cx="4211640" cy="31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1747800" y="3716280"/>
            <a:ext cx="2463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537080" y="40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植物果实里的种子只有一个，而有的植物果实里的种子有多个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117440" y="1413000"/>
            <a:ext cx="2372040" cy="40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222880" y="1341360"/>
            <a:ext cx="2700360" cy="396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260360" y="54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形状                雌蕊的形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V_R}29OYST$%FFR52PO2(NY"/>
          <p:cNvPicPr/>
          <p:nvPr/>
        </p:nvPicPr>
        <p:blipFill>
          <a:blip r:embed="rId3"/>
          <a:stretch/>
        </p:blipFill>
        <p:spPr>
          <a:xfrm>
            <a:off x="2486160" y="213372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V_R}29OYST$%FFR52PO2(NY"/>
          <p:cNvPicPr/>
          <p:nvPr/>
        </p:nvPicPr>
        <p:blipFill>
          <a:blip r:embed="rId4"/>
          <a:stretch/>
        </p:blipFill>
        <p:spPr>
          <a:xfrm>
            <a:off x="2557440" y="465300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V_R}29OYST$%FFR52PO2(NY"/>
          <p:cNvPicPr/>
          <p:nvPr/>
        </p:nvPicPr>
        <p:blipFill>
          <a:blip r:embed="rId5"/>
          <a:stretch/>
        </p:blipFill>
        <p:spPr>
          <a:xfrm>
            <a:off x="7165800" y="1341360"/>
            <a:ext cx="136692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V_R}29OYST$%FFR52PO2(NY"/>
          <p:cNvPicPr/>
          <p:nvPr/>
        </p:nvPicPr>
        <p:blipFill>
          <a:blip r:embed="rId6"/>
          <a:stretch/>
        </p:blipFill>
        <p:spPr>
          <a:xfrm>
            <a:off x="6446880" y="285264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V_R}29OYST$%FFR52PO2(NY"/>
          <p:cNvPicPr/>
          <p:nvPr/>
        </p:nvPicPr>
        <p:blipFill>
          <a:blip r:embed="rId7"/>
          <a:stretch/>
        </p:blipFill>
        <p:spPr>
          <a:xfrm>
            <a:off x="6519960" y="4653000"/>
            <a:ext cx="1150920" cy="649080"/>
          </a:xfrm>
          <a:prstGeom prst="rect">
            <a:avLst/>
          </a:prstGeom>
          <a:ln w="0">
            <a:noFill/>
          </a:ln>
        </p:spPr>
      </p:pic>
      <p:sp>
        <p:nvSpPr>
          <p:cNvPr id="15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2200" y="15490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粉的媒介主要有昆虫和风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花传粉的两性花，一般情况下雌蕊、雄蕊是一起成熟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受精后，才能逐渐长成果实和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果实是由雌蕊中的子房发育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26920" y="1843920"/>
            <a:ext cx="6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4760" y="3357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24760" y="620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24760" y="50526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(2J4[AC}HPE[{OTFQ08BJEF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哪些部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实和种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227640" y="501336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和雌蕊是怎样形成果实和种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5400000">
            <a:off x="2418840" y="3060720"/>
            <a:ext cx="266364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76520" y="2276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6765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5240" y="3292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460520" y="263700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771640" y="2637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771640" y="4653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L6_}($QTCLENPF_5L~PEE]Y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5867280" y="836640"/>
            <a:ext cx="1944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丝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40000" y="5805360"/>
            <a:ext cx="1871640" cy="897120"/>
          </a:xfrm>
          <a:prstGeom prst="borderCallout1">
            <a:avLst>
              <a:gd name="adj1" fmla="val 18750"/>
              <a:gd name="adj2" fmla="val -8333"/>
              <a:gd name="adj3" fmla="val -127254"/>
              <a:gd name="adj4" fmla="val 15021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804000" y="5845320"/>
            <a:ext cx="1871640" cy="896760"/>
          </a:xfrm>
          <a:prstGeom prst="borderCallout1">
            <a:avLst>
              <a:gd name="adj1" fmla="val 18750"/>
              <a:gd name="adj2" fmla="val -8333"/>
              <a:gd name="adj3" fmla="val -140884"/>
              <a:gd name="adj4" fmla="val -6488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556000" y="5877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7164360" y="59500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24000" y="191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29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ZAP2@FB(175SD20V{K63813"/>
          <p:cNvPicPr/>
          <p:nvPr/>
        </p:nvPicPr>
        <p:blipFill>
          <a:blip r:embed="rId1"/>
          <a:stretch/>
        </p:blipFill>
        <p:spPr>
          <a:xfrm>
            <a:off x="2806560" y="1379520"/>
            <a:ext cx="4392720" cy="348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7307280" y="2276640"/>
            <a:ext cx="1620720" cy="896760"/>
          </a:xfrm>
          <a:prstGeom prst="borderCallout1">
            <a:avLst>
              <a:gd name="adj1" fmla="val 18750"/>
              <a:gd name="adj2" fmla="val -8333"/>
              <a:gd name="adj3" fmla="val 65662"/>
              <a:gd name="adj4" fmla="val -12644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752328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403280" y="2276640"/>
            <a:ext cx="324000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1474920" y="2637000"/>
            <a:ext cx="2592360" cy="72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药上有许多黄色粉末，很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249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"/>
          <p:cNvPicPr/>
          <p:nvPr/>
        </p:nvPicPr>
        <p:blipFill>
          <a:blip r:embed="rId2"/>
          <a:stretch/>
        </p:blipFill>
        <p:spPr>
          <a:xfrm>
            <a:off x="3132000" y="4081320"/>
            <a:ext cx="2810160" cy="248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7"/>
          <p:cNvPicPr/>
          <p:nvPr/>
        </p:nvPicPr>
        <p:blipFill>
          <a:blip r:embed="rId4"/>
          <a:stretch/>
        </p:blipFill>
        <p:spPr>
          <a:xfrm>
            <a:off x="3348000" y="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5"/>
          <a:stretch/>
        </p:blipFill>
        <p:spPr>
          <a:xfrm>
            <a:off x="250920" y="407664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299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下的各种植物花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132000" y="1052640"/>
          <a:ext cx="173700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17370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54764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47640" y="508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240" y="336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332000" y="1773360"/>
            <a:ext cx="215640" cy="38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627280" y="1699920"/>
            <a:ext cx="180036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547640" y="335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627280" y="537372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雌蕊"/>
          <p:cNvPicPr/>
          <p:nvPr/>
        </p:nvPicPr>
        <p:blipFill>
          <a:blip r:embed="rId3"/>
          <a:srcRect l="0" t="0" r="26424" b="4094"/>
          <a:stretch/>
        </p:blipFill>
        <p:spPr>
          <a:xfrm>
            <a:off x="5219640" y="1052640"/>
            <a:ext cx="125748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5"/>
          <p:cNvSpPr/>
          <p:nvPr/>
        </p:nvSpPr>
        <p:spPr>
          <a:xfrm>
            <a:off x="7122960" y="138276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7443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7050240" y="3213000"/>
            <a:ext cx="176976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62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7020000" y="496260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586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7343640" y="1484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柱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343640" y="5084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08720" y="3284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7"/>
          <p:cNvSpPr/>
          <p:nvPr/>
        </p:nvSpPr>
        <p:spPr>
          <a:xfrm>
            <a:off x="5364000" y="1197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手指轻触柱头会有什么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ZAP2@FB(175SD20V{K63813"/>
          <p:cNvPicPr/>
          <p:nvPr/>
        </p:nvPicPr>
        <p:blipFill>
          <a:blip r:embed="rId1"/>
          <a:stretch/>
        </p:blipFill>
        <p:spPr>
          <a:xfrm>
            <a:off x="360360" y="1204920"/>
            <a:ext cx="457200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啊"/>
          <p:cNvPicPr/>
          <p:nvPr/>
        </p:nvPicPr>
        <p:blipFill>
          <a:blip r:embed="rId2"/>
          <a:stretch/>
        </p:blipFill>
        <p:spPr>
          <a:xfrm>
            <a:off x="5435640" y="2565360"/>
            <a:ext cx="3166920" cy="2255760"/>
          </a:xfrm>
          <a:prstGeom prst="rect">
            <a:avLst/>
          </a:prstGeom>
          <a:ln w="0">
            <a:noFill/>
          </a:ln>
        </p:spPr>
      </p:pic>
      <p:sp>
        <p:nvSpPr>
          <p:cNvPr id="98" name="Oval 22"/>
          <p:cNvSpPr/>
          <p:nvPr/>
        </p:nvSpPr>
        <p:spPr>
          <a:xfrm>
            <a:off x="1979640" y="3868560"/>
            <a:ext cx="1511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95280" y="55245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头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572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更容易粘住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40000" y="436572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棉签轻轻接触雄蕊的花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拿棉签在雌蕊柱头上轻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观察雌蕊的柱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器材：雄蕊和雌蕊、棉签、放大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6TOUWT9(D)4XV@0RFMLF~N6"/>
          <p:cNvPicPr/>
          <p:nvPr/>
        </p:nvPicPr>
        <p:blipFill>
          <a:blip r:embed="rId1"/>
          <a:stretch/>
        </p:blipFill>
        <p:spPr>
          <a:xfrm>
            <a:off x="6370560" y="184464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]OWPT$SLTW@O]4H4GRQF596"/>
          <p:cNvPicPr/>
          <p:nvPr/>
        </p:nvPicPr>
        <p:blipFill>
          <a:blip r:embed="rId2"/>
          <a:stretch/>
        </p:blipFill>
        <p:spPr>
          <a:xfrm>
            <a:off x="3435480" y="1844640"/>
            <a:ext cx="2219040" cy="21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]6K@WO9G5ZMO`_T04W41IFC"/>
          <p:cNvPicPr/>
          <p:nvPr/>
        </p:nvPicPr>
        <p:blipFill>
          <a:blip r:embed="rId3"/>
          <a:stretch/>
        </p:blipFill>
        <p:spPr>
          <a:xfrm>
            <a:off x="444600" y="1844640"/>
            <a:ext cx="2189160" cy="217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0" y="516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TOUWT9(D)4XV@0RFMLF~N6"/>
          <p:cNvPicPr/>
          <p:nvPr/>
        </p:nvPicPr>
        <p:blipFill>
          <a:blip r:embed="rId1"/>
          <a:stretch/>
        </p:blipFill>
        <p:spPr>
          <a:xfrm>
            <a:off x="6370560" y="90792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]OWPT$SLTW@O]4H4GRQF596"/>
          <p:cNvPicPr/>
          <p:nvPr/>
        </p:nvPicPr>
        <p:blipFill>
          <a:blip r:embed="rId2"/>
          <a:stretch/>
        </p:blipFill>
        <p:spPr>
          <a:xfrm>
            <a:off x="3435480" y="907920"/>
            <a:ext cx="221904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]6K@WO9G5ZMO`_T04W41IFC"/>
          <p:cNvPicPr/>
          <p:nvPr/>
        </p:nvPicPr>
        <p:blipFill>
          <a:blip r:embed="rId3"/>
          <a:stretch/>
        </p:blipFill>
        <p:spPr>
          <a:xfrm>
            <a:off x="444600" y="907920"/>
            <a:ext cx="2189160" cy="217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24000" y="350028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给花传粉”的实验中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蜜蜂或其他昆虫在花丛中飞舞、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会有什么现象发生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07Z</dcterms:modified>
  <cp:revision>122</cp:revision>
  <dc:subject/>
  <dc:title>幻灯片 1</dc:title>
</cp:coreProperties>
</file>