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3FB4-F655-4345-A863-F0CB80486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AA9D-E36B-4C4E-A3A5-5411F2334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444F-ADB0-4E08-B569-482616E00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9D7-013C-4D63-8C7A-1CC0B659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47E-FD1B-4526-9676-54AD2DDC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369-E5B6-4494-A8FD-E928514C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F5F-7A12-4D4D-809C-177A0DBD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337-50E9-4EE6-9554-D8C4F69F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A42-18D8-449E-A364-6D2E914C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B21A-24D5-448D-8F3A-072FA46B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11B-804C-4555-AC08-B52FB658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EFA-CC7D-4DB1-9C00-C2CA18E9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86F-DFF1-4170-AC3C-4C83CFAA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07A-F6F6-48F3-95D0-56BCA00F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5BA-03D9-4446-875C-FF166E33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C379-6241-4ABC-861C-50EB25CBC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种子的萌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108000" y="692280"/>
            <a:ext cx="8893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豆种子由（        ）和（      ）两部分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皮对胚起（           ）作用。种子最重要的是部分是（          ），它可以发育成一株植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的根由（          ）发育而来，茎和叶由（            ）发育而来，种子萌发时所需要的养料由（            ）提供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914560" y="762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148360" y="7621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132000" y="1916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55640" y="422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059280" y="36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258920" y="4865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050920" y="2562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200" y="900000"/>
            <a:ext cx="4143600" cy="3600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菜豆种子介绍         玉米种子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(Z4ZY]]0QHOV]IPYA4%$XVQ"/>
          <p:cNvPicPr/>
          <p:nvPr/>
        </p:nvPicPr>
        <p:blipFill>
          <a:blip r:embed="rId2"/>
          <a:stretch/>
        </p:blipFill>
        <p:spPr>
          <a:xfrm>
            <a:off x="4786200" y="900000"/>
            <a:ext cx="4143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NAG-0012"/>
          <p:cNvPicPr/>
          <p:nvPr/>
        </p:nvPicPr>
        <p:blipFill>
          <a:blip r:embed="rId1"/>
          <a:stretch/>
        </p:blipFill>
        <p:spPr>
          <a:xfrm>
            <a:off x="1000080" y="285840"/>
            <a:ext cx="7416720" cy="359712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28" name="Text Box 3"/>
          <p:cNvSpPr/>
          <p:nvPr/>
        </p:nvSpPr>
        <p:spPr>
          <a:xfrm>
            <a:off x="-214200" y="4000680"/>
            <a:ext cx="92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叶提供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714760" y="46432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茎和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14760" y="53290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714760" y="599292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茎和根的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NAG-0017"/>
          <p:cNvPicPr/>
          <p:nvPr/>
        </p:nvPicPr>
        <p:blipFill>
          <a:blip r:embed="rId1"/>
          <a:stretch/>
        </p:blipFill>
        <p:spPr>
          <a:xfrm>
            <a:off x="380880" y="190512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33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双子叶植物和单子叶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1035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两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3520" y="38862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一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SNAG-0018"/>
          <p:cNvPicPr/>
          <p:nvPr/>
        </p:nvPicPr>
        <p:blipFill>
          <a:blip r:embed="rId2"/>
          <a:stretch/>
        </p:blipFill>
        <p:spPr>
          <a:xfrm>
            <a:off x="380880" y="472428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940360" cy="55450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6948360" y="479736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569"/>
              <a:gd name="adj5" fmla="val -93750"/>
              <a:gd name="adj6" fmla="val -6778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84360" y="119700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9597"/>
              <a:gd name="adj5" fmla="val 83074"/>
              <a:gd name="adj6" fmla="val 17603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5564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56087"/>
              <a:gd name="adj5" fmla="val -197305"/>
              <a:gd name="adj6" fmla="val 209490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79280" y="3500280"/>
            <a:ext cx="187164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55300"/>
              <a:gd name="adj5" fmla="val -69925"/>
              <a:gd name="adj6" fmla="val 20881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日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236000" y="278136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48527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6227640" y="98100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115"/>
              <a:gd name="adj5" fmla="val 147916"/>
              <a:gd name="adj6" fmla="val -7507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6948360" y="1844640"/>
            <a:ext cx="1656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63236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324000" y="4724280"/>
            <a:ext cx="165564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41708"/>
              <a:gd name="adj5" fmla="val -21814"/>
              <a:gd name="adj6" fmla="val 180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蚕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673272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34898"/>
              <a:gd name="adj5" fmla="val -153430"/>
              <a:gd name="adj6" fmla="val -6653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菜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7164360" y="378936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7199"/>
              <a:gd name="adj5" fmla="val -33856"/>
              <a:gd name="adj6" fmla="val -71046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250920" y="2349360"/>
            <a:ext cx="162072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33300"/>
              <a:gd name="adj5" fmla="val 77995"/>
              <a:gd name="adj6" fmla="val 163171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>
            <a:off x="285840" y="1071720"/>
            <a:ext cx="88581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面有哪些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种子里面的构造一样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为什么能生根、发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00040" y="3857760"/>
            <a:ext cx="489600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矩形 4"/>
          <p:cNvSpPr/>
          <p:nvPr/>
        </p:nvSpPr>
        <p:spPr>
          <a:xfrm>
            <a:off x="6143760" y="4429080"/>
            <a:ext cx="2428920" cy="1739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浸泡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更好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6572160" y="1357200"/>
            <a:ext cx="17146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4441680" cy="2214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100008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心地剥开蚕豆，每部分尽量保持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14200" y="4500720"/>
            <a:ext cx="892980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蚕豆的“豆瓣”小心分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仔细观察种子各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C:\Users\Administrator\AppData\Roaming\Tencent\Users\173692760\QQ\WinTemp\RichOle\U7$Q3O(3(1K8~VN5T1X@0DJ.jpg"/>
          <p:cNvPicPr/>
          <p:nvPr/>
        </p:nvPicPr>
        <p:blipFill>
          <a:blip r:embed="rId2"/>
          <a:stretch/>
        </p:blipFill>
        <p:spPr>
          <a:xfrm>
            <a:off x="5572080" y="1928880"/>
            <a:ext cx="280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38" descr="4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511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29"/>
          <p:cNvSpPr/>
          <p:nvPr/>
        </p:nvSpPr>
        <p:spPr>
          <a:xfrm>
            <a:off x="1214280" y="4357800"/>
            <a:ext cx="13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30"/>
          <p:cNvSpPr/>
          <p:nvPr/>
        </p:nvSpPr>
        <p:spPr>
          <a:xfrm>
            <a:off x="6286680" y="436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229440" y="3943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71680" y="5143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最重要的部分是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是有生命的，可以发育成一株植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857920" y="52149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26" descr="4"/>
          <p:cNvPicPr/>
          <p:nvPr/>
        </p:nvPicPr>
        <p:blipFill>
          <a:blip r:embed="rId1"/>
          <a:srcRect l="39166" t="0" r="0" b="0"/>
          <a:stretch/>
        </p:blipFill>
        <p:spPr>
          <a:xfrm>
            <a:off x="357120" y="1143000"/>
            <a:ext cx="6562800" cy="4143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29"/>
          <p:cNvSpPr/>
          <p:nvPr/>
        </p:nvSpPr>
        <p:spPr>
          <a:xfrm>
            <a:off x="7500960" y="1785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30"/>
          <p:cNvSpPr/>
          <p:nvPr/>
        </p:nvSpPr>
        <p:spPr>
          <a:xfrm flipH="1">
            <a:off x="3928680" y="20718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31"/>
          <p:cNvSpPr/>
          <p:nvPr/>
        </p:nvSpPr>
        <p:spPr>
          <a:xfrm>
            <a:off x="7500960" y="2714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32"/>
          <p:cNvSpPr/>
          <p:nvPr/>
        </p:nvSpPr>
        <p:spPr>
          <a:xfrm>
            <a:off x="7500960" y="3571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6"/>
          <p:cNvSpPr/>
          <p:nvPr/>
        </p:nvSpPr>
        <p:spPr>
          <a:xfrm>
            <a:off x="214200" y="564984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胚的各部分将会怎样发展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30"/>
          <p:cNvSpPr/>
          <p:nvPr/>
        </p:nvSpPr>
        <p:spPr>
          <a:xfrm flipH="1">
            <a:off x="4071960" y="3000240"/>
            <a:ext cx="3286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30"/>
          <p:cNvSpPr/>
          <p:nvPr/>
        </p:nvSpPr>
        <p:spPr>
          <a:xfrm flipH="1">
            <a:off x="4786200" y="3786120"/>
            <a:ext cx="2571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30"/>
          <p:cNvSpPr/>
          <p:nvPr/>
        </p:nvSpPr>
        <p:spPr>
          <a:xfrm flipH="1">
            <a:off x="2714760" y="3929040"/>
            <a:ext cx="46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787320" y="2071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500120" y="357120"/>
            <a:ext cx="7643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胚的各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506680" cy="3168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250920" y="549360"/>
            <a:ext cx="842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标出蚕豆种子各部分的名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3203640" y="249408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75717"/>
              <a:gd name="adj4" fmla="val -60310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3203640" y="335772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42384"/>
              <a:gd name="adj4" fmla="val -86768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3203640" y="4294080"/>
            <a:ext cx="1439640" cy="719280"/>
          </a:xfrm>
          <a:prstGeom prst="borderCallout1">
            <a:avLst>
              <a:gd name="adj1" fmla="val 18750"/>
              <a:gd name="adj2" fmla="val -8333"/>
              <a:gd name="adj3" fmla="val 22958"/>
              <a:gd name="adj4" fmla="val -9261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5435640" y="5157720"/>
            <a:ext cx="1440000" cy="719280"/>
          </a:xfrm>
          <a:prstGeom prst="borderCallout1">
            <a:avLst>
              <a:gd name="adj1" fmla="val 18750"/>
              <a:gd name="adj2" fmla="val -8333"/>
              <a:gd name="adj3" fmla="val 11921"/>
              <a:gd name="adj4" fmla="val -24785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348000" y="2565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3348000" y="342900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3348000" y="4365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580000" y="522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5003640" y="2565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5435640" y="3502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5796000" y="3573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7020000" y="3573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7451640" y="4510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7596360" y="4581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四种种子"/>
          <p:cNvPicPr/>
          <p:nvPr/>
        </p:nvPicPr>
        <p:blipFill>
          <a:blip r:embed="rId1"/>
          <a:stretch/>
        </p:blipFill>
        <p:spPr>
          <a:xfrm>
            <a:off x="714240" y="50004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571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蚕豆     白芸豆      黄豆     豇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0" y="56451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出以上种子的各部分名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蚕豆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52360" y="1214280"/>
            <a:ext cx="2500200" cy="2106720"/>
          </a:xfrm>
          <a:prstGeom prst="rect">
            <a:avLst/>
          </a:prstGeom>
          <a:ln w="0">
            <a:noFill/>
          </a:ln>
        </p:spPr>
      </p:pic>
      <p:sp>
        <p:nvSpPr>
          <p:cNvPr id="112" name="矩形 9"/>
          <p:cNvSpPr/>
          <p:nvPr/>
        </p:nvSpPr>
        <p:spPr>
          <a:xfrm>
            <a:off x="3071880" y="1285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蚕豆种子放在铺有棉花的盘子里，保持棉花的湿润，持续观察种子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14200" y="3857760"/>
            <a:ext cx="2541600" cy="200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3357720" y="3881520"/>
            <a:ext cx="2286000" cy="1976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6215040" y="3857760"/>
            <a:ext cx="2357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35Z</dcterms:modified>
  <cp:revision>141</cp:revision>
  <dc:subject/>
  <dc:title>幻灯片 1</dc:title>
</cp:coreProperties>
</file>