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00F-1C75-4DDB-9F47-A02CE1A1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D1C-39FC-41C2-B278-5AA7788F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986-81CC-4612-B1DD-23532E19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A01-9CF3-4E3D-A767-B6EE9CBE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FA5-5BAC-431E-AB82-70A20E09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BFD-923A-4328-9DED-DF8BD929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BF4-3E44-4A5B-BD33-A77C073B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032-A20E-4B07-B731-778914B5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514-CF80-4D4E-AE49-A1099D1C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36F-A114-49CA-8131-720763B6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4C9-49B1-42C7-907E-500B8056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C11-A5E3-4CAE-AF10-8833E80A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AE08-27CA-4773-ACC5-240B9938E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、果实和种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]L4RM{12@[WN@X{6KPZ`0XQ"/>
          <p:cNvPicPr/>
          <p:nvPr/>
        </p:nvPicPr>
        <p:blipFill>
          <a:blip r:embed="rId1"/>
          <a:stretch/>
        </p:blipFill>
        <p:spPr>
          <a:xfrm>
            <a:off x="0" y="0"/>
            <a:ext cx="4140360" cy="3451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110_407842_56d249a2d00dc67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9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 rot="5400000">
            <a:off x="6274440" y="4029840"/>
            <a:ext cx="2997000" cy="2227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250920" y="40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的花粉传播到雌蕊的柱头上去，使雌蕊子房里的胚珠受精。胚珠受精以后，果实和种子开始成长，花朵开始凋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菜的果实和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40968" t="2669" r="29375" b="5837"/>
          <a:stretch/>
        </p:blipFill>
        <p:spPr>
          <a:xfrm>
            <a:off x="5724360" y="1486080"/>
            <a:ext cx="1656000" cy="439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MG_0493"/>
          <p:cNvPicPr/>
          <p:nvPr/>
        </p:nvPicPr>
        <p:blipFill>
          <a:blip r:embed="rId2"/>
          <a:stretch/>
        </p:blipFill>
        <p:spPr>
          <a:xfrm>
            <a:off x="1908000" y="1486080"/>
            <a:ext cx="1800360" cy="43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0494"/>
          <p:cNvPicPr/>
          <p:nvPr/>
        </p:nvPicPr>
        <p:blipFill>
          <a:blip r:embed="rId3"/>
          <a:srcRect l="18873" t="0" r="0" b="5980"/>
          <a:stretch/>
        </p:blipFill>
        <p:spPr>
          <a:xfrm>
            <a:off x="7451640" y="1486080"/>
            <a:ext cx="1692360" cy="43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IMG_0495"/>
          <p:cNvPicPr/>
          <p:nvPr/>
        </p:nvPicPr>
        <p:blipFill>
          <a:blip r:embed="rId4"/>
          <a:srcRect l="15366" t="0" r="18743" b="0"/>
          <a:stretch/>
        </p:blipFill>
        <p:spPr>
          <a:xfrm>
            <a:off x="0" y="1486080"/>
            <a:ext cx="1778040" cy="439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IMG_0496"/>
          <p:cNvPicPr/>
          <p:nvPr/>
        </p:nvPicPr>
        <p:blipFill>
          <a:blip r:embed="rId5"/>
          <a:srcRect l="21720" t="0" r="11728" b="0"/>
          <a:stretch/>
        </p:blipFill>
        <p:spPr>
          <a:xfrm>
            <a:off x="3780000" y="1486080"/>
            <a:ext cx="1800000" cy="4392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油菜果实生长变化的顺序排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0" y="595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）      （     ）     （     ）    （     ）  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8101080" y="59580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500720" y="5958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539640" y="59500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2627280" y="5958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6372360" y="5958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1T]N427YH(2IVD7E1CS56JJ"/>
          <p:cNvPicPr/>
          <p:nvPr/>
        </p:nvPicPr>
        <p:blipFill>
          <a:blip r:embed="rId1"/>
          <a:stretch/>
        </p:blipFill>
        <p:spPr>
          <a:xfrm>
            <a:off x="0" y="0"/>
            <a:ext cx="4572000" cy="4327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}E{KYYUOVSI8{[YY{V[T{6T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429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YK~EWTWWVMT40W3W]%Y4KH3"/>
          <p:cNvPicPr/>
          <p:nvPr/>
        </p:nvPicPr>
        <p:blipFill>
          <a:blip r:embed="rId3"/>
          <a:stretch/>
        </p:blipFill>
        <p:spPr>
          <a:xfrm>
            <a:off x="468360" y="4481640"/>
            <a:ext cx="1332000" cy="2376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3"/>
          <p:cNvSpPr/>
          <p:nvPr/>
        </p:nvSpPr>
        <p:spPr>
          <a:xfrm>
            <a:off x="2232000" y="482760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数一个油菜果荚里有多少粒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一想一株油菜能长出多少粒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042920" y="44280"/>
            <a:ext cx="12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IMG_3696"/>
          <p:cNvPicPr/>
          <p:nvPr/>
        </p:nvPicPr>
        <p:blipFill>
          <a:blip r:embed="rId1"/>
          <a:srcRect l="9803" t="0" r="15688" b="15102"/>
          <a:stretch/>
        </p:blipFill>
        <p:spPr>
          <a:xfrm>
            <a:off x="0" y="836640"/>
            <a:ext cx="2987640" cy="2663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377120" y="44280"/>
            <a:ext cx="17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491000" y="4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果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丽江雪桃"/>
          <p:cNvPicPr/>
          <p:nvPr/>
        </p:nvPicPr>
        <p:blipFill>
          <a:blip r:embed="rId2"/>
          <a:srcRect l="0" t="15728" r="20911" b="1722"/>
          <a:stretch/>
        </p:blipFill>
        <p:spPr>
          <a:xfrm>
            <a:off x="3203640" y="836640"/>
            <a:ext cx="2952720" cy="2666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382799156"/>
          <p:cNvPicPr/>
          <p:nvPr/>
        </p:nvPicPr>
        <p:blipFill>
          <a:blip r:embed="rId3"/>
          <a:srcRect l="10202" t="0" r="18368" b="21237"/>
          <a:stretch/>
        </p:blipFill>
        <p:spPr>
          <a:xfrm>
            <a:off x="6372360" y="836640"/>
            <a:ext cx="2771640" cy="2690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"/>
          <p:cNvPicPr/>
          <p:nvPr/>
        </p:nvPicPr>
        <p:blipFill>
          <a:blip r:embed="rId4"/>
          <a:stretch/>
        </p:blipFill>
        <p:spPr>
          <a:xfrm>
            <a:off x="0" y="3751200"/>
            <a:ext cx="4211640" cy="3106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1747800" y="3716280"/>
            <a:ext cx="24638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菜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537080" y="407664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的植物果实里的种子只有一个，而有的植物果实里的种子有多个，这是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117440" y="1413000"/>
            <a:ext cx="2372040" cy="403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5222880" y="1341360"/>
            <a:ext cx="2700360" cy="3960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1260360" y="548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的形状                雌蕊的形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V_R}29OYST$%FFR52PO2(NY"/>
          <p:cNvPicPr/>
          <p:nvPr/>
        </p:nvPicPr>
        <p:blipFill>
          <a:blip r:embed="rId3"/>
          <a:stretch/>
        </p:blipFill>
        <p:spPr>
          <a:xfrm>
            <a:off x="2486160" y="213372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V_R}29OYST$%FFR52PO2(NY"/>
          <p:cNvPicPr/>
          <p:nvPr/>
        </p:nvPicPr>
        <p:blipFill>
          <a:blip r:embed="rId4"/>
          <a:stretch/>
        </p:blipFill>
        <p:spPr>
          <a:xfrm>
            <a:off x="2557440" y="465300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V_R}29OYST$%FFR52PO2(NY"/>
          <p:cNvPicPr/>
          <p:nvPr/>
        </p:nvPicPr>
        <p:blipFill>
          <a:blip r:embed="rId5"/>
          <a:stretch/>
        </p:blipFill>
        <p:spPr>
          <a:xfrm>
            <a:off x="7165800" y="1341360"/>
            <a:ext cx="1366920" cy="771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V_R}29OYST$%FFR52PO2(NY"/>
          <p:cNvPicPr/>
          <p:nvPr/>
        </p:nvPicPr>
        <p:blipFill>
          <a:blip r:embed="rId6"/>
          <a:stretch/>
        </p:blipFill>
        <p:spPr>
          <a:xfrm>
            <a:off x="6446880" y="285264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V_R}29OYST$%FFR52PO2(NY"/>
          <p:cNvPicPr/>
          <p:nvPr/>
        </p:nvPicPr>
        <p:blipFill>
          <a:blip r:embed="rId7"/>
          <a:stretch/>
        </p:blipFill>
        <p:spPr>
          <a:xfrm>
            <a:off x="6519960" y="4653000"/>
            <a:ext cx="1150920" cy="649080"/>
          </a:xfrm>
          <a:prstGeom prst="rect">
            <a:avLst/>
          </a:prstGeom>
          <a:ln w="0">
            <a:noFill/>
          </a:ln>
        </p:spPr>
      </p:pic>
      <p:sp>
        <p:nvSpPr>
          <p:cNvPr id="151" name="Line 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22200" y="154908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传粉的媒介主要有昆虫和风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异花传粉的两性花，一般情况下雌蕊、雄蕊是一起成熟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蕊受精后，才能逐渐长成果实和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植物的果实是由雌蕊中的子房发育而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26920" y="1843920"/>
            <a:ext cx="6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824760" y="335700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824760" y="620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24760" y="505260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(2J4[AC}HPE[{OTFQ08BJEF"/>
          <p:cNvPicPr/>
          <p:nvPr/>
        </p:nvPicPr>
        <p:blipFill>
          <a:blip r:embed="rId1"/>
          <a:stretch/>
        </p:blipFill>
        <p:spPr>
          <a:xfrm>
            <a:off x="539640" y="765000"/>
            <a:ext cx="7561440" cy="5616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哪些部分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果实和种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227640" y="5013360"/>
            <a:ext cx="29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蕊和雌蕊是怎样形成果实和种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雌蕊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 rot="5400000">
            <a:off x="2418840" y="3060720"/>
            <a:ext cx="2663640" cy="1095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676520" y="227664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6765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5240" y="32925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460520" y="263700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2771640" y="263700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2771640" y="465300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L6_}($QTCLENPF_5L~PEE]Y"/>
          <p:cNvPicPr/>
          <p:nvPr/>
        </p:nvPicPr>
        <p:blipFill>
          <a:blip r:embed="rId2"/>
          <a:stretch/>
        </p:blipFill>
        <p:spPr>
          <a:xfrm>
            <a:off x="4427640" y="1484280"/>
            <a:ext cx="4716360" cy="4219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3"/>
          <p:cNvSpPr/>
          <p:nvPr/>
        </p:nvSpPr>
        <p:spPr>
          <a:xfrm>
            <a:off x="5867280" y="836640"/>
            <a:ext cx="1944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丝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2340000" y="5805360"/>
            <a:ext cx="1871640" cy="897120"/>
          </a:xfrm>
          <a:prstGeom prst="borderCallout1">
            <a:avLst>
              <a:gd name="adj1" fmla="val 18750"/>
              <a:gd name="adj2" fmla="val -8333"/>
              <a:gd name="adj3" fmla="val -127254"/>
              <a:gd name="adj4" fmla="val 15021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6804000" y="5845320"/>
            <a:ext cx="1871640" cy="896760"/>
          </a:xfrm>
          <a:prstGeom prst="borderCallout1">
            <a:avLst>
              <a:gd name="adj1" fmla="val 18750"/>
              <a:gd name="adj2" fmla="val -8333"/>
              <a:gd name="adj3" fmla="val -140884"/>
              <a:gd name="adj4" fmla="val -6488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2556000" y="587700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7164360" y="595008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雌蕊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24000" y="1917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24000" y="2997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ZAP2@FB(175SD20V{K63813"/>
          <p:cNvPicPr/>
          <p:nvPr/>
        </p:nvPicPr>
        <p:blipFill>
          <a:blip r:embed="rId1"/>
          <a:stretch/>
        </p:blipFill>
        <p:spPr>
          <a:xfrm>
            <a:off x="2806560" y="1379520"/>
            <a:ext cx="4392720" cy="34894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1"/>
          <p:cNvSpPr/>
          <p:nvPr/>
        </p:nvSpPr>
        <p:spPr>
          <a:xfrm>
            <a:off x="7307280" y="2276640"/>
            <a:ext cx="1620720" cy="896760"/>
          </a:xfrm>
          <a:prstGeom prst="borderCallout1">
            <a:avLst>
              <a:gd name="adj1" fmla="val 18750"/>
              <a:gd name="adj2" fmla="val -8333"/>
              <a:gd name="adj3" fmla="val 65662"/>
              <a:gd name="adj4" fmla="val -12644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7523280" y="2349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1403280" y="2276640"/>
            <a:ext cx="3240000" cy="7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 flipV="1">
            <a:off x="1474920" y="2637000"/>
            <a:ext cx="2592360" cy="72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0" y="544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药上有许多黄色粉末，很容易脱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5"/>
          <p:cNvPicPr/>
          <p:nvPr/>
        </p:nvPicPr>
        <p:blipFill>
          <a:blip r:embed="rId1"/>
          <a:stretch/>
        </p:blipFill>
        <p:spPr>
          <a:xfrm>
            <a:off x="6156360" y="4076640"/>
            <a:ext cx="2808360" cy="2492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3"/>
          <p:cNvPicPr/>
          <p:nvPr/>
        </p:nvPicPr>
        <p:blipFill>
          <a:blip r:embed="rId2"/>
          <a:stretch/>
        </p:blipFill>
        <p:spPr>
          <a:xfrm>
            <a:off x="3132000" y="4081320"/>
            <a:ext cx="2810160" cy="248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8"/>
          <p:cNvPicPr/>
          <p:nvPr/>
        </p:nvPicPr>
        <p:blipFill>
          <a:blip r:embed="rId3"/>
          <a:stretch/>
        </p:blipFill>
        <p:spPr>
          <a:xfrm>
            <a:off x="6335640" y="0"/>
            <a:ext cx="2808360" cy="263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7"/>
          <p:cNvPicPr/>
          <p:nvPr/>
        </p:nvPicPr>
        <p:blipFill>
          <a:blip r:embed="rId4"/>
          <a:stretch/>
        </p:blipFill>
        <p:spPr>
          <a:xfrm>
            <a:off x="3348000" y="0"/>
            <a:ext cx="2881440" cy="2637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2"/>
          <p:cNvPicPr/>
          <p:nvPr/>
        </p:nvPicPr>
        <p:blipFill>
          <a:blip r:embed="rId5"/>
          <a:stretch/>
        </p:blipFill>
        <p:spPr>
          <a:xfrm>
            <a:off x="250920" y="4076640"/>
            <a:ext cx="2700360" cy="249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0" y="2997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显微镜下的各种植物花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6"/>
          <a:stretch/>
        </p:blipFill>
        <p:spPr>
          <a:xfrm>
            <a:off x="0" y="0"/>
            <a:ext cx="3203640" cy="27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3132000" y="1052640"/>
          <a:ext cx="1737000" cy="53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052640"/>
                    <a:ext cx="1737000" cy="53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6"/>
          <p:cNvSpPr/>
          <p:nvPr/>
        </p:nvSpPr>
        <p:spPr>
          <a:xfrm>
            <a:off x="1547640" y="1484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柱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547640" y="5084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65240" y="3365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1332000" y="1773360"/>
            <a:ext cx="215640" cy="381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627280" y="1699920"/>
            <a:ext cx="1800360" cy="144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2556000" y="3716280"/>
            <a:ext cx="792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547640" y="3357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2627280" y="537372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雌蕊"/>
          <p:cNvPicPr/>
          <p:nvPr/>
        </p:nvPicPr>
        <p:blipFill>
          <a:blip r:embed="rId3"/>
          <a:srcRect l="0" t="0" r="26424" b="4094"/>
          <a:stretch/>
        </p:blipFill>
        <p:spPr>
          <a:xfrm>
            <a:off x="5219640" y="1052640"/>
            <a:ext cx="1257480" cy="54720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5"/>
          <p:cNvSpPr/>
          <p:nvPr/>
        </p:nvSpPr>
        <p:spPr>
          <a:xfrm>
            <a:off x="7122960" y="1382760"/>
            <a:ext cx="177012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74439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6"/>
          <p:cNvSpPr/>
          <p:nvPr/>
        </p:nvSpPr>
        <p:spPr>
          <a:xfrm>
            <a:off x="7050240" y="3213000"/>
            <a:ext cx="176976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621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7020000" y="4962600"/>
            <a:ext cx="1770120" cy="914400"/>
          </a:xfrm>
          <a:prstGeom prst="borderCallout1">
            <a:avLst>
              <a:gd name="adj1" fmla="val 18750"/>
              <a:gd name="adj2" fmla="val -8333"/>
              <a:gd name="adj3" fmla="val 108333"/>
              <a:gd name="adj4" fmla="val -586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7343640" y="148428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柱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343640" y="508464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7308720" y="3284640"/>
            <a:ext cx="16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7"/>
          <p:cNvSpPr/>
          <p:nvPr/>
        </p:nvSpPr>
        <p:spPr>
          <a:xfrm>
            <a:off x="5364000" y="119700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手指轻触柱头会有什么感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0" descr="ZAP2@FB(175SD20V{K63813"/>
          <p:cNvPicPr/>
          <p:nvPr/>
        </p:nvPicPr>
        <p:blipFill>
          <a:blip r:embed="rId1"/>
          <a:stretch/>
        </p:blipFill>
        <p:spPr>
          <a:xfrm>
            <a:off x="360360" y="1204920"/>
            <a:ext cx="4572000" cy="3632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啊"/>
          <p:cNvPicPr/>
          <p:nvPr/>
        </p:nvPicPr>
        <p:blipFill>
          <a:blip r:embed="rId2"/>
          <a:stretch/>
        </p:blipFill>
        <p:spPr>
          <a:xfrm>
            <a:off x="5435640" y="2565360"/>
            <a:ext cx="3166920" cy="2255760"/>
          </a:xfrm>
          <a:prstGeom prst="rect">
            <a:avLst/>
          </a:prstGeom>
          <a:ln w="0">
            <a:noFill/>
          </a:ln>
        </p:spPr>
      </p:pic>
      <p:sp>
        <p:nvSpPr>
          <p:cNvPr id="98" name="Oval 22"/>
          <p:cNvSpPr/>
          <p:nvPr/>
        </p:nvSpPr>
        <p:spPr>
          <a:xfrm>
            <a:off x="1979640" y="3868560"/>
            <a:ext cx="1511280" cy="9352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395280" y="552456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柱头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黏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457200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更容易粘住花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活动：给花传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340000" y="4365720"/>
            <a:ext cx="6769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棉签轻轻接触雄蕊的花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拿棉签在雌蕊柱头上轻涂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放大镜观察雌蕊的柱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器材：雄蕊和雌蕊、棉签、放大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6TOUWT9(D)4XV@0RFMLF~N6"/>
          <p:cNvPicPr/>
          <p:nvPr/>
        </p:nvPicPr>
        <p:blipFill>
          <a:blip r:embed="rId1"/>
          <a:stretch/>
        </p:blipFill>
        <p:spPr>
          <a:xfrm>
            <a:off x="6370560" y="1844640"/>
            <a:ext cx="2233800" cy="221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]OWPT$SLTW@O]4H4GRQF596"/>
          <p:cNvPicPr/>
          <p:nvPr/>
        </p:nvPicPr>
        <p:blipFill>
          <a:blip r:embed="rId2"/>
          <a:stretch/>
        </p:blipFill>
        <p:spPr>
          <a:xfrm>
            <a:off x="3435480" y="1844640"/>
            <a:ext cx="2219040" cy="2174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]6K@WO9G5ZMO`_T04W41IFC"/>
          <p:cNvPicPr/>
          <p:nvPr/>
        </p:nvPicPr>
        <p:blipFill>
          <a:blip r:embed="rId3"/>
          <a:stretch/>
        </p:blipFill>
        <p:spPr>
          <a:xfrm>
            <a:off x="444600" y="1844640"/>
            <a:ext cx="2189160" cy="2174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0" y="516420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活动：给花传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6TOUWT9(D)4XV@0RFMLF~N6"/>
          <p:cNvPicPr/>
          <p:nvPr/>
        </p:nvPicPr>
        <p:blipFill>
          <a:blip r:embed="rId1"/>
          <a:stretch/>
        </p:blipFill>
        <p:spPr>
          <a:xfrm>
            <a:off x="6370560" y="907920"/>
            <a:ext cx="2233800" cy="2219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]OWPT$SLTW@O]4H4GRQF596"/>
          <p:cNvPicPr/>
          <p:nvPr/>
        </p:nvPicPr>
        <p:blipFill>
          <a:blip r:embed="rId2"/>
          <a:stretch/>
        </p:blipFill>
        <p:spPr>
          <a:xfrm>
            <a:off x="3435480" y="907920"/>
            <a:ext cx="2219040" cy="217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]6K@WO9G5ZMO`_T04W41IFC"/>
          <p:cNvPicPr/>
          <p:nvPr/>
        </p:nvPicPr>
        <p:blipFill>
          <a:blip r:embed="rId3"/>
          <a:stretch/>
        </p:blipFill>
        <p:spPr>
          <a:xfrm>
            <a:off x="444600" y="907920"/>
            <a:ext cx="2189160" cy="21751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324000" y="3500280"/>
            <a:ext cx="88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“给花传粉”的实验中你有什么发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蜜蜂或其他昆虫在花丛中飞舞、爬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认为会有什么现象发生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07Z</dcterms:modified>
  <cp:revision>122</cp:revision>
  <dc:subject/>
  <dc:title>幻灯片 1</dc:title>
</cp:coreProperties>
</file>