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525A-BB8E-430C-98ED-1A50F151E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074F-BC89-43AB-A751-FBCF85CC8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FE99-2243-45C6-A0BD-D353B0885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D5AD-A50E-4C7F-A171-16919492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C8E-BDAF-4B7F-ABE9-64B4E601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4A17-26A9-4930-84CC-23BDC2D3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FBAA-FD14-45D2-B2B3-826C0646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951-457B-41C3-95EA-76F27754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AA83-3B1C-4D78-81C9-63A07AAA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BAC7-C67E-45B5-9E51-53A77662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3417-CF94-4503-827D-30DD3DF7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CDFD-72B6-42A6-97E7-58E90E7F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EFF-6683-4CDB-8E16-CD3CDF0A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BDF4-4F2D-4CA6-87DC-D4AE103B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14CC-FDB1-4D5E-9874-6C99B366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1F91-9A74-44BF-A834-93DEFA5EF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种子的萌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108000" y="692280"/>
            <a:ext cx="88930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豆种子由（        ）和（      ）两部分构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皮对胚起（           ）作用。种子最重要的是部分是（          ），它可以发育成一株植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的根由（          ）发育而来，茎和叶由（            ）发育而来，种子萌发时所需要的养料由（            ）提供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914560" y="7621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种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5148360" y="7621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132000" y="1916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保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755640" y="4221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胚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3059280" y="3645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胚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258920" y="48657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子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2050920" y="25621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(Z4ZY]]0QHOV]IPYA4%$XVQ"/>
          <p:cNvPicPr/>
          <p:nvPr/>
        </p:nvPicPr>
        <p:blipFill>
          <a:blip r:embed="rId1"/>
          <a:stretch/>
        </p:blipFill>
        <p:spPr>
          <a:xfrm>
            <a:off x="214200" y="900000"/>
            <a:ext cx="4143600" cy="36007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0" y="4857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菜豆种子介绍         玉米种子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(Z4ZY]]0QHOV]IPYA4%$XVQ"/>
          <p:cNvPicPr/>
          <p:nvPr/>
        </p:nvPicPr>
        <p:blipFill>
          <a:blip r:embed="rId2"/>
          <a:stretch/>
        </p:blipFill>
        <p:spPr>
          <a:xfrm>
            <a:off x="4786200" y="900000"/>
            <a:ext cx="41436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NAG-0012"/>
          <p:cNvPicPr/>
          <p:nvPr/>
        </p:nvPicPr>
        <p:blipFill>
          <a:blip r:embed="rId1"/>
          <a:stretch/>
        </p:blipFill>
        <p:spPr>
          <a:xfrm>
            <a:off x="1000080" y="285840"/>
            <a:ext cx="7416720" cy="359712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28" name="Text Box 3"/>
          <p:cNvSpPr/>
          <p:nvPr/>
        </p:nvSpPr>
        <p:spPr>
          <a:xfrm>
            <a:off x="-214200" y="4000680"/>
            <a:ext cx="92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子叶提供营养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714760" y="464328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胚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茎和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714760" y="532908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胚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714760" y="599292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胚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接茎和根的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SNAG-0017"/>
          <p:cNvPicPr/>
          <p:nvPr/>
        </p:nvPicPr>
        <p:blipFill>
          <a:blip r:embed="rId1"/>
          <a:stretch/>
        </p:blipFill>
        <p:spPr>
          <a:xfrm>
            <a:off x="380880" y="1905120"/>
            <a:ext cx="8382240" cy="18288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33" name="Text 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双子叶植物和单子叶植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57200" y="1035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双子叶植物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子的胚具有两片子叶的植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533520" y="38862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子叶植物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子的胚具有一片子叶的植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SNAG-0018"/>
          <p:cNvPicPr/>
          <p:nvPr/>
        </p:nvPicPr>
        <p:blipFill>
          <a:blip r:embed="rId2"/>
          <a:stretch/>
        </p:blipFill>
        <p:spPr>
          <a:xfrm>
            <a:off x="380880" y="4724280"/>
            <a:ext cx="8382240" cy="18288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各样的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940360" cy="55450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4"/>
          <p:cNvSpPr/>
          <p:nvPr/>
        </p:nvSpPr>
        <p:spPr>
          <a:xfrm>
            <a:off x="6948360" y="4797360"/>
            <a:ext cx="16560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5569"/>
              <a:gd name="adj5" fmla="val -93750"/>
              <a:gd name="adj6" fmla="val -67787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绿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684360" y="1197000"/>
            <a:ext cx="16556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39597"/>
              <a:gd name="adj5" fmla="val 83074"/>
              <a:gd name="adj6" fmla="val 17603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755640" y="5877000"/>
            <a:ext cx="165564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156087"/>
              <a:gd name="adj5" fmla="val -197305"/>
              <a:gd name="adj6" fmla="val 209490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179280" y="3500280"/>
            <a:ext cx="1871640" cy="649440"/>
          </a:xfrm>
          <a:prstGeom prst="borderCallout2">
            <a:avLst>
              <a:gd name="adj1" fmla="val 18750"/>
              <a:gd name="adj2" fmla="val -8333"/>
              <a:gd name="adj3" fmla="val 17601"/>
              <a:gd name="adj4" fmla="val 155300"/>
              <a:gd name="adj5" fmla="val -69925"/>
              <a:gd name="adj6" fmla="val 208819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日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7236000" y="2781360"/>
            <a:ext cx="165564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27898"/>
              <a:gd name="adj5" fmla="val 48527"/>
              <a:gd name="adj6" fmla="val -5225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6227640" y="981000"/>
            <a:ext cx="16560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9115"/>
              <a:gd name="adj5" fmla="val 147916"/>
              <a:gd name="adj6" fmla="val -7507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玉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6948360" y="1844640"/>
            <a:ext cx="165600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27898"/>
              <a:gd name="adj5" fmla="val 63236"/>
              <a:gd name="adj6" fmla="val -5225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赤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324000" y="4724280"/>
            <a:ext cx="1655640" cy="64800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141708"/>
              <a:gd name="adj5" fmla="val -21814"/>
              <a:gd name="adj6" fmla="val 18015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蚕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6732720" y="5877000"/>
            <a:ext cx="165564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34898"/>
              <a:gd name="adj5" fmla="val -153430"/>
              <a:gd name="adj6" fmla="val -66537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菜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/>
          <p:cNvSpPr/>
          <p:nvPr/>
        </p:nvSpPr>
        <p:spPr>
          <a:xfrm>
            <a:off x="7164360" y="3789360"/>
            <a:ext cx="16556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7199"/>
              <a:gd name="adj5" fmla="val -33856"/>
              <a:gd name="adj6" fmla="val -71046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黄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250920" y="2349360"/>
            <a:ext cx="1620720" cy="649440"/>
          </a:xfrm>
          <a:prstGeom prst="borderCallout2">
            <a:avLst>
              <a:gd name="adj1" fmla="val 18750"/>
              <a:gd name="adj2" fmla="val -8333"/>
              <a:gd name="adj3" fmla="val 17601"/>
              <a:gd name="adj4" fmla="val 133300"/>
              <a:gd name="adj5" fmla="val 77995"/>
              <a:gd name="adj6" fmla="val 163171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4"/>
          <p:cNvSpPr/>
          <p:nvPr/>
        </p:nvSpPr>
        <p:spPr>
          <a:xfrm>
            <a:off x="285840" y="1071720"/>
            <a:ext cx="885816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里面有哪些部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种子里面的构造一样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为什么能生根、发芽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00040" y="3857760"/>
            <a:ext cx="4896000" cy="3000240"/>
          </a:xfrm>
          <a:prstGeom prst="rect">
            <a:avLst/>
          </a:prstGeom>
          <a:ln w="0">
            <a:noFill/>
          </a:ln>
        </p:spPr>
      </p:pic>
      <p:sp>
        <p:nvSpPr>
          <p:cNvPr id="65" name="矩形 4"/>
          <p:cNvSpPr/>
          <p:nvPr/>
        </p:nvSpPr>
        <p:spPr>
          <a:xfrm>
            <a:off x="6143760" y="4429080"/>
            <a:ext cx="2428920" cy="17398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浸泡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更好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种子的内部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6572160" y="1357200"/>
            <a:ext cx="17146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种子的内部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00040" y="1928880"/>
            <a:ext cx="4441680" cy="2214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0" y="1000080"/>
            <a:ext cx="914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心地剥开蚕豆，每部分尽量保持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14200" y="4500720"/>
            <a:ext cx="892980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将蚕豆的“豆瓣”小心分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放大镜仔细观察种子各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C:\Users\Administrator\AppData\Roaming\Tencent\Users\173692760\QQ\WinTemp\RichOle\U7$Q3O(3(1K8~VN5T1X@0DJ.jpg"/>
          <p:cNvPicPr/>
          <p:nvPr/>
        </p:nvPicPr>
        <p:blipFill>
          <a:blip r:embed="rId2"/>
          <a:stretch/>
        </p:blipFill>
        <p:spPr>
          <a:xfrm>
            <a:off x="5572080" y="1928880"/>
            <a:ext cx="28051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038" descr="4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3511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29"/>
          <p:cNvSpPr/>
          <p:nvPr/>
        </p:nvSpPr>
        <p:spPr>
          <a:xfrm>
            <a:off x="1214280" y="4357800"/>
            <a:ext cx="13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种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30"/>
          <p:cNvSpPr/>
          <p:nvPr/>
        </p:nvSpPr>
        <p:spPr>
          <a:xfrm>
            <a:off x="6286680" y="4363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6229440" y="3943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Pē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571680" y="5143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里最重要的部分是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胚是有生命的，可以发育成一株植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种子的内部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5857920" y="521496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26" descr="4"/>
          <p:cNvPicPr/>
          <p:nvPr/>
        </p:nvPicPr>
        <p:blipFill>
          <a:blip r:embed="rId1"/>
          <a:srcRect l="39166" t="0" r="0" b="0"/>
          <a:stretch/>
        </p:blipFill>
        <p:spPr>
          <a:xfrm>
            <a:off x="357120" y="1143000"/>
            <a:ext cx="6562800" cy="41432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29"/>
          <p:cNvSpPr/>
          <p:nvPr/>
        </p:nvSpPr>
        <p:spPr>
          <a:xfrm>
            <a:off x="7500960" y="17859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30"/>
          <p:cNvSpPr/>
          <p:nvPr/>
        </p:nvSpPr>
        <p:spPr>
          <a:xfrm flipH="1">
            <a:off x="3928680" y="20718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31"/>
          <p:cNvSpPr/>
          <p:nvPr/>
        </p:nvSpPr>
        <p:spPr>
          <a:xfrm>
            <a:off x="7500960" y="27147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32"/>
          <p:cNvSpPr/>
          <p:nvPr/>
        </p:nvSpPr>
        <p:spPr>
          <a:xfrm>
            <a:off x="7500960" y="357192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子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36"/>
          <p:cNvSpPr/>
          <p:nvPr/>
        </p:nvSpPr>
        <p:spPr>
          <a:xfrm>
            <a:off x="214200" y="564984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胚的各部分将会怎样发展变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30"/>
          <p:cNvSpPr/>
          <p:nvPr/>
        </p:nvSpPr>
        <p:spPr>
          <a:xfrm flipH="1">
            <a:off x="4071960" y="3000240"/>
            <a:ext cx="3286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30"/>
          <p:cNvSpPr/>
          <p:nvPr/>
        </p:nvSpPr>
        <p:spPr>
          <a:xfrm flipH="1">
            <a:off x="4786200" y="3786120"/>
            <a:ext cx="2571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30"/>
          <p:cNvSpPr/>
          <p:nvPr/>
        </p:nvSpPr>
        <p:spPr>
          <a:xfrm flipH="1">
            <a:off x="2714760" y="3929040"/>
            <a:ext cx="464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4"/>
          <p:cNvSpPr/>
          <p:nvPr/>
        </p:nvSpPr>
        <p:spPr>
          <a:xfrm>
            <a:off x="787320" y="20718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1500120" y="357120"/>
            <a:ext cx="7643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胚的各部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2506680" cy="3168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250920" y="549360"/>
            <a:ext cx="842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标出蚕豆种子各部分的名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3203640" y="2494080"/>
            <a:ext cx="1439640" cy="718920"/>
          </a:xfrm>
          <a:prstGeom prst="borderCallout1">
            <a:avLst>
              <a:gd name="adj1" fmla="val 18750"/>
              <a:gd name="adj2" fmla="val -8333"/>
              <a:gd name="adj3" fmla="val 75717"/>
              <a:gd name="adj4" fmla="val -60310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3203640" y="3357720"/>
            <a:ext cx="1439640" cy="718920"/>
          </a:xfrm>
          <a:prstGeom prst="borderCallout1">
            <a:avLst>
              <a:gd name="adj1" fmla="val 18750"/>
              <a:gd name="adj2" fmla="val -8333"/>
              <a:gd name="adj3" fmla="val 42384"/>
              <a:gd name="adj4" fmla="val -86768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3203640" y="4294080"/>
            <a:ext cx="1439640" cy="719280"/>
          </a:xfrm>
          <a:prstGeom prst="borderCallout1">
            <a:avLst>
              <a:gd name="adj1" fmla="val 18750"/>
              <a:gd name="adj2" fmla="val -8333"/>
              <a:gd name="adj3" fmla="val 22958"/>
              <a:gd name="adj4" fmla="val -92611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3"/>
          <p:cNvSpPr/>
          <p:nvPr/>
        </p:nvSpPr>
        <p:spPr>
          <a:xfrm>
            <a:off x="5435640" y="5157720"/>
            <a:ext cx="1440000" cy="719280"/>
          </a:xfrm>
          <a:prstGeom prst="borderCallout1">
            <a:avLst>
              <a:gd name="adj1" fmla="val 18750"/>
              <a:gd name="adj2" fmla="val -8333"/>
              <a:gd name="adj3" fmla="val 11921"/>
              <a:gd name="adj4" fmla="val -247851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348000" y="2565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3348000" y="3429000"/>
            <a:ext cx="15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3348000" y="43657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子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580000" y="5229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种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8"/>
          <p:cNvSpPr/>
          <p:nvPr/>
        </p:nvSpPr>
        <p:spPr>
          <a:xfrm>
            <a:off x="5003640" y="2565360"/>
            <a:ext cx="216000" cy="2232000"/>
          </a:xfrm>
          <a:custGeom>
            <a:avLst/>
            <a:gdLst>
              <a:gd name="textAreaLeft" fmla="*/ 0 w 216000"/>
              <a:gd name="textAreaRight" fmla="*/ 78120 w 21600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5435640" y="3502080"/>
            <a:ext cx="1441440" cy="7920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5796000" y="357336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1"/>
          <p:cNvSpPr/>
          <p:nvPr/>
        </p:nvSpPr>
        <p:spPr>
          <a:xfrm>
            <a:off x="7020000" y="3573360"/>
            <a:ext cx="216000" cy="2232000"/>
          </a:xfrm>
          <a:custGeom>
            <a:avLst/>
            <a:gdLst>
              <a:gd name="textAreaLeft" fmla="*/ 0 w 216000"/>
              <a:gd name="textAreaRight" fmla="*/ 78120 w 21600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7451640" y="4510080"/>
            <a:ext cx="1441440" cy="7920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7596360" y="458136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四种种子"/>
          <p:cNvPicPr/>
          <p:nvPr/>
        </p:nvPicPr>
        <p:blipFill>
          <a:blip r:embed="rId1"/>
          <a:stretch/>
        </p:blipFill>
        <p:spPr>
          <a:xfrm>
            <a:off x="714240" y="500040"/>
            <a:ext cx="7500960" cy="50007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0" y="571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蚕豆     白芸豆      黄豆     豇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0" y="564516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说出以上种子的各部分名称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芽的蚕豆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252360" y="1214280"/>
            <a:ext cx="2500200" cy="2106720"/>
          </a:xfrm>
          <a:prstGeom prst="rect">
            <a:avLst/>
          </a:prstGeom>
          <a:ln w="0">
            <a:noFill/>
          </a:ln>
        </p:spPr>
      </p:pic>
      <p:sp>
        <p:nvSpPr>
          <p:cNvPr id="112" name="矩形 9"/>
          <p:cNvSpPr/>
          <p:nvPr/>
        </p:nvSpPr>
        <p:spPr>
          <a:xfrm>
            <a:off x="3071880" y="128592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蚕豆种子放在铺有棉花的盘子里，保持棉花的湿润，持续观察种子的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214200" y="3857760"/>
            <a:ext cx="2541600" cy="2000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3"/>
          <a:stretch/>
        </p:blipFill>
        <p:spPr>
          <a:xfrm>
            <a:off x="3357720" y="3881520"/>
            <a:ext cx="2286000" cy="1976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4"/>
          <a:stretch/>
        </p:blipFill>
        <p:spPr>
          <a:xfrm>
            <a:off x="6215040" y="3857760"/>
            <a:ext cx="23576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7:35Z</dcterms:modified>
  <cp:revision>141</cp:revision>
  <dc:subject/>
  <dc:title>幻灯片 1</dc:title>
</cp:coreProperties>
</file>