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092E-D12F-4F27-BD0B-219D3C6B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CD54-6887-4CCD-B55D-3DDECE2E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D45-2B0D-4349-B044-B65BF55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08E-6762-4B31-A816-E357BC10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EE9-85D3-44E9-81ED-A7C64F4F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ACA-721D-467C-A9A4-C1E740DD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DE3-FF2E-4E44-879D-01ACCB04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C5D-9A12-4742-B34E-4C74E70D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F06-6FF8-4A3C-AB39-6B7F232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89D-4E9D-4C38-8CA3-3C03409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DB0-8CC1-4885-9EDD-440FEA6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11E-059F-4FB8-9641-1CB89B30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E96-FA49-475A-8A6B-7C6315FA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82A-5329-4552-8544-CCA535AD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3E9-A616-4DAB-A9A8-AE030A460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种子散播到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GFDULLMFZER_V)NEO}IEEV"/>
          <p:cNvPicPr/>
          <p:nvPr/>
        </p:nvPicPr>
        <p:blipFill>
          <a:blip r:embed="rId1"/>
          <a:stretch/>
        </p:blipFill>
        <p:spPr>
          <a:xfrm>
            <a:off x="4838760" y="981000"/>
            <a:ext cx="430524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5MEM$CM$J1]DE)})ORV)71"/>
          <p:cNvPicPr/>
          <p:nvPr/>
        </p:nvPicPr>
        <p:blipFill>
          <a:blip r:embed="rId2"/>
          <a:stretch/>
        </p:blipFill>
        <p:spPr>
          <a:xfrm>
            <a:off x="0" y="981000"/>
            <a:ext cx="442764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546200" y="566748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067280" y="56674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槭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WM8NNW@~454OS2OG@@01TN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Q4LULDVI@8}2F$]CQLL3(ZC"/>
          <p:cNvPicPr/>
          <p:nvPr/>
        </p:nvPicPr>
        <p:blipFill>
          <a:blip r:embed="rId2"/>
          <a:stretch/>
        </p:blipFill>
        <p:spPr>
          <a:xfrm>
            <a:off x="0" y="1341360"/>
            <a:ext cx="399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8ZZ~~_U_Y5U7)1I{LTP4OWV"/>
          <p:cNvPicPr/>
          <p:nvPr/>
        </p:nvPicPr>
        <p:blipFill>
          <a:blip r:embed="rId1"/>
          <a:stretch/>
        </p:blipFill>
        <p:spPr>
          <a:xfrm>
            <a:off x="5086440" y="907920"/>
            <a:ext cx="4057560" cy="4248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1117440" y="552456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VNN]3W7%93]XJ{8~[S(81XP"/>
          <p:cNvPicPr/>
          <p:nvPr/>
        </p:nvPicPr>
        <p:blipFill>
          <a:blip r:embed="rId2"/>
          <a:stretch/>
        </p:blipFill>
        <p:spPr>
          <a:xfrm>
            <a:off x="0" y="907920"/>
            <a:ext cx="4788000" cy="4154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臭椿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2$HJWS5]8ZDO$000WAZC@XM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38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YT_0Z_YV_@UA1N)LJ6`}NAY"/>
          <p:cNvPicPr/>
          <p:nvPr/>
        </p:nvPicPr>
        <p:blipFill>
          <a:blip r:embed="rId2"/>
          <a:stretch/>
        </p:blipFill>
        <p:spPr>
          <a:xfrm>
            <a:off x="5892840" y="1052640"/>
            <a:ext cx="32511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56000" y="552456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%%(Y6Y0V3$9RMIFHK42H[T5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429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LDLKW7`G%H}LDVLSKM6R83C"/>
          <p:cNvPicPr/>
          <p:nvPr/>
        </p:nvPicPr>
        <p:blipFill>
          <a:blip r:embed="rId2"/>
          <a:stretch/>
        </p:blipFill>
        <p:spPr>
          <a:xfrm>
            <a:off x="5560920" y="907920"/>
            <a:ext cx="358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3`E_0Q}UQ%U]VEMFK3M{UO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URX$QZTS`}LSY1WOADY`}W"/>
          <p:cNvPicPr/>
          <p:nvPr/>
        </p:nvPicPr>
        <p:blipFill>
          <a:blip r:embed="rId2"/>
          <a:stretch/>
        </p:blipFill>
        <p:spPr>
          <a:xfrm>
            <a:off x="0" y="1052640"/>
            <a:ext cx="423720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332000" y="573408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椰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348000" y="5732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V)M]B6K8RHHD81)(I$TR9}F"/>
          <p:cNvPicPr/>
          <p:nvPr/>
        </p:nvPicPr>
        <p:blipFill>
          <a:blip r:embed="rId1"/>
          <a:stretch/>
        </p:blipFill>
        <p:spPr>
          <a:xfrm>
            <a:off x="0" y="981000"/>
            <a:ext cx="5148360" cy="419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XZP4D~Z@A)@}}2(Z5%U}`OW"/>
          <p:cNvPicPr/>
          <p:nvPr/>
        </p:nvPicPr>
        <p:blipFill>
          <a:blip r:embed="rId2"/>
          <a:stretch/>
        </p:blipFill>
        <p:spPr>
          <a:xfrm>
            <a:off x="5262480" y="98100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$ALUX0SA7$5QT})L4~~EHIQ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417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XFEG0~9_}K61QM$6TZXW~XF"/>
          <p:cNvPicPr/>
          <p:nvPr/>
        </p:nvPicPr>
        <p:blipFill>
          <a:blip r:embed="rId2"/>
          <a:stretch/>
        </p:blipFill>
        <p:spPr>
          <a:xfrm>
            <a:off x="4788000" y="981000"/>
            <a:ext cx="4356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08000" y="5445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YAY1JNWJW%LL9Y{~64UIE_3"/>
          <p:cNvPicPr/>
          <p:nvPr/>
        </p:nvPicPr>
        <p:blipFill>
          <a:blip r:embed="rId1"/>
          <a:stretch/>
        </p:blipFill>
        <p:spPr>
          <a:xfrm>
            <a:off x="0" y="1162080"/>
            <a:ext cx="457200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FRRB(MZQO~DT[6$KMW]B_G"/>
          <p:cNvPicPr/>
          <p:nvPr/>
        </p:nvPicPr>
        <p:blipFill>
          <a:blip r:embed="rId2"/>
          <a:stretch/>
        </p:blipFill>
        <p:spPr>
          <a:xfrm>
            <a:off x="4788000" y="1162080"/>
            <a:ext cx="4356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08000" y="5445000"/>
            <a:ext cx="190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熟时能将种子喷出几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9SS[%HY12~[IQ`Y}LO270%N"/>
          <p:cNvPicPr/>
          <p:nvPr/>
        </p:nvPicPr>
        <p:blipFill>
          <a:blip r:embed="rId1"/>
          <a:stretch/>
        </p:blipFill>
        <p:spPr>
          <a:xfrm>
            <a:off x="0" y="907920"/>
            <a:ext cx="5003640" cy="42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{~JO3_[HAL3XR0$32N0V{)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340240" y="907920"/>
            <a:ext cx="3803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种子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播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5400000">
            <a:off x="-122400" y="3335400"/>
            <a:ext cx="2462400" cy="22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rot="5400000">
            <a:off x="6847920" y="4570200"/>
            <a:ext cx="2249280" cy="1839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2050920" y="2133720"/>
            <a:ext cx="3816360" cy="1296720"/>
          </a:xfrm>
          <a:prstGeom prst="cloudCallout">
            <a:avLst>
              <a:gd name="adj1" fmla="val -60731"/>
              <a:gd name="adj2" fmla="val 89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3789360"/>
            <a:ext cx="3527640" cy="936720"/>
          </a:xfrm>
          <a:prstGeom prst="wedgeRoundRectCallout">
            <a:avLst>
              <a:gd name="adj1" fmla="val 48333"/>
              <a:gd name="adj2" fmla="val 81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484360" y="2492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散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51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远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692280"/>
          <a:ext cx="8388360" cy="591660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构造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散播种子的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油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苍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番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蒲公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莲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1268280"/>
          <a:ext cx="6443640" cy="64296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1916280"/>
          <a:ext cx="6443640" cy="57924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249228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实汁多鲜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11280" y="306864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小而轻，有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11280" y="3645000"/>
          <a:ext cx="6443640" cy="58572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8360" y="4221000"/>
          <a:ext cx="5264280" cy="237024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凤仙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鬼针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槭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而轻，有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椰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6019920"/>
          <a:ext cx="3124440" cy="579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221000"/>
          <a:ext cx="3124440" cy="57960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5388120"/>
          <a:ext cx="3124440" cy="633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24360" y="4786200"/>
          <a:ext cx="3124440" cy="58752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50920" y="14331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果实成熟时果皮开裂所产生的弹力传播种子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苍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油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椰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风力传播种子的植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番茄和槭树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和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和槭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03640" y="44427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00000" y="170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2200" y="8110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水力传播种子的植物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特点和种子的传播方式关系密切，以下果实不适合动物传播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味道鲜美，动物喜欢吃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并有翅或绒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75640" y="835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946920" y="2991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2200" y="1216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风力传播的果实和种子，一般较小且轻，有毛或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葡萄的果实味美汁多，它的种子能借助动物传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、臭椿、枫树的果实是翅果，能借助风力传播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10000" y="3322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73720" y="365328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10000" y="19468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S9PIDH3D15O[~EG[GDF3IB0"/>
          <p:cNvPicPr/>
          <p:nvPr/>
        </p:nvPicPr>
        <p:blipFill>
          <a:blip r:embed="rId1"/>
          <a:stretch/>
        </p:blipFill>
        <p:spPr>
          <a:xfrm>
            <a:off x="6012000" y="4819680"/>
            <a:ext cx="259236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601200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枫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8ZZ~~_U_Y5U7)1I{LTP4OWV"/>
          <p:cNvPicPr/>
          <p:nvPr/>
        </p:nvPicPr>
        <p:blipFill>
          <a:blip r:embed="rId2"/>
          <a:stretch/>
        </p:blipFill>
        <p:spPr>
          <a:xfrm>
            <a:off x="684360" y="4932360"/>
            <a:ext cx="2158920" cy="192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YT_0Z_YV_@UA1N)LJ6`}NAY"/>
          <p:cNvPicPr/>
          <p:nvPr/>
        </p:nvPicPr>
        <p:blipFill>
          <a:blip r:embed="rId3"/>
          <a:stretch/>
        </p:blipFill>
        <p:spPr>
          <a:xfrm>
            <a:off x="3419640" y="4869000"/>
            <a:ext cx="1873080" cy="1989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41964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臭椿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6920" y="4941720"/>
            <a:ext cx="187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7"/>
          <p:cNvGrpSpPr/>
          <p:nvPr/>
        </p:nvGrpSpPr>
        <p:grpSpPr>
          <a:xfrm>
            <a:off x="469800" y="2703600"/>
            <a:ext cx="5616360" cy="2874600"/>
            <a:chOff x="469800" y="2703600"/>
            <a:chExt cx="5616360" cy="2874600"/>
          </a:xfrm>
        </p:grpSpPr>
        <p:sp>
          <p:nvSpPr>
            <p:cNvPr id="58" name="Rectangle 2"/>
            <p:cNvSpPr/>
            <p:nvPr/>
          </p:nvSpPr>
          <p:spPr>
            <a:xfrm>
              <a:off x="469800" y="363204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植物种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散播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2630160" y="298440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846160" y="2703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借助外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846160" y="49356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依靠自身力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6"/>
          <p:cNvSpPr/>
          <p:nvPr/>
        </p:nvSpPr>
        <p:spPr>
          <a:xfrm>
            <a:off x="4933800" y="1758960"/>
            <a:ext cx="216000" cy="26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29416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94160" y="271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294160" y="3795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586728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弹射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50920" y="26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种子有哪些散播方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316(E$_XXQ9JY(C7}~UP(ZB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94$1919~HQ$6R6]5JTTK2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Z9TY`Y[{3DGE35XSSP5CRMK"/>
          <p:cNvPicPr/>
          <p:nvPr/>
        </p:nvPicPr>
        <p:blipFill>
          <a:blip r:embed="rId1"/>
          <a:stretch/>
        </p:blipFill>
        <p:spPr>
          <a:xfrm>
            <a:off x="0" y="1209600"/>
            <a:ext cx="4859280" cy="40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L$7DF}_@I90Y5HH216I`[H"/>
          <p:cNvPicPr/>
          <p:nvPr/>
        </p:nvPicPr>
        <p:blipFill>
          <a:blip r:embed="rId2"/>
          <a:stretch/>
        </p:blipFill>
        <p:spPr>
          <a:xfrm>
            <a:off x="5184720" y="1197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76360" y="573408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枇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7WVDX~H8CJ$3T}R]I~%GD]X"/>
          <p:cNvPicPr/>
          <p:nvPr/>
        </p:nvPicPr>
        <p:blipFill>
          <a:blip r:embed="rId1"/>
          <a:stretch/>
        </p:blipFill>
        <p:spPr>
          <a:xfrm>
            <a:off x="0" y="1220760"/>
            <a:ext cx="4572000" cy="386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4_2`_QS%B{7`~ZW{7WM_9M4"/>
          <p:cNvPicPr/>
          <p:nvPr/>
        </p:nvPicPr>
        <p:blipFill>
          <a:blip r:embed="rId2"/>
          <a:stretch/>
        </p:blipFill>
        <p:spPr>
          <a:xfrm>
            <a:off x="4819680" y="1220760"/>
            <a:ext cx="4324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316(E$_XXQ9JY(C7}~UP(ZB"/>
          <p:cNvPicPr/>
          <p:nvPr/>
        </p:nvPicPr>
        <p:blipFill>
          <a:blip r:embed="rId1"/>
          <a:stretch/>
        </p:blipFill>
        <p:spPr>
          <a:xfrm>
            <a:off x="179280" y="836640"/>
            <a:ext cx="2737080" cy="230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94$1919~HQ$6R6]5JTTK29"/>
          <p:cNvPicPr/>
          <p:nvPr/>
        </p:nvPicPr>
        <p:blipFill>
          <a:blip r:embed="rId2"/>
          <a:stretch/>
        </p:blipFill>
        <p:spPr>
          <a:xfrm>
            <a:off x="3132000" y="836640"/>
            <a:ext cx="2806920" cy="232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9TY`Y[{3DGE35XSSP5CRMK"/>
          <p:cNvPicPr/>
          <p:nvPr/>
        </p:nvPicPr>
        <p:blipFill>
          <a:blip r:embed="rId3"/>
          <a:stretch/>
        </p:blipFill>
        <p:spPr>
          <a:xfrm>
            <a:off x="6156360" y="836640"/>
            <a:ext cx="2808360" cy="23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4L$7DF}_@I90Y5HH216I`[H"/>
          <p:cNvPicPr/>
          <p:nvPr/>
        </p:nvPicPr>
        <p:blipFill>
          <a:blip r:embed="rId4"/>
          <a:stretch/>
        </p:blipFill>
        <p:spPr>
          <a:xfrm>
            <a:off x="217440" y="404964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7WVDX~H8CJ$3T}R]I~%GD]X"/>
          <p:cNvPicPr/>
          <p:nvPr/>
        </p:nvPicPr>
        <p:blipFill>
          <a:blip r:embed="rId5"/>
          <a:stretch/>
        </p:blipFill>
        <p:spPr>
          <a:xfrm>
            <a:off x="3062160" y="4049640"/>
            <a:ext cx="2951280" cy="26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4_2`_QS%B{7`~ZW{7WM_9M4"/>
          <p:cNvPicPr/>
          <p:nvPr/>
        </p:nvPicPr>
        <p:blipFill>
          <a:blip r:embed="rId6"/>
          <a:stretch/>
        </p:blipFill>
        <p:spPr>
          <a:xfrm>
            <a:off x="6156360" y="4049640"/>
            <a:ext cx="2808360" cy="26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有什么共同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859280" y="3284640"/>
            <a:ext cx="42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怎样散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ARTBWNTCO{S6JAD4$A3}FDO"/>
          <p:cNvPicPr/>
          <p:nvPr/>
        </p:nvPicPr>
        <p:blipFill>
          <a:blip r:embed="rId1"/>
          <a:stretch/>
        </p:blipFill>
        <p:spPr>
          <a:xfrm>
            <a:off x="4859280" y="1268280"/>
            <a:ext cx="4284720" cy="3837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LZDJ}LWIG)$FFWQ`E(KS_X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381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2484360" y="4437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859280" y="4437000"/>
            <a:ext cx="144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5543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利用动物传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6V_XL5CUZ_A]%Q4QWW$M1B5"/>
          <p:cNvPicPr/>
          <p:nvPr/>
        </p:nvPicPr>
        <p:blipFill>
          <a:blip r:embed="rId1"/>
          <a:stretch/>
        </p:blipFill>
        <p:spPr>
          <a:xfrm>
            <a:off x="0" y="1281240"/>
            <a:ext cx="4427640" cy="387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5445000"/>
            <a:ext cx="2232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蒺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í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)05TPV3XVU[V4LYTM%G8FSG"/>
          <p:cNvPicPr/>
          <p:nvPr/>
        </p:nvPicPr>
        <p:blipFill>
          <a:blip r:embed="rId2"/>
          <a:stretch/>
        </p:blipFill>
        <p:spPr>
          <a:xfrm>
            <a:off x="4643280" y="1281240"/>
            <a:ext cx="4500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22Z</dcterms:modified>
  <cp:revision>135</cp:revision>
  <dc:subject/>
  <dc:title>幻灯片 1</dc:title>
</cp:coreProperties>
</file>