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8DC-7A19-45F5-85FF-3A933D20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D69-8795-4ED1-9D50-282C8457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16C-86C9-4798-940F-E280C801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5BC-3AD2-46D3-97E1-D50A4695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164-7151-48D4-A939-7953201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BF1-EFCE-4765-BA36-6B4A264D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E22-557D-4866-AA23-EC751F8B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186-FF92-47E2-9D2F-302B8729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3E8-2B1D-42C6-9B8C-FD0A7055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165-6F0B-4D2D-B3CA-1B78AB0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17C-E263-4D49-9132-D6D9BB31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405-C631-4EA0-8850-5E5823F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1FF9-D469-4D2A-B9A0-212D259B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鸡2"/>
          <p:cNvPicPr/>
          <p:nvPr/>
        </p:nvPicPr>
        <p:blipFill>
          <a:blip r:embed="rId1"/>
          <a:stretch/>
        </p:blipFill>
        <p:spPr>
          <a:xfrm>
            <a:off x="714240" y="9288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鸡3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HTBI@~J5LENY)$74@(HNBYM.jpg"/>
          <p:cNvPicPr/>
          <p:nvPr/>
        </p:nvPicPr>
        <p:blipFill>
          <a:blip r:embed="rId1"/>
          <a:stretch/>
        </p:blipFill>
        <p:spPr>
          <a:xfrm>
            <a:off x="785880" y="1000080"/>
            <a:ext cx="7605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ESJS9`[`%ZW)$M[)CUDO26Y.jpg"/>
          <p:cNvPicPr/>
          <p:nvPr/>
        </p:nvPicPr>
        <p:blipFill>
          <a:blip r:embed="rId1"/>
          <a:stretch/>
        </p:blipFill>
        <p:spPr>
          <a:xfrm>
            <a:off x="642960" y="1000080"/>
            <a:ext cx="77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鸡8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C:\Users\Administrator\AppData\Roaming\Tencent\Users\173692760\QQ\WinTemp\RichOle\7JF}%TZCBQ{3]T($DM9WM6H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鸡蛋12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:\Users\Administrator\AppData\Roaming\Tencent\Users\173692760\QQ\WinTemp\RichOle\`PKVK)HQX64SMJ[3OQ767GN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67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鸡蛋14"/>
          <p:cNvPicPr/>
          <p:nvPr/>
        </p:nvPicPr>
        <p:blipFill>
          <a:blip r:embed="rId1"/>
          <a:stretch/>
        </p:blipFill>
        <p:spPr>
          <a:xfrm>
            <a:off x="785880" y="928800"/>
            <a:ext cx="757224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6X0RKLUT_H(CR({KCJ4K@CU.jpg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Administrator\AppData\Roaming\Tencent\Users\173692760\QQ\WinTemp\RichOle\B(ZS{VJPLG_[$XV}9X44[_X.jpg"/>
          <p:cNvPicPr/>
          <p:nvPr/>
        </p:nvPicPr>
        <p:blipFill>
          <a:blip r:embed="rId1"/>
          <a:stretch/>
        </p:blipFill>
        <p:spPr>
          <a:xfrm>
            <a:off x="5000760" y="857160"/>
            <a:ext cx="34812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dministrator\AppData\Roaming\Tencent\Users\173692760\QQ\WinTemp\RichOle\{_B4$H_PNK58QY4`W7A9QPI.jpg"/>
          <p:cNvPicPr/>
          <p:nvPr/>
        </p:nvPicPr>
        <p:blipFill>
          <a:blip r:embed="rId2"/>
          <a:stretch/>
        </p:blipFill>
        <p:spPr>
          <a:xfrm>
            <a:off x="714240" y="857160"/>
            <a:ext cx="3429000" cy="27972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3071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蝴蝶卵                       青蛙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Administrator\Desktop\11.jpg"/>
          <p:cNvPicPr/>
          <p:nvPr/>
        </p:nvPicPr>
        <p:blipFill>
          <a:blip r:embed="rId3"/>
          <a:stretch/>
        </p:blipFill>
        <p:spPr>
          <a:xfrm>
            <a:off x="714240" y="392904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00760" y="39290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0" y="592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蟾蜍卵                         鱼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1.jpg"/>
          <p:cNvPicPr/>
          <p:nvPr/>
        </p:nvPicPr>
        <p:blipFill>
          <a:blip r:embed="rId1"/>
          <a:stretch/>
        </p:blipFill>
        <p:spPr>
          <a:xfrm>
            <a:off x="714240" y="1000080"/>
            <a:ext cx="7715520" cy="552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1280" y="230040"/>
            <a:ext cx="88934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青蛙、鸡这样，靠（      ）繁殖后代的方式叫做（         ）。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的受精卵能在（    ）天左右孵化出（            ）。受精的鸡蛋大约需要（      ）星期，才能孵化出小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动物是卵生动物的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序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蝴蝶  ②大象  ③鸡     ④蛇      ⑤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鲫鱼  ⑦乌龟  ⑧蜗牛  ⑨鸽子  ⑩老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4720" y="2275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24000" y="134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76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43640" y="278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285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蝌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859280" y="18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84360" y="494136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③、⑤、⑥、⑦、⑧、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7148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线形标注 1 9"/>
          <p:cNvSpPr/>
          <p:nvPr/>
        </p:nvSpPr>
        <p:spPr>
          <a:xfrm>
            <a:off x="785880" y="1571760"/>
            <a:ext cx="1214280" cy="785520"/>
          </a:xfrm>
          <a:prstGeom prst="borderCallout1">
            <a:avLst>
              <a:gd name="adj1" fmla="val 18750"/>
              <a:gd name="adj2" fmla="val -8333"/>
              <a:gd name="adj3" fmla="val 191324"/>
              <a:gd name="adj4" fmla="val 2128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0"/>
          <p:cNvSpPr/>
          <p:nvPr/>
        </p:nvSpPr>
        <p:spPr>
          <a:xfrm>
            <a:off x="1500120" y="4500720"/>
            <a:ext cx="1214640" cy="785520"/>
          </a:xfrm>
          <a:prstGeom prst="borderCallout1">
            <a:avLst>
              <a:gd name="adj1" fmla="val 18750"/>
              <a:gd name="adj2" fmla="val -8333"/>
              <a:gd name="adj3" fmla="val -92074"/>
              <a:gd name="adj4" fmla="val 2286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线形标注 1 11"/>
          <p:cNvSpPr/>
          <p:nvPr/>
        </p:nvSpPr>
        <p:spPr>
          <a:xfrm>
            <a:off x="300024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21356"/>
              <a:gd name="adj4" fmla="val 133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鸥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线形标注 1 12"/>
          <p:cNvSpPr/>
          <p:nvPr/>
        </p:nvSpPr>
        <p:spPr>
          <a:xfrm>
            <a:off x="342900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84564"/>
              <a:gd name="adj4" fmla="val 975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翡翠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线形标注 1 13"/>
          <p:cNvSpPr/>
          <p:nvPr/>
        </p:nvSpPr>
        <p:spPr>
          <a:xfrm>
            <a:off x="592920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58893"/>
              <a:gd name="adj4" fmla="val -37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鹌鹑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线形标注 1 14"/>
          <p:cNvSpPr/>
          <p:nvPr/>
        </p:nvSpPr>
        <p:spPr>
          <a:xfrm>
            <a:off x="650088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58291"/>
              <a:gd name="adj4" fmla="val -5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戴菊莺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istrator\AppData\Roaming\Tencent\Users\173692760\QQ\WinTemp\RichOle\PD)M@XBB]58INDA1R%IVGCU.jpg"/>
          <p:cNvPicPr/>
          <p:nvPr/>
        </p:nvPicPr>
        <p:blipFill>
          <a:blip r:embed="rId1"/>
          <a:stretch/>
        </p:blipFill>
        <p:spPr>
          <a:xfrm>
            <a:off x="154080" y="1000080"/>
            <a:ext cx="377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143240" y="92880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大鸵鸟蛋与鸡蛋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Administrator\AppData\Roaming\Tencent\Users\173692760\QQ\WinTemp\RichOle\)0IT7@HY}KT7)AZWW%UQZW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40160" cy="2714760"/>
          </a:xfrm>
          <a:prstGeom prst="rect">
            <a:avLst/>
          </a:prstGeom>
          <a:ln w="0">
            <a:noFill/>
          </a:ln>
        </p:spPr>
      </p:pic>
      <p:sp>
        <p:nvSpPr>
          <p:cNvPr id="62" name="矩形 8"/>
          <p:cNvSpPr/>
          <p:nvPr/>
        </p:nvSpPr>
        <p:spPr>
          <a:xfrm>
            <a:off x="357120" y="6072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572080" y="4572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瓢虫的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286160" y="55720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什么发现或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214200" y="85716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形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壳上有小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内部有些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C:\Users\Administrator\AppData\Roaming\Tencent\Users\173692760\QQ\WinTemp\RichOle\LJFWA6J$TRC}KH7`YU)ZJO1.jpg"/>
          <p:cNvPicPr/>
          <p:nvPr/>
        </p:nvPicPr>
        <p:blipFill>
          <a:blip r:embed="rId1"/>
          <a:stretch/>
        </p:blipFill>
        <p:spPr>
          <a:xfrm>
            <a:off x="5286240" y="3368520"/>
            <a:ext cx="3857760" cy="348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C:\Users\Administrator\AppData\Roaming\Tencent\Users\173692760\QQ\WinTemp\RichOle\3@6CYLYGIH(WDS_H_$C[8)N.jpg"/>
          <p:cNvPicPr/>
          <p:nvPr/>
        </p:nvPicPr>
        <p:blipFill>
          <a:blip r:embed="rId2"/>
          <a:stretch/>
        </p:blipFill>
        <p:spPr>
          <a:xfrm>
            <a:off x="5715000" y="785880"/>
            <a:ext cx="3105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C:\Users\Administrator\AppData\Roaming\Tencent\Users\173692760\QQ\WinTemp\RichOle\YFFARO0BJLWD`7JO3$DVJG8.jpg"/>
          <p:cNvPicPr/>
          <p:nvPr/>
        </p:nvPicPr>
        <p:blipFill>
          <a:blip r:embed="rId3"/>
          <a:stretch/>
        </p:blipFill>
        <p:spPr>
          <a:xfrm>
            <a:off x="1000080" y="3500280"/>
            <a:ext cx="2978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98560" y="2205000"/>
            <a:ext cx="6985080" cy="302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059280" y="206064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056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356000" y="4653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27640" y="46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57992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112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87640" y="4724280"/>
            <a:ext cx="122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3640" y="4724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000" y="206064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87564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80360" y="4437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7451640" y="4437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527280" y="3571920"/>
            <a:ext cx="5616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，提供养料和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储藏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吸进行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育成小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871640" y="3571920"/>
            <a:ext cx="2376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各部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卵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dministrator\AppData\Roaming\Tencent\Users\173692760\QQ\WinTemp\RichOle\7%YO1]OP)_VL9ULX(9J6${J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31776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0" y="857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一些青蛙卵养在水族箱里，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Administrator\AppData\Roaming\Tencent\Users\173692760\QQ\WinTemp\RichOle\B(ZS{VJPLG_[$XV}9X44[_X.jpg"/>
          <p:cNvPicPr/>
          <p:nvPr/>
        </p:nvPicPr>
        <p:blipFill>
          <a:blip r:embed="rId2"/>
          <a:stretch/>
        </p:blipFill>
        <p:spPr>
          <a:xfrm>
            <a:off x="0" y="5008680"/>
            <a:ext cx="214308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Administrator\AppData\Roaming\Tencent\Users\173692760\QQ\WinTemp\RichOle\3OQ%`TC{3D[}HKUX9]%TU33.jpg"/>
          <p:cNvPicPr/>
          <p:nvPr/>
        </p:nvPicPr>
        <p:blipFill>
          <a:blip r:embed="rId3"/>
          <a:stretch/>
        </p:blipFill>
        <p:spPr>
          <a:xfrm>
            <a:off x="2214720" y="5000760"/>
            <a:ext cx="2357280" cy="172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Administrator\AppData\Roaming\Tencent\Users\173692760\QQ\WinTemp\RichOle\%OO))8]$HDSANG_MSY$NBKA.jpg"/>
          <p:cNvPicPr/>
          <p:nvPr/>
        </p:nvPicPr>
        <p:blipFill>
          <a:blip r:embed="rId4"/>
          <a:stretch/>
        </p:blipFill>
        <p:spPr>
          <a:xfrm>
            <a:off x="6929280" y="5010120"/>
            <a:ext cx="2214720" cy="17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Administrator\AppData\Roaming\Tencent\Users\173692760\QQ\WinTemp\RichOle\[W@F(RY@HDFTP%@R6~E_B{Q.jpg"/>
          <p:cNvPicPr/>
          <p:nvPr/>
        </p:nvPicPr>
        <p:blipFill>
          <a:blip r:embed="rId5"/>
          <a:stretch/>
        </p:blipFill>
        <p:spPr>
          <a:xfrm>
            <a:off x="4643280" y="5008680"/>
            <a:ext cx="2214720" cy="1714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4"/>
          <p:cNvSpPr/>
          <p:nvPr/>
        </p:nvSpPr>
        <p:spPr>
          <a:xfrm>
            <a:off x="2286000" y="2571840"/>
            <a:ext cx="6286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卵能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的时间里孵化出小蝌蚪。小蝌蚪大约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星期左右长成一只小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鸡1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49Z</dcterms:modified>
  <cp:revision>138</cp:revision>
  <dc:subject/>
  <dc:title>幻灯片 1</dc:title>
</cp:coreProperties>
</file>