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876-4F73-41E0-8E7B-D8BDB5A9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777-C1DC-474B-9FF5-6B1C1EC3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BA9-399D-474E-93FE-D3E1D09D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A9A-EDD2-4661-9C1B-2030E10B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9F1-E268-4492-87C0-C9F9E8A2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3112-23D9-4DDC-9189-59119FF5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50D-CCEF-4D1A-ABA0-BCFADE86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648-D3A6-429E-A52F-8552F247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49B-454C-4321-82C4-9F5533C3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FC5-F827-49E1-A649-426CC5C7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C45-FDE0-451B-9F0F-CAE0DA7B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B1AD-3DA9-4A6A-8285-9281AA5A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4197-6F33-4BE5-85FE-AF590548C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动物的繁殖活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500040" y="4287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胎生动物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500040" y="15717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胎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哺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身体表面有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Administrator\AppData\Roaming\Tencent\Users\173692760\QQ\WinTemp\RichOle\~T0W_X~}2UY4FK@W9G%{M@D.jpg"/>
          <p:cNvPicPr/>
          <p:nvPr/>
        </p:nvPicPr>
        <p:blipFill>
          <a:blip r:embed="rId1"/>
          <a:stretch/>
        </p:blipFill>
        <p:spPr>
          <a:xfrm>
            <a:off x="4643280" y="2500200"/>
            <a:ext cx="4286520" cy="404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Administrator\AppData\Roaming\Tencent\Users\173692760\QQ\WinTemp\RichOle\5$4Y99@7GL}5GG9HRAKOA`G.jpg"/>
          <p:cNvPicPr/>
          <p:nvPr/>
        </p:nvPicPr>
        <p:blipFill>
          <a:blip r:embed="rId2"/>
          <a:stretch/>
        </p:blipFill>
        <p:spPr>
          <a:xfrm>
            <a:off x="368280" y="2862360"/>
            <a:ext cx="42750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22200" y="209772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胎生动物一般用哺乳的方法喂养小动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受精的胚珠发育后形成了种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蜻蜓点水”实质上是雌蜻蜓在往水中产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86400" y="3095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986400" y="1439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986400" y="4176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ages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2031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2916360" cy="198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big"/>
          <p:cNvPicPr/>
          <p:nvPr/>
        </p:nvPicPr>
        <p:blipFill>
          <a:blip r:embed="rId3"/>
          <a:stretch/>
        </p:blipFill>
        <p:spPr>
          <a:xfrm>
            <a:off x="0" y="4664160"/>
            <a:ext cx="2987640" cy="2193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gweaver"/>
          <p:cNvPicPr/>
          <p:nvPr/>
        </p:nvPicPr>
        <p:blipFill>
          <a:blip r:embed="rId4"/>
          <a:stretch/>
        </p:blipFill>
        <p:spPr>
          <a:xfrm>
            <a:off x="3132000" y="4681440"/>
            <a:ext cx="2952720" cy="2176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1119147797_huanghouwu1"/>
          <p:cNvPicPr/>
          <p:nvPr/>
        </p:nvPicPr>
        <p:blipFill>
          <a:blip r:embed="rId5"/>
          <a:stretch/>
        </p:blipFill>
        <p:spPr>
          <a:xfrm>
            <a:off x="6227640" y="4672080"/>
            <a:ext cx="29163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1BPP5(DCP{YWNT]YE(I)BO2"/>
          <p:cNvPicPr/>
          <p:nvPr/>
        </p:nvPicPr>
        <p:blipFill>
          <a:blip r:embed="rId6"/>
          <a:stretch/>
        </p:blipFill>
        <p:spPr>
          <a:xfrm>
            <a:off x="3059280" y="0"/>
            <a:ext cx="3025440" cy="1994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2"/>
          <p:cNvSpPr/>
          <p:nvPr/>
        </p:nvSpPr>
        <p:spPr>
          <a:xfrm>
            <a:off x="0" y="306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偶 →交配 →筑巢 →产卵 →孵卵 →育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900000" y="2060280"/>
            <a:ext cx="6767640" cy="10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H="1" flipV="1">
            <a:off x="1402920" y="1989000"/>
            <a:ext cx="79236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 flipH="1" flipV="1">
            <a:off x="3780000" y="3573000"/>
            <a:ext cx="863280" cy="1079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 flipV="1">
            <a:off x="1547640" y="3500280"/>
            <a:ext cx="352908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 flipV="1">
            <a:off x="6659640" y="3500280"/>
            <a:ext cx="100800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H="1" flipV="1">
            <a:off x="4500720" y="1988640"/>
            <a:ext cx="374328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Administrator\AppData\Roaming\Tencent\Users\173692760\QQ\WinTemp\RichOle\$32MGVU}2YH`ZJ$X{ZWDXQQ.jpg"/>
          <p:cNvPicPr/>
          <p:nvPr/>
        </p:nvPicPr>
        <p:blipFill>
          <a:blip r:embed="rId1"/>
          <a:stretch/>
        </p:blipFill>
        <p:spPr>
          <a:xfrm>
            <a:off x="285840" y="0"/>
            <a:ext cx="63370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5"/>
          <p:cNvSpPr/>
          <p:nvPr/>
        </p:nvSpPr>
        <p:spPr>
          <a:xfrm>
            <a:off x="642960" y="614376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214800" y="1571760"/>
            <a:ext cx="1643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428760" y="1571760"/>
            <a:ext cx="857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857160" y="928800"/>
            <a:ext cx="857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7000920" y="51195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是多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0"/>
          <p:cNvSpPr/>
          <p:nvPr/>
        </p:nvSpPr>
        <p:spPr>
          <a:xfrm>
            <a:off x="7072200" y="3116160"/>
            <a:ext cx="18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利是卵生还是胎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1"/>
          <p:cNvSpPr/>
          <p:nvPr/>
        </p:nvSpPr>
        <p:spPr>
          <a:xfrm>
            <a:off x="6897600" y="547560"/>
            <a:ext cx="22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绵羊通常能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左右，而多利只活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Users\Administrator\AppData\Roaming\Tencent\Users\173692760\QQ\WinTemp\RichOle\SQ5~MA2YQIRC`$3)F1B~2R3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71280" y="155520"/>
            <a:ext cx="52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孔雀开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3357720" y="14940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雄？目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:\Users\Administrator\AppData\Roaming\Tencent\Users\173692760\QQ\WinTemp\RichOle\CPKR%I@SEU3Z3{C`]Y[8AX1.jpg"/>
          <p:cNvPicPr/>
          <p:nvPr/>
        </p:nvPicPr>
        <p:blipFill>
          <a:blip r:embed="rId1"/>
          <a:stretch/>
        </p:blipFill>
        <p:spPr>
          <a:xfrm>
            <a:off x="0" y="0"/>
            <a:ext cx="4714920" cy="3786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Administrator\AppData\Roaming\Tencent\Users\173692760\QQ\WinTemp\RichOle\T{R47%`%[F3%4`}$}OJ3%I8.jpg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3786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Administrator\AppData\Roaming\Tencent\Users\173692760\QQ\WinTemp\RichOle\]72XI%D8C04L1~K]$4~%%Q1.jpg"/>
          <p:cNvPicPr/>
          <p:nvPr/>
        </p:nvPicPr>
        <p:blipFill>
          <a:blip r:embed="rId3"/>
          <a:stretch/>
        </p:blipFill>
        <p:spPr>
          <a:xfrm>
            <a:off x="5143680" y="3857760"/>
            <a:ext cx="4000320" cy="3000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0" y="4286160"/>
            <a:ext cx="52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取蛙声一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57120" y="5429160"/>
            <a:ext cx="44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雄？目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:\Users\Administrator\AppData\Roaming\Tencent\Users\173692760\QQ\WinTemp\RichOle\)3YDSAGJYRZUJ3]%A0U58EO.jpg"/>
          <p:cNvPicPr/>
          <p:nvPr/>
        </p:nvPicPr>
        <p:blipFill>
          <a:blip r:embed="rId1"/>
          <a:stretch/>
        </p:blipFill>
        <p:spPr>
          <a:xfrm>
            <a:off x="0" y="0"/>
            <a:ext cx="469584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Administrator\AppData\Roaming\Tencent\Users\173692760\QQ\WinTemp\RichOle\OJL54P2~)MFPWY7E8)CA{UJ.jpg"/>
          <p:cNvPicPr/>
          <p:nvPr/>
        </p:nvPicPr>
        <p:blipFill>
          <a:blip r:embed="rId2"/>
          <a:stretch/>
        </p:blipFill>
        <p:spPr>
          <a:xfrm>
            <a:off x="4762440" y="0"/>
            <a:ext cx="4381560" cy="357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Administrator\AppData\Roaming\Tencent\Users\173692760\QQ\WinTemp\RichOle\DXECYJ~5QXJPN6({_Q{`0VP.jpg"/>
          <p:cNvPicPr/>
          <p:nvPr/>
        </p:nvPicPr>
        <p:blipFill>
          <a:blip r:embed="rId3"/>
          <a:stretch/>
        </p:blipFill>
        <p:spPr>
          <a:xfrm>
            <a:off x="0" y="3684600"/>
            <a:ext cx="4714920" cy="3173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4929120" y="42861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只蜻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286240" y="550080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做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Users\Administrator\AppData\Roaming\Tencent\Users\173692760\QQ\WinTemp\RichOle\S6%L5{ZUCK}K}]T[P@V4}]9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370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Administrator\AppData\Roaming\Tencent\Users\173692760\QQ\WinTemp\RichOle\{}Y6GRGMT9_G6B`AF@IK)HM.jpg"/>
          <p:cNvPicPr/>
          <p:nvPr/>
        </p:nvPicPr>
        <p:blipFill>
          <a:blip r:embed="rId2"/>
          <a:stretch/>
        </p:blipFill>
        <p:spPr>
          <a:xfrm>
            <a:off x="0" y="0"/>
            <a:ext cx="4286160" cy="3687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Administrator\AppData\Roaming\Tencent\Users\173692760\QQ\WinTemp\RichOle\FS[Z5[]6FPH2CB6HW(`JIYE.jpg"/>
          <p:cNvPicPr/>
          <p:nvPr/>
        </p:nvPicPr>
        <p:blipFill>
          <a:blip r:embed="rId3"/>
          <a:stretch/>
        </p:blipFill>
        <p:spPr>
          <a:xfrm>
            <a:off x="4500720" y="3865680"/>
            <a:ext cx="4643280" cy="2992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0" y="435780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只蜗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0" y="550080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做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61800" y="438120"/>
            <a:ext cx="84963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猫、狗、兔等这样繁殖后代的方式叫做（         ），用这种方式繁殖后代的动物叫（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鱼、鸡那样通过产卵或下蛋方式繁殖方式叫（          ），通过卵生繁殖的动物称为（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性动物产的（         ）只有在和雄性动物产的（           ）结合形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受精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，才能发育成新的生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2881440" y="52880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精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316400" y="47149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1946160" y="157320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1441440" y="1001880"/>
            <a:ext cx="18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2395440" y="315288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1825560" y="378288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(Z4ZY]]0QHOV]IPYA4%$XVQ"/>
          <p:cNvPicPr/>
          <p:nvPr/>
        </p:nvPicPr>
        <p:blipFill>
          <a:blip r:embed="rId1"/>
          <a:stretch/>
        </p:blipFill>
        <p:spPr>
          <a:xfrm>
            <a:off x="1857240" y="571680"/>
            <a:ext cx="5214960" cy="452880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1928880" y="564372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种动物的繁殖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4"/>
          <p:cNvSpPr/>
          <p:nvPr/>
        </p:nvSpPr>
        <p:spPr>
          <a:xfrm>
            <a:off x="358920" y="478296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358920" y="2359080"/>
            <a:ext cx="26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2143080" y="28584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蜗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857760" y="28584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715160" y="11430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214200" y="28584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蜻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5855760" y="285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鸭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1"/>
          <p:cNvSpPr/>
          <p:nvPr/>
        </p:nvSpPr>
        <p:spPr>
          <a:xfrm>
            <a:off x="7215120" y="285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织布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14200" y="11430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企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1785960" y="114300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黑长尾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4429080" y="114300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6072120" y="114948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袋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Administrator\AppData\Roaming\Tencent\Users\173692760\QQ\WinTemp\RichOle\~R1(90N3XP2@CL5(WIXYVOX.jpg"/>
          <p:cNvPicPr/>
          <p:nvPr/>
        </p:nvPicPr>
        <p:blipFill>
          <a:blip r:embed="rId1"/>
          <a:stretch/>
        </p:blipFill>
        <p:spPr>
          <a:xfrm>
            <a:off x="2571840" y="4071960"/>
            <a:ext cx="1512720" cy="11858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3"/>
          <p:cNvSpPr/>
          <p:nvPr/>
        </p:nvSpPr>
        <p:spPr>
          <a:xfrm>
            <a:off x="71280" y="142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8" descr="1.jpg"/>
          <p:cNvPicPr/>
          <p:nvPr/>
        </p:nvPicPr>
        <p:blipFill>
          <a:blip r:embed="rId2"/>
          <a:stretch/>
        </p:blipFill>
        <p:spPr>
          <a:xfrm>
            <a:off x="4357800" y="4071960"/>
            <a:ext cx="1447560" cy="12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Administrator\AppData\Roaming\Tencent\Users\173692760\QQ\WinTemp\RichOle\7EJE[MI6)~%Q2W][TTCLY`A.jpg"/>
          <p:cNvPicPr/>
          <p:nvPr/>
        </p:nvPicPr>
        <p:blipFill>
          <a:blip r:embed="rId3"/>
          <a:stretch/>
        </p:blipFill>
        <p:spPr>
          <a:xfrm>
            <a:off x="5929200" y="4071960"/>
            <a:ext cx="1500480" cy="119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Users\Administrator\AppData\Roaming\Tencent\Users\173692760\QQ\WinTemp\RichOle\CW}352U%E`[M4$V~}C@7V[R.jpg"/>
          <p:cNvPicPr/>
          <p:nvPr/>
        </p:nvPicPr>
        <p:blipFill>
          <a:blip r:embed="rId4"/>
          <a:stretch/>
        </p:blipFill>
        <p:spPr>
          <a:xfrm>
            <a:off x="2571840" y="5457960"/>
            <a:ext cx="1500120" cy="118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C:\Users\Administrator\AppData\Roaming\Tencent\Users\173692760\QQ\WinTemp\RichOle\_N53VW3_WLPMZS249QURYZK.jpg"/>
          <p:cNvPicPr/>
          <p:nvPr/>
        </p:nvPicPr>
        <p:blipFill>
          <a:blip r:embed="rId5"/>
          <a:stretch/>
        </p:blipFill>
        <p:spPr>
          <a:xfrm>
            <a:off x="4357800" y="5429160"/>
            <a:ext cx="1284120" cy="121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:\Users\Administrator\AppData\Roaming\Tencent\Users\173692760\QQ\WinTemp\RichOle\XW%KBWQ2)}CBD@01~Z%{IF4.jpg"/>
          <p:cNvPicPr/>
          <p:nvPr/>
        </p:nvPicPr>
        <p:blipFill>
          <a:blip r:embed="rId6"/>
          <a:stretch/>
        </p:blipFill>
        <p:spPr>
          <a:xfrm>
            <a:off x="5857920" y="5410080"/>
            <a:ext cx="1571760" cy="123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Administrator\AppData\Roaming\Tencent\Users\173692760\QQ\WinTemp\RichOle\(~@GOH%6R~IETOQ7MG@UXZY.jpg"/>
          <p:cNvPicPr/>
          <p:nvPr/>
        </p:nvPicPr>
        <p:blipFill>
          <a:blip r:embed="rId7"/>
          <a:stretch/>
        </p:blipFill>
        <p:spPr>
          <a:xfrm>
            <a:off x="2571840" y="2143080"/>
            <a:ext cx="17938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Administrator\AppData\Roaming\Tencent\Users\173692760\QQ\WinTemp\RichOle\(454CAZB$[)H2S(TL1Q4$AV.jpg"/>
          <p:cNvPicPr/>
          <p:nvPr/>
        </p:nvPicPr>
        <p:blipFill>
          <a:blip r:embed="rId8"/>
          <a:stretch/>
        </p:blipFill>
        <p:spPr>
          <a:xfrm>
            <a:off x="4500720" y="2143080"/>
            <a:ext cx="1942920" cy="140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Users\Administrator\AppData\Roaming\Tencent\Users\173692760\QQ\WinTemp\RichOle\B5@HA6XE%}CV3Y5OK$WTAF5.jpg"/>
          <p:cNvPicPr/>
          <p:nvPr/>
        </p:nvPicPr>
        <p:blipFill>
          <a:blip r:embed="rId9"/>
          <a:stretch/>
        </p:blipFill>
        <p:spPr>
          <a:xfrm>
            <a:off x="6553080" y="2143080"/>
            <a:ext cx="1947960" cy="14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:\Users\Administrator\AppData\Roaming\Tencent\Users\173692760\QQ\WinTemp\RichOle\6N}PPU}Q}%R`V7PDX0U8_6M.jpg"/>
          <p:cNvPicPr/>
          <p:nvPr/>
        </p:nvPicPr>
        <p:blipFill>
          <a:blip r:embed="rId10"/>
          <a:stretch/>
        </p:blipFill>
        <p:spPr>
          <a:xfrm>
            <a:off x="7572240" y="4071960"/>
            <a:ext cx="1274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(Z4ZY]]0QHOV]IPYA4%$XVQ"/>
          <p:cNvPicPr/>
          <p:nvPr/>
        </p:nvPicPr>
        <p:blipFill>
          <a:blip r:embed="rId1"/>
          <a:stretch/>
        </p:blipFill>
        <p:spPr>
          <a:xfrm>
            <a:off x="2143080" y="785880"/>
            <a:ext cx="5214960" cy="452916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2357280" y="564372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狗的诞生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8:03Z</dcterms:modified>
  <cp:revision>124</cp:revision>
  <dc:subject/>
  <dc:title>幻灯片 1</dc:title>
</cp:coreProperties>
</file>