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9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35FD-9BDA-4202-B8B6-6B2F3437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9A8A-C104-4F34-8F74-2514A02C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33F3-4BBB-4A5D-8364-F5D5FA61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7773-BD83-4A6C-AA5D-45C908D1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9AE2-E734-41D9-A1D3-926E9049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396C-6DFA-4042-A098-5AA43303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AE32-908D-4352-BA0E-08399A1D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48A0-D16E-4B71-B073-F0615156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A804-E641-49F5-938B-CD211143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DFDF-2F2E-4415-9B3B-22A1610B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3007-9B42-457F-A30D-6B984B2C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2140-C46A-428D-A811-BF4844AD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16AD-BA50-4094-9402-7DAB3E06B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0" y="486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面包发霉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2"/>
          <p:cNvPicPr/>
          <p:nvPr/>
        </p:nvPicPr>
        <p:blipFill>
          <a:blip r:embed="rId1"/>
          <a:stretch/>
        </p:blipFill>
        <p:spPr>
          <a:xfrm>
            <a:off x="0" y="1285920"/>
            <a:ext cx="4357800" cy="33195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857160" y="4792680"/>
            <a:ext cx="250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干燥环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3"/>
          <p:cNvPicPr/>
          <p:nvPr/>
        </p:nvPicPr>
        <p:blipFill>
          <a:blip r:embed="rId2"/>
          <a:stretch/>
        </p:blipFill>
        <p:spPr>
          <a:xfrm>
            <a:off x="4578480" y="128592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5734080" y="4792680"/>
            <a:ext cx="25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湿润环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观察到的现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0" y="5786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结论：霉菌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湿润环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长得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4"/>
          <p:cNvPicPr/>
          <p:nvPr/>
        </p:nvPicPr>
        <p:blipFill>
          <a:blip r:embed="rId1"/>
          <a:stretch/>
        </p:blipFill>
        <p:spPr>
          <a:xfrm>
            <a:off x="4714920" y="1065240"/>
            <a:ext cx="4429080" cy="32702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1285920" y="457200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低温环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000840" y="457200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温暖环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2"/>
          <p:cNvPicPr/>
          <p:nvPr/>
        </p:nvPicPr>
        <p:blipFill>
          <a:blip r:embed="rId2"/>
          <a:stretch/>
        </p:blipFill>
        <p:spPr>
          <a:xfrm>
            <a:off x="0" y="1065240"/>
            <a:ext cx="4214880" cy="3292560"/>
          </a:xfrm>
          <a:prstGeom prst="rect">
            <a:avLst/>
          </a:prstGeom>
          <a:ln w="0">
            <a:noFill/>
          </a:ln>
        </p:spPr>
      </p:pic>
      <p:sp>
        <p:nvSpPr>
          <p:cNvPr id="99" name="矩形 5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观察到的现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0" y="5786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结论：霉菌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温暖环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长得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5"/>
          <p:cNvSpPr/>
          <p:nvPr/>
        </p:nvSpPr>
        <p:spPr>
          <a:xfrm>
            <a:off x="0" y="21420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堂小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面包发霉是因为在它的上面生长了一种生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），与其他生物一样，它的生长需要获取（          ）和适宜的（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因为霉变过程中产生的（         ）含有对人体有害的物质，所以发霉变质的食物是绝对不能食用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2643120" y="207792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4786200" y="264312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营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9"/>
          <p:cNvSpPr/>
          <p:nvPr/>
        </p:nvSpPr>
        <p:spPr>
          <a:xfrm>
            <a:off x="571680" y="328608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生长环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0"/>
          <p:cNvSpPr/>
          <p:nvPr/>
        </p:nvSpPr>
        <p:spPr>
          <a:xfrm>
            <a:off x="5786280" y="4506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6"/>
          <p:cNvSpPr/>
          <p:nvPr/>
        </p:nvSpPr>
        <p:spPr>
          <a:xfrm>
            <a:off x="0" y="21420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发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块面包（干燥常温）环境上的霉菌比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块面包（潮湿常温）环境上的霉菌长得（       ），说明霉菌的生长速度与（                 ）有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块面包（潮湿低温）环境上的霉菌比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块面包（潮湿较高温）环境上的霉菌长得（       ），说明霉菌的生长速度与（                 ）有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1714680" y="2643120"/>
            <a:ext cx="7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42960" y="3292560"/>
            <a:ext cx="24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水分多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/>
          <p:cNvSpPr/>
          <p:nvPr/>
        </p:nvSpPr>
        <p:spPr>
          <a:xfrm>
            <a:off x="2214720" y="5072040"/>
            <a:ext cx="7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/>
          <p:cNvSpPr/>
          <p:nvPr/>
        </p:nvSpPr>
        <p:spPr>
          <a:xfrm>
            <a:off x="1214280" y="5715000"/>
            <a:ext cx="24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温度高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250920" y="200736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物在保存的过程中也会发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物霉变过程中产生的霉菌含有对人体有害的物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已经发霉的食物，扔掉可惜，洗一洗就可以吃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把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块面包放在干燥、常温的地方，把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块面包放在潮湿、常温的地方，是为了研究水分对霉菌生长速度的影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884160" y="3068280"/>
            <a:ext cx="7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822960" y="19155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50240" y="836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822960" y="4076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45720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研究光会不会影响霉菌的生长，该怎样设计实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85840" y="3429000"/>
            <a:ext cx="84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两块烘干的面包中各滴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滴水，一块放入透明塑料袋中，一块放入黑色塑料袋中，包扎紧后放到阳台上。观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571680" y="228600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比实验，只改变一个条件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阳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:\Users\Administrator\AppData\Roaming\Tencent\Users\173692760\QQ\WinTemp\RichOle\1J2]O_(R8QKP$YQ_PY[9M0Z.jpg"/>
          <p:cNvPicPr/>
          <p:nvPr/>
        </p:nvPicPr>
        <p:blipFill>
          <a:blip r:embed="rId1"/>
          <a:stretch/>
        </p:blipFill>
        <p:spPr>
          <a:xfrm>
            <a:off x="0" y="0"/>
            <a:ext cx="4357800" cy="348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Administrator\AppData\Roaming\Tencent\Users\173692760\QQ\WinTemp\RichOle\J0BG8)2)4@O0{3%B43SUJMR.jpg"/>
          <p:cNvPicPr/>
          <p:nvPr/>
        </p:nvPicPr>
        <p:blipFill>
          <a:blip r:embed="rId2"/>
          <a:stretch/>
        </p:blipFill>
        <p:spPr>
          <a:xfrm>
            <a:off x="4516560" y="0"/>
            <a:ext cx="4627440" cy="350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Administrator\AppData\Roaming\Tencent\Users\173692760\QQ\WinTemp\RichOle\KFANE[]M@`8T8F9XH`D[_34.jpg"/>
          <p:cNvPicPr/>
          <p:nvPr/>
        </p:nvPicPr>
        <p:blipFill>
          <a:blip r:embed="rId3"/>
          <a:stretch/>
        </p:blipFill>
        <p:spPr>
          <a:xfrm>
            <a:off x="0" y="3643200"/>
            <a:ext cx="4357800" cy="321480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5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7" descr="1.jpg"/>
          <p:cNvPicPr/>
          <p:nvPr/>
        </p:nvPicPr>
        <p:blipFill>
          <a:blip r:embed="rId4"/>
          <a:stretch/>
        </p:blipFill>
        <p:spPr>
          <a:xfrm>
            <a:off x="4500720" y="3624120"/>
            <a:ext cx="4643280" cy="3233880"/>
          </a:xfrm>
          <a:prstGeom prst="rect">
            <a:avLst/>
          </a:prstGeom>
          <a:ln w="0">
            <a:noFill/>
          </a:ln>
        </p:spPr>
      </p:pic>
      <p:sp>
        <p:nvSpPr>
          <p:cNvPr id="50" name="矩形 8"/>
          <p:cNvSpPr/>
          <p:nvPr/>
        </p:nvSpPr>
        <p:spPr>
          <a:xfrm>
            <a:off x="0" y="314316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霉的南瓜、甜菜根、土豆、玉米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Administrator\AppData\Roaming\Tencent\Users\173692760\QQ\WinTemp\RichOle\YPCMEG1]JEE}N4P7%NAX(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52" name="矩形 3"/>
          <p:cNvSpPr/>
          <p:nvPr/>
        </p:nvSpPr>
        <p:spPr>
          <a:xfrm>
            <a:off x="0" y="614988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上的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85840" y="2357280"/>
            <a:ext cx="3786120" cy="3692520"/>
          </a:xfrm>
          <a:prstGeom prst="rect">
            <a:avLst/>
          </a:prstGeom>
          <a:ln w="0">
            <a:noFill/>
          </a:ln>
        </p:spPr>
      </p:pic>
      <p:sp>
        <p:nvSpPr>
          <p:cNvPr id="55" name="矩形 4"/>
          <p:cNvSpPr/>
          <p:nvPr/>
        </p:nvSpPr>
        <p:spPr>
          <a:xfrm>
            <a:off x="0" y="107172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肉眼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152960" y="107172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借助放大镜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:\Users\Administrator\AppData\Roaming\Tencent\Users\173692760\QQ\WinTemp\RichOle\W~[_6B76]Q0@CG_CI}{E[NG.jpg"/>
          <p:cNvPicPr/>
          <p:nvPr/>
        </p:nvPicPr>
        <p:blipFill>
          <a:blip r:embed="rId2"/>
          <a:stretch/>
        </p:blipFill>
        <p:spPr>
          <a:xfrm>
            <a:off x="5286240" y="2071800"/>
            <a:ext cx="249084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Users\Administrator\AppData\Roaming\Tencent\Users\173692760\QQ\WinTemp\RichOle\[{@)B7GC[MHZ9@@HZ8(V64S.jpg"/>
          <p:cNvPicPr/>
          <p:nvPr/>
        </p:nvPicPr>
        <p:blipFill>
          <a:blip r:embed="rId3"/>
          <a:stretch/>
        </p:blipFill>
        <p:spPr>
          <a:xfrm>
            <a:off x="4389480" y="2357280"/>
            <a:ext cx="475452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5786280" y="1071720"/>
            <a:ext cx="2710080" cy="2643120"/>
          </a:xfrm>
          <a:prstGeom prst="rect">
            <a:avLst/>
          </a:prstGeom>
          <a:ln w="0">
            <a:noFill/>
          </a:ln>
        </p:spPr>
      </p:pic>
      <p:sp>
        <p:nvSpPr>
          <p:cNvPr id="61" name="矩形 4"/>
          <p:cNvSpPr/>
          <p:nvPr/>
        </p:nvSpPr>
        <p:spPr>
          <a:xfrm>
            <a:off x="0" y="928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显微镜下的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0050713124738727"/>
          <p:cNvPicPr/>
          <p:nvPr/>
        </p:nvPicPr>
        <p:blipFill>
          <a:blip r:embed="rId2"/>
          <a:stretch/>
        </p:blipFill>
        <p:spPr>
          <a:xfrm>
            <a:off x="142920" y="1714680"/>
            <a:ext cx="4786200" cy="4929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6143760" y="4000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孢子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 flipH="1">
            <a:off x="3571560" y="4286160"/>
            <a:ext cx="2500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215040" y="52149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菌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1071720" y="5572080"/>
            <a:ext cx="5000400" cy="7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讨论：面包发霉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哪些因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:\Users\Administrator\AppData\Roaming\Tencent\Users\173692760\QQ\WinTemp\RichOle\EW7IHPARWJWL_AV)491UH6E.jpg"/>
          <p:cNvPicPr/>
          <p:nvPr/>
        </p:nvPicPr>
        <p:blipFill>
          <a:blip r:embed="rId1"/>
          <a:stretch/>
        </p:blipFill>
        <p:spPr>
          <a:xfrm>
            <a:off x="3286080" y="3786120"/>
            <a:ext cx="4408560" cy="242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285840" y="3714840"/>
            <a:ext cx="2709720" cy="2643120"/>
          </a:xfrm>
          <a:prstGeom prst="rect">
            <a:avLst/>
          </a:prstGeom>
          <a:ln w="0">
            <a:noFill/>
          </a:ln>
        </p:spPr>
      </p:pic>
      <p:sp>
        <p:nvSpPr>
          <p:cNvPr id="70" name="云形标注 10"/>
          <p:cNvSpPr/>
          <p:nvPr/>
        </p:nvSpPr>
        <p:spPr>
          <a:xfrm>
            <a:off x="5715000" y="1785960"/>
            <a:ext cx="3214800" cy="1643040"/>
          </a:xfrm>
          <a:prstGeom prst="cloudCallout">
            <a:avLst>
              <a:gd name="adj1" fmla="val -21685"/>
              <a:gd name="adj2" fmla="val 7421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云形标注 11"/>
          <p:cNvSpPr/>
          <p:nvPr/>
        </p:nvSpPr>
        <p:spPr>
          <a:xfrm flipH="1">
            <a:off x="428760" y="1357200"/>
            <a:ext cx="4000320" cy="1724040"/>
          </a:xfrm>
          <a:prstGeom prst="cloudCallout">
            <a:avLst>
              <a:gd name="adj1" fmla="val -42212"/>
              <a:gd name="adj2" fmla="val 987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071720" y="157176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觉得和温度有关系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143760" y="2000160"/>
            <a:ext cx="23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水分也有关系吧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哪块面包上的霉菌生长得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"/>
          <p:cNvPicPr/>
          <p:nvPr/>
        </p:nvPicPr>
        <p:blipFill>
          <a:blip r:embed="rId1"/>
          <a:stretch/>
        </p:blipFill>
        <p:spPr>
          <a:xfrm>
            <a:off x="233280" y="4281480"/>
            <a:ext cx="2455920" cy="2363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2"/>
          <a:stretch/>
        </p:blipFill>
        <p:spPr>
          <a:xfrm>
            <a:off x="2928960" y="4282920"/>
            <a:ext cx="2286000" cy="23623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9"/>
          <p:cNvSpPr/>
          <p:nvPr/>
        </p:nvSpPr>
        <p:spPr>
          <a:xfrm>
            <a:off x="285840" y="928800"/>
            <a:ext cx="870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准备两块烘干的面包，用牙签在每块面包上放一些霉菌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让第一块面包保持干燥，在第二块面包上滴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滴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分别装在两个塑料袋内，用线扎紧袋口放在桌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500800" y="57862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改变条件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水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线形标注 2 7"/>
          <p:cNvSpPr/>
          <p:nvPr/>
        </p:nvSpPr>
        <p:spPr>
          <a:xfrm>
            <a:off x="6786720" y="3571920"/>
            <a:ext cx="1500120" cy="7142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167583"/>
              <a:gd name="adj6" fmla="val -4509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干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线形标注 2 8"/>
          <p:cNvSpPr/>
          <p:nvPr/>
        </p:nvSpPr>
        <p:spPr>
          <a:xfrm>
            <a:off x="6786720" y="4643280"/>
            <a:ext cx="1500120" cy="7146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225388"/>
              <a:gd name="adj6" fmla="val -26531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湿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哪块面包上的霉菌生长得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14200" y="928800"/>
            <a:ext cx="878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准备两块烘干的面包，用牙签在每块面包上放一些霉菌，都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滴水，分别装在两个塑料袋内，用线扎紧袋口放在桌上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让第一块面包放进冷藏室，将第二块面包放在温暖的室温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Administrator\AppData\Roaming\Tencent\Users\173692760\QQ\WinTemp\RichOle\)4L7_20GE9RM1[JQM[AD%N2.jpg"/>
          <p:cNvPicPr/>
          <p:nvPr/>
        </p:nvPicPr>
        <p:blipFill>
          <a:blip r:embed="rId1"/>
          <a:stretch/>
        </p:blipFill>
        <p:spPr>
          <a:xfrm>
            <a:off x="122400" y="4000680"/>
            <a:ext cx="5592600" cy="2714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5500800" y="57862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改变条件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温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线形标注 2 12"/>
          <p:cNvSpPr/>
          <p:nvPr/>
        </p:nvSpPr>
        <p:spPr>
          <a:xfrm>
            <a:off x="6786720" y="3857760"/>
            <a:ext cx="1500120" cy="7142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115972"/>
              <a:gd name="adj6" fmla="val 1013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寒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线形标注 2 13"/>
          <p:cNvSpPr/>
          <p:nvPr/>
        </p:nvSpPr>
        <p:spPr>
          <a:xfrm>
            <a:off x="6786720" y="4857840"/>
            <a:ext cx="1500120" cy="7142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149004"/>
              <a:gd name="adj6" fmla="val -10506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温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6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面包上霉菌的生长情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31800" y="1143000"/>
          <a:ext cx="7797960" cy="5425920"/>
        </p:xfrm>
        <a:graphic>
          <a:graphicData uri="http://schemas.openxmlformats.org/drawingml/2006/table">
            <a:tbl>
              <a:tblPr/>
              <a:tblGrid>
                <a:gridCol w="703440"/>
                <a:gridCol w="1519200"/>
                <a:gridCol w="930240"/>
                <a:gridCol w="928440"/>
                <a:gridCol w="928800"/>
                <a:gridCol w="928800"/>
                <a:gridCol w="928800"/>
                <a:gridCol w="930240"/>
              </a:tblGrid>
              <a:tr h="581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环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条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时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5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6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干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常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潮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常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潮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低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潮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较高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3-05-15T01:54:19Z</dcterms:modified>
  <cp:revision>130</cp:revision>
  <dc:subject/>
  <dc:title>幻灯片 1</dc:title>
</cp:coreProperties>
</file>