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1DC-39D8-4788-BCD2-AFC42106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8E9-8EEE-43F8-B260-C9FD7372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85C-063A-43EC-B34F-BE56BAF8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E4B-E383-4B7C-8E97-E8604231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466-093B-4BEB-8E67-A4EA5C98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607-1764-45D3-A71F-233D39F9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A3E-C351-46D2-BF8F-356B35D1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C65-C4EA-47AA-A49A-A2C1EC50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191-81F1-4FEC-918B-3FD249A2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C89-FC4B-4220-8F85-DFC6BD4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155-E239-45F9-A18A-5E6F3B30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8E9-B154-4A5C-AF81-C8B9750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9CF2-0749-4459-9302-96BFB4F58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减慢食物变质的速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1285920" y="150012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1285920" y="27860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1285920" y="41432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1285920" y="56498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大括号 13"/>
          <p:cNvSpPr/>
          <p:nvPr/>
        </p:nvSpPr>
        <p:spPr>
          <a:xfrm>
            <a:off x="785880" y="1857240"/>
            <a:ext cx="428400" cy="421488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4214880"/>
              <a:gd name="textAreaBottom" fmla="*/ 420372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768"/>
                </a:lnTo>
                <a:cubicBezTo>
                  <a:pt x="10800" y="10860"/>
                  <a:pt x="5400" y="10951"/>
                  <a:pt x="0" y="10951"/>
                </a:cubicBezTo>
                <a:cubicBezTo>
                  <a:pt x="5400" y="10951"/>
                  <a:pt x="10800" y="11043"/>
                  <a:pt x="10800" y="11134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3786120" y="15001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冻虾仁  速冻饺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6"/>
          <p:cNvSpPr/>
          <p:nvPr/>
        </p:nvSpPr>
        <p:spPr>
          <a:xfrm>
            <a:off x="3786120" y="27860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干  笋干  茶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3786120" y="41432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咸鱼  咸肉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8"/>
          <p:cNvSpPr/>
          <p:nvPr/>
        </p:nvSpPr>
        <p:spPr>
          <a:xfrm>
            <a:off x="3786120" y="56437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罐头  薯片  八宝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285840" y="357120"/>
            <a:ext cx="442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同一种食物的变质速度，比如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有许多种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5214960" y="2071800"/>
            <a:ext cx="392904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5149800" y="0"/>
            <a:ext cx="39942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Administrator\AppData\Roaming\Tencent\Users\173692760\QQ\WinTemp\RichOle\Y$8GTEX0UDYF9S}RDM3)F$C.jpg"/>
          <p:cNvPicPr/>
          <p:nvPr/>
        </p:nvPicPr>
        <p:blipFill>
          <a:blip r:embed="rId3"/>
          <a:stretch/>
        </p:blipFill>
        <p:spPr>
          <a:xfrm>
            <a:off x="0" y="3452760"/>
            <a:ext cx="5000760" cy="34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C:\Users\Administrator\AppData\Roaming\Tencent\Users\173692760\QQ\WinTemp\RichOle\`K]$M3Y3J$2@[~D~U1F`}6Q.jpg"/>
          <p:cNvPicPr/>
          <p:nvPr/>
        </p:nvPicPr>
        <p:blipFill>
          <a:blip r:embed="rId4"/>
          <a:stretch/>
        </p:blipFill>
        <p:spPr>
          <a:xfrm>
            <a:off x="5286240" y="428616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1143000"/>
            <a:ext cx="857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                             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714760" y="114300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000080" y="35784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928800" y="47862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928800" y="59356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库中低温冷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5643720" y="357840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143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42960" y="3616200"/>
            <a:ext cx="641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萝卜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灭菌和真空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2643120" y="11430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1143000"/>
            <a:ext cx="5857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2643120" y="114300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857160" y="3571920"/>
            <a:ext cx="82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笋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44560" y="47862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温灭菌后成真空罐装笋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857160" y="600696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笋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50920" y="200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的腐败变质是由微生物的大量繁殖引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微生物的生长与繁殖，需要空气、水分和适宜的温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变质食物的气味时，要扇闻，并尽量少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冷冻、晒干、真空包装等方法，能减慢食物变质的速度。其原因是破坏了微生物生长所需的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53560" y="338076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53200" y="2301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53200" y="1148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26280" y="4461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桔子、花生、火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1777320" y="4071960"/>
            <a:ext cx="574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要直接用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触变质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扇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方式闻气味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尽量少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完毕后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肥皂等洗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719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食物的主要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灰暗，有霉斑，气味难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Administrator\AppData\Roaming\Tencent\Users\173692760\QQ\WinTemp\RichOle\NPK[HY0ISV[S5%UWJBV6X(N.jpg"/>
          <p:cNvPicPr/>
          <p:nvPr/>
        </p:nvPicPr>
        <p:blipFill>
          <a:blip r:embed="rId1"/>
          <a:stretch/>
        </p:blipFill>
        <p:spPr>
          <a:xfrm>
            <a:off x="34920" y="2143080"/>
            <a:ext cx="910908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34920" y="2143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什么引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生物的生长需要哪些条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气、适宜的温度、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1320840" y="3286080"/>
            <a:ext cx="4429080" cy="142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3"/>
          <p:cNvSpPr/>
          <p:nvPr/>
        </p:nvSpPr>
        <p:spPr>
          <a:xfrm>
            <a:off x="534960" y="5072040"/>
            <a:ext cx="285768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6"/>
          <p:cNvSpPr/>
          <p:nvPr/>
        </p:nvSpPr>
        <p:spPr>
          <a:xfrm>
            <a:off x="6821640" y="4786200"/>
            <a:ext cx="178596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500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腐败变质了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能不能食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办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远防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减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的速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214200" y="4572000"/>
            <a:ext cx="87156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微生物引起的，微生物的生长需要一定的条件，主要包括空气、适宜的温度、水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KK]RZ7W8)O0K1C4GE2_1XBF.jpg"/>
          <p:cNvPicPr/>
          <p:nvPr/>
        </p:nvPicPr>
        <p:blipFill>
          <a:blip r:embed="rId1"/>
          <a:stretch/>
        </p:blipFill>
        <p:spPr>
          <a:xfrm>
            <a:off x="4929120" y="1000080"/>
            <a:ext cx="4000680" cy="54673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1.jpg"/>
          <p:cNvPicPr/>
          <p:nvPr/>
        </p:nvPicPr>
        <p:blipFill>
          <a:blip r:embed="rId2"/>
          <a:stretch/>
        </p:blipFill>
        <p:spPr>
          <a:xfrm>
            <a:off x="142920" y="314316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NV9DD}[NL5]ZSU[]GNZH}UQ.jpg"/>
          <p:cNvPicPr/>
          <p:nvPr/>
        </p:nvPicPr>
        <p:blipFill>
          <a:blip r:embed="rId1"/>
          <a:stretch/>
        </p:blipFill>
        <p:spPr>
          <a:xfrm>
            <a:off x="71280" y="3357720"/>
            <a:ext cx="4214880" cy="338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Administrator\AppData\Roaming\Tencent\Users\173692760\QQ\WinTemp\RichOle\Y$8GTEX0UDYF9S}RDM3)F$C.jpg"/>
          <p:cNvPicPr/>
          <p:nvPr/>
        </p:nvPicPr>
        <p:blipFill>
          <a:blip r:embed="rId2"/>
          <a:stretch/>
        </p:blipFill>
        <p:spPr>
          <a:xfrm>
            <a:off x="4357800" y="100008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Administrator\AppData\Roaming\Tencent\Users\173692760\QQ\WinTemp\RichOle\(`(BK(56D(_F6GRAURX~ZYG.jpg"/>
          <p:cNvPicPr/>
          <p:nvPr/>
        </p:nvPicPr>
        <p:blipFill>
          <a:blip r:embed="rId3"/>
          <a:stretch/>
        </p:blipFill>
        <p:spPr>
          <a:xfrm>
            <a:off x="4357800" y="4714920"/>
            <a:ext cx="47149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QWVZO1GI}C3`[XGY[JNERJ7.jpg"/>
          <p:cNvPicPr/>
          <p:nvPr/>
        </p:nvPicPr>
        <p:blipFill>
          <a:blip r:embed="rId1"/>
          <a:stretch/>
        </p:blipFill>
        <p:spPr>
          <a:xfrm>
            <a:off x="0" y="3214800"/>
            <a:ext cx="4740120" cy="36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dministrator\AppData\Roaming\Tencent\Users\173692760\QQ\WinTemp\RichOle\{]5K8}(0KBLJ3C6_@PQ~O25.jpg"/>
          <p:cNvPicPr/>
          <p:nvPr/>
        </p:nvPicPr>
        <p:blipFill>
          <a:blip r:embed="rId2"/>
          <a:stretch/>
        </p:blipFill>
        <p:spPr>
          <a:xfrm>
            <a:off x="4929120" y="3629160"/>
            <a:ext cx="4214880" cy="32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Administrator\AppData\Roaming\Tencent\Users\173692760\QQ\WinTemp\RichOle\DKIS%`T[D5}TPWA1$ZEXC`D.jpg"/>
          <p:cNvPicPr/>
          <p:nvPr/>
        </p:nvPicPr>
        <p:blipFill>
          <a:blip r:embed="rId3"/>
          <a:stretch/>
        </p:blipFill>
        <p:spPr>
          <a:xfrm>
            <a:off x="4908600" y="1000080"/>
            <a:ext cx="423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C:\Users\Administrator\AppData\Roaming\Tencent\Users\173692760\QQ\WinTemp\RichOle\}HZ@NOH{O]RI{`TV$NOPRQV.jpg"/>
          <p:cNvPicPr/>
          <p:nvPr/>
        </p:nvPicPr>
        <p:blipFill>
          <a:blip r:embed="rId1"/>
          <a:stretch/>
        </p:blipFill>
        <p:spPr>
          <a:xfrm>
            <a:off x="0" y="3632040"/>
            <a:ext cx="421488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4410000" y="1143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Administrator\AppData\Roaming\Tencent\Users\173692760\QQ\WinTemp\RichOle\}GRA6)C{LD1T$M@)HPXOEEB.jpg"/>
          <p:cNvPicPr/>
          <p:nvPr/>
        </p:nvPicPr>
        <p:blipFill>
          <a:blip r:embed="rId3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0:17:50Z</dcterms:modified>
  <cp:revision>133</cp:revision>
  <dc:subject/>
  <dc:title>幻灯片 1</dc:title>
</cp:coreProperties>
</file>